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tada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AD4-6883-4867-96ED-860267A8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973-5E93-4E7A-AC22-257AC8E2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735-918A-44C8-A2C9-AC7D6DDD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887-B2F4-4942-B902-E9B9B73C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BA0-AFEF-463B-BE9C-4A28CBD2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DD9-EF1F-440B-B1A2-8695ACC2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9AE-F2CB-44F2-A3AC-740F3F32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575-6326-4869-8CEB-1FA84793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E5C-676F-4DD1-BC26-01E8CA5A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270-D0B1-4632-A2AB-1B941CA9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157-8A38-45C1-BB50-391E3C81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426-894C-4CF9-B8DA-DE82D7D3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830E-BE66-4768-B078-F53204D7926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audio" Target="../media/tad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476280"/>
            <a:ext cx="5267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Greek Diner Inline TT"/>
              </a:rPr>
              <a:t>Falso ou Verdadeiro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Greek Diner Inline TT"/>
              <a:ea typeface="Greek Diner Inline T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81000" y="4941720"/>
            <a:ext cx="718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791e00"/>
                  </a:outerShdw>
                </a:effectLst>
                <a:latin typeface="Arial Black"/>
              </a:rPr>
              <a:t>20 mitos sobre computadores.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602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Impact"/>
              </a:rPr>
              <a:t>Formatação:  Lé@Sanchez</a:t>
            </a:r>
            <a:r>
              <a:rPr b="0" lang="pt-BR" sz="18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7000"/>
            <a:ext cx="4643280" cy="6858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165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0072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7000"/>
            <a:ext cx="4643280" cy="6858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165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76920" y="5675400"/>
            <a:ext cx="19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Avanço manual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00480" y="463680"/>
            <a:ext cx="6141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r a CPU quando o computador est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gado pode queimar o H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>
                    <a:alpha val="50000"/>
                  </a:srgbClr>
                </a:solidFill>
                <a:effectLst>
                  <a:outerShdw dist="17819" dir="2700000" blurRad="0" rotWithShape="0">
                    <a:srgbClr val="791e00"/>
                  </a:outerShdw>
                </a:effectLst>
                <a:latin typeface="Arial Black"/>
              </a:rPr>
              <a:t>Falso!</a:t>
            </a:r>
            <a:endParaRPr b="0" lang="en-US" sz="1800" spc="1" strike="noStrike">
              <a:ln w="0">
                <a:noFill/>
              </a:ln>
              <a:solidFill>
                <a:srgbClr val="cc3300">
                  <a:alpha val="50000"/>
                </a:srgbClr>
              </a:solidFill>
              <a:effectLst>
                <a:outerShdw dist="17819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661680" y="5465520"/>
            <a:ext cx="77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força centrífuga com que gira o HD é tanta, que não acontece n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o se mover a CPU.  Muito menos, ainda, tratando-s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um notebook, porque eles foram feitos para is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mera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1040" y="384480"/>
            <a:ext cx="870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lo bem do monitor, é conveniente usar protector de te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quando não está em uso.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>
                    <a:alpha val="50000"/>
                  </a:srgbClr>
                </a:solidFill>
                <a:effectLst>
                  <a:outerShdw dist="17819" dir="2700000" blurRad="0" rotWithShape="0">
                    <a:srgbClr val="009800"/>
                  </a:outerShdw>
                </a:effectLst>
                <a:latin typeface="Arial Black"/>
              </a:rPr>
              <a:t>Verdadeiro!</a:t>
            </a:r>
            <a:endParaRPr b="0" lang="en-US" sz="1800" spc="1" strike="noStrike">
              <a:ln w="0">
                <a:noFill/>
              </a:ln>
              <a:solidFill>
                <a:srgbClr val="00ff00">
                  <a:alpha val="50000"/>
                </a:srgbClr>
              </a:solidFill>
              <a:effectLst>
                <a:outerShdw dist="17819" dir="2700000" blurRad="0" rotWithShape="0">
                  <a:srgbClr val="0098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420840" y="5320800"/>
            <a:ext cx="818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rque o mecanismo do protector de tela faz com que o desg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as cores da tela seja unifor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o renovar as imagens constantemente, não se gasta num mesmo lugar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mera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8800" y="528840"/>
            <a:ext cx="783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Quando há chuva forte, é absolutamente necessá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irar a ficha do computador da tomad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>
                    <a:alpha val="50000"/>
                  </a:srgbClr>
                </a:solidFill>
                <a:effectLst>
                  <a:outerShdw dist="17819" dir="2700000" blurRad="0" rotWithShape="0">
                    <a:srgbClr val="009800"/>
                  </a:outerShdw>
                </a:effectLst>
                <a:latin typeface="Arial Black"/>
              </a:rPr>
              <a:t>Verdadeiro!</a:t>
            </a:r>
            <a:endParaRPr b="0" lang="en-US" sz="1800" spc="1" strike="noStrike">
              <a:ln w="0">
                <a:noFill/>
              </a:ln>
              <a:solidFill>
                <a:srgbClr val="00ff00">
                  <a:alpha val="50000"/>
                </a:srgbClr>
              </a:solidFill>
              <a:effectLst>
                <a:outerShdw dist="17819" dir="2700000" blurRad="0" rotWithShape="0">
                  <a:srgbClr val="0098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902880" y="5073480"/>
            <a:ext cx="689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veria ser adoptado como uma obrigação, no ca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 uma chuva muito forte, com muitos raios e trov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a mesma forma, é aconselhável retirar os cabos do telef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 da alimentação do modem para que não queim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m a descarga de ra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mera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8160" y="52884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ão é conveniente olhar a luz vermelha que est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baixo do mouse óptico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>
                    <a:alpha val="50000"/>
                  </a:srgbClr>
                </a:solidFill>
                <a:effectLst>
                  <a:outerShdw dist="17819" dir="2700000" blurRad="0" rotWithShape="0">
                    <a:srgbClr val="009800"/>
                  </a:outerShdw>
                </a:effectLst>
                <a:latin typeface="Arial Black"/>
              </a:rPr>
              <a:t>Verdadeiro!</a:t>
            </a:r>
            <a:endParaRPr b="0" lang="en-US" sz="1800" spc="1" strike="noStrike">
              <a:ln w="0">
                <a:noFill/>
              </a:ln>
              <a:solidFill>
                <a:srgbClr val="00ff00">
                  <a:alpha val="50000"/>
                </a:srgbClr>
              </a:solidFill>
              <a:effectLst>
                <a:outerShdw dist="17819" dir="2700000" blurRad="0" rotWithShape="0">
                  <a:srgbClr val="0098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576720" y="5523840"/>
            <a:ext cx="78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de, até, não deixar ninguém cego, mas é uma luz bastante forte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de, sim, fazer mal a ret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mera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13880" y="345960"/>
            <a:ext cx="74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s notebooks deve-se acoplar primei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abo de eletricid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à máquina e somente depois esse cabo a tomad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>
                    <a:alpha val="50000"/>
                  </a:srgbClr>
                </a:solidFill>
                <a:effectLst>
                  <a:outerShdw dist="17819" dir="2700000" blurRad="0" rotWithShape="0">
                    <a:srgbClr val="791e00"/>
                  </a:outerShdw>
                </a:effectLst>
                <a:latin typeface="Arial Black"/>
              </a:rPr>
              <a:t>Falso!</a:t>
            </a:r>
            <a:endParaRPr b="0" lang="en-US" sz="1800" spc="1" strike="noStrike">
              <a:ln w="0">
                <a:noFill/>
              </a:ln>
              <a:solidFill>
                <a:srgbClr val="cc3300">
                  <a:alpha val="50000"/>
                </a:srgbClr>
              </a:solidFill>
              <a:effectLst>
                <a:outerShdw dist="17819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91920" y="5249520"/>
            <a:ext cx="81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anto faz. Quase todos os equipamentos portáteis actu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êm protecção de curto-circuito e são multi-voltagem, podem ser lig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m tensões de 90 a 240 volts, pelo que são sumamente estáveis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mera.wav"/>
      </p:stSnd>
    </p:sndAc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54360" y="320760"/>
            <a:ext cx="67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o desligar o computador convém, també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sligar o monitor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>
                    <a:alpha val="50000"/>
                  </a:srgbClr>
                </a:solidFill>
                <a:effectLst>
                  <a:outerShdw dist="17819" dir="2700000" blurRad="0" rotWithShape="0">
                    <a:srgbClr val="791e00"/>
                  </a:outerShdw>
                </a:effectLst>
                <a:latin typeface="Arial Black"/>
              </a:rPr>
              <a:t>Falso!</a:t>
            </a:r>
            <a:endParaRPr b="0" lang="en-US" sz="1800" spc="1" strike="noStrike">
              <a:ln w="0">
                <a:noFill/>
              </a:ln>
              <a:solidFill>
                <a:srgbClr val="cc3300">
                  <a:alpha val="50000"/>
                </a:srgbClr>
              </a:solidFill>
              <a:effectLst>
                <a:outerShdw dist="17819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406440" y="5059440"/>
            <a:ext cx="809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ra vez, tanto faz. Ao desligar a CPU, o monitor fica num es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 que consome muito pouca energia (pouca coisa mais que 1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não sofre desgaste alg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decisão termina sendo em função da economia, ainda que o consu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ja realmente mínim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mera.wav"/>
      </p:stSnd>
    </p:sndAc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0920" y="1812960"/>
            <a:ext cx="4721400" cy="2552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89480" y="50364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omputador nunca pode ficar ao sol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>
                    <a:alpha val="50000"/>
                  </a:srgbClr>
                </a:solidFill>
                <a:effectLst>
                  <a:outerShdw dist="17819" dir="2700000" blurRad="0" rotWithShape="0">
                    <a:srgbClr val="009800"/>
                  </a:outerShdw>
                </a:effectLst>
                <a:latin typeface="Arial Black"/>
              </a:rPr>
              <a:t>Verdadeiro!</a:t>
            </a:r>
            <a:endParaRPr b="0" lang="en-US" sz="1800" spc="1" strike="noStrike">
              <a:ln w="0">
                <a:noFill/>
              </a:ln>
              <a:solidFill>
                <a:srgbClr val="00ff00">
                  <a:alpha val="50000"/>
                </a:srgbClr>
              </a:solidFill>
              <a:effectLst>
                <a:outerShdw dist="17819" dir="2700000" blurRad="0" rotWithShape="0">
                  <a:srgbClr val="0098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1150920" y="5262480"/>
            <a:ext cx="665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 ele aquecer mais do que o habitual, sua vida út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ende a decres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r isso, nunca é boa idéia instalar o PC próximo a jane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nde bate o sol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2" name="camera.wav"/>
      </p:stSnd>
    </p:sndAc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08640" y="274320"/>
            <a:ext cx="732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ão se deve colocar CDs, disquetes ou qualqu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utro ele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obre a C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>
                    <a:alpha val="50000"/>
                  </a:srgbClr>
                </a:solidFill>
                <a:effectLst>
                  <a:outerShdw dist="17819" dir="2700000" blurRad="0" rotWithShape="0">
                    <a:srgbClr val="791e00"/>
                  </a:outerShdw>
                </a:effectLst>
                <a:latin typeface="Arial Black"/>
              </a:rPr>
              <a:t>Falso!</a:t>
            </a:r>
            <a:endParaRPr b="0" lang="en-US" sz="1800" spc="1" strike="noStrike">
              <a:ln w="0">
                <a:noFill/>
              </a:ln>
              <a:solidFill>
                <a:srgbClr val="cc3300">
                  <a:alpha val="50000"/>
                </a:srgbClr>
              </a:solidFill>
              <a:effectLst>
                <a:outerShdw dist="17819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975960" y="5320800"/>
            <a:ext cx="717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ógico, nada do que é colocado sobre a CPU pode ser afec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u avariado, a não ser que esteja húmida e a água pos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hegar ao equipamento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mera.wav"/>
      </p:stSnd>
    </p:sndAc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11200" y="528840"/>
            <a:ext cx="790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mais de 80% do HD tiver sendo usado, a máqu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torna mais len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>
                    <a:alpha val="50000"/>
                  </a:srgbClr>
                </a:solidFill>
                <a:effectLst>
                  <a:outerShdw dist="17819" dir="2700000" blurRad="0" rotWithShape="0">
                    <a:srgbClr val="009800"/>
                  </a:outerShdw>
                </a:effectLst>
                <a:latin typeface="Arial Black"/>
              </a:rPr>
              <a:t>Verdadeiro!</a:t>
            </a:r>
            <a:endParaRPr b="0" lang="en-US" sz="1800" spc="1" strike="noStrike">
              <a:ln w="0">
                <a:noFill/>
              </a:ln>
              <a:solidFill>
                <a:srgbClr val="00ff00">
                  <a:alpha val="50000"/>
                </a:srgbClr>
              </a:solidFill>
              <a:effectLst>
                <a:outerShdw dist="17819" dir="2700000" blurRad="0" rotWithShape="0">
                  <a:srgbClr val="0098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35880" y="5262480"/>
            <a:ext cx="643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mpre é uma questão de porcentag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mais que se tenha 20 Gb livres, se for menos de 2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 capacidade do disc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funcionamento do computador será l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mera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50920" y="1812960"/>
            <a:ext cx="4721400" cy="2552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61640" y="392400"/>
            <a:ext cx="76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r o desktop cheio de ícones deixa o comput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is lento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>
                    <a:alpha val="50000"/>
                  </a:srgbClr>
                </a:solidFill>
                <a:effectLst>
                  <a:outerShdw dist="17819" dir="2700000" blurRad="0" rotWithShape="0">
                    <a:srgbClr val="009800"/>
                  </a:outerShdw>
                </a:effectLst>
                <a:latin typeface="Arial Black"/>
              </a:rPr>
              <a:t>Verdadeiro!</a:t>
            </a:r>
            <a:endParaRPr b="0" lang="en-US" sz="1800" spc="1" strike="noStrike">
              <a:ln w="0">
                <a:noFill/>
              </a:ln>
              <a:solidFill>
                <a:srgbClr val="00ff00">
                  <a:alpha val="50000"/>
                </a:srgbClr>
              </a:solidFill>
              <a:effectLst>
                <a:outerShdw dist="17819" dir="2700000" blurRad="0" rotWithShape="0">
                  <a:srgbClr val="0098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1041840" y="5229000"/>
            <a:ext cx="698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ão importa se são ícones de programas ou arquiv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que acontece é que a placa de vídeo do computador ren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stantemente a informação apresentada no monit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 quanto mais ícones, mais tempo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2" name="camera.wav"/>
      </p:stSnd>
    </p:sndAc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14920" y="719640"/>
            <a:ext cx="73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az mal ao computador ter ímans colados à CPU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520" y="5132520"/>
            <a:ext cx="858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enhum problema com a CPU, mas não podemos dizer o mesmo do monit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is desgasta as suas c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vita, a qualquer custo, utilizar equipamentos colocados mui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óximos aos monito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is as cores podem resultar distorci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>
                    <a:alpha val="50000"/>
                  </a:srgbClr>
                </a:solidFill>
                <a:effectLst>
                  <a:outerShdw dist="17819" dir="2700000" blurRad="0" rotWithShape="0">
                    <a:srgbClr val="791e00"/>
                  </a:outerShdw>
                </a:effectLst>
                <a:latin typeface="Arial Black"/>
              </a:rPr>
              <a:t>Falso!</a:t>
            </a:r>
            <a:endParaRPr b="0" lang="en-US" sz="1800" spc="1" strike="noStrike">
              <a:ln w="0">
                <a:noFill/>
              </a:ln>
              <a:solidFill>
                <a:srgbClr val="cc3300">
                  <a:alpha val="50000"/>
                </a:srgbClr>
              </a:solidFill>
              <a:effectLst>
                <a:outerShdw dist="17819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omb dir="vert"/>
    <p:sndAc>
      <p:stSnd>
        <p:snd r:embed="rId2" name="camera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0560" y="719640"/>
            <a:ext cx="80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ão se deve tirar o “pen drive” sem avisar a máquina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>
                    <a:alpha val="50000"/>
                  </a:srgbClr>
                </a:solidFill>
                <a:effectLst>
                  <a:outerShdw dist="17819" dir="2700000" blurRad="0" rotWithShape="0">
                    <a:srgbClr val="009800"/>
                  </a:outerShdw>
                </a:effectLst>
                <a:latin typeface="Arial Black"/>
              </a:rPr>
              <a:t>Verdadeiro!</a:t>
            </a:r>
            <a:endParaRPr b="0" lang="en-US" sz="1800" spc="1" strike="noStrike">
              <a:ln w="0">
                <a:noFill/>
              </a:ln>
              <a:solidFill>
                <a:srgbClr val="00ff00">
                  <a:alpha val="50000"/>
                </a:srgbClr>
              </a:solidFill>
              <a:effectLst>
                <a:outerShdw dist="17819" dir="2700000" blurRad="0" rotWithShape="0">
                  <a:srgbClr val="0098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982800" y="5320800"/>
            <a:ext cx="73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ve ser seleccionada a opção 'Retirar hardware com segurança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ntes de retirá-lo. Caso contrário, corre-se o risco de queim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memória do USB.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mera.wav"/>
      </p:stSnd>
    </p:sndAc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>
                    <a:alpha val="50000"/>
                  </a:srgbClr>
                </a:solidFill>
                <a:effectLst>
                  <a:outerShdw dist="17819" dir="2700000" blurRad="0" rotWithShape="0">
                    <a:srgbClr val="009800"/>
                  </a:outerShdw>
                </a:effectLst>
                <a:latin typeface="Arial Black"/>
              </a:rPr>
              <a:t>Verdadeiro!</a:t>
            </a:r>
            <a:endParaRPr b="0" lang="en-US" sz="1800" spc="1" strike="noStrike">
              <a:ln w="0">
                <a:noFill/>
              </a:ln>
              <a:solidFill>
                <a:srgbClr val="00ff00">
                  <a:alpha val="50000"/>
                </a:srgbClr>
              </a:solidFill>
              <a:effectLst>
                <a:outerShdw dist="17819" dir="2700000" blurRad="0" rotWithShape="0">
                  <a:srgbClr val="0098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761760" y="274320"/>
            <a:ext cx="747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sligar a máquina directamente no botã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m seleccionar previ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opção de desligar o equipamento, estraga o HD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70560" y="5064840"/>
            <a:ext cx="9329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O HD pode queimar ao ser desligado, enquanto ele ainda está lendo ou escrevendo em alg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arte do sistema. Ademais, quando a energia é desligada subitamente, as placas que cob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o disco (que gira até 10 mil rotações) descem sobre ele e podem ir riscando at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que alcancem a posição de descanso. Ao seleccionar a op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'Desligar o Computador', todo o sistema se prepara para repousar e suspen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todas as actividades.   Cada peça vai ficar no seu devido lugar.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mera.wav"/>
      </p:stSnd>
    </p:sndAc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>
                    <a:alpha val="50000"/>
                  </a:srgbClr>
                </a:solidFill>
                <a:effectLst>
                  <a:outerShdw dist="17819" dir="2700000" blurRad="0" rotWithShape="0">
                    <a:srgbClr val="009800"/>
                  </a:outerShdw>
                </a:effectLst>
                <a:latin typeface="Arial Black"/>
              </a:rPr>
              <a:t>Verdadeiro!</a:t>
            </a:r>
            <a:endParaRPr b="0" lang="en-US" sz="1800" spc="1" strike="noStrike">
              <a:ln w="0">
                <a:noFill/>
              </a:ln>
              <a:solidFill>
                <a:srgbClr val="00ff00">
                  <a:alpha val="50000"/>
                </a:srgbClr>
              </a:solidFill>
              <a:effectLst>
                <a:outerShdw dist="17819" dir="2700000" blurRad="0" rotWithShape="0">
                  <a:srgbClr val="0098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62440" y="80172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om esta aulinha aprendi qualquer co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34520" y="52974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Nunca é tarde para aprende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2" name="camera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>
                    <a:alpha val="50000"/>
                  </a:srgbClr>
                </a:solidFill>
                <a:effectLst>
                  <a:outerShdw dist="17819" dir="2700000" blurRad="0" rotWithShape="0">
                    <a:srgbClr val="009800"/>
                  </a:outerShdw>
                </a:effectLst>
                <a:latin typeface="Arial Black"/>
              </a:rPr>
              <a:t>Verdadeiro!</a:t>
            </a:r>
            <a:endParaRPr b="0" lang="en-US" sz="1800" spc="1" strike="noStrike">
              <a:ln w="0">
                <a:noFill/>
              </a:ln>
              <a:solidFill>
                <a:srgbClr val="00ff00">
                  <a:alpha val="50000"/>
                </a:srgbClr>
              </a:solidFill>
              <a:effectLst>
                <a:outerShdw dist="17819" dir="2700000" blurRad="0" rotWithShape="0">
                  <a:srgbClr val="0098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3314520" y="563976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udo tem o seu fim, n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479040" y="579600"/>
            <a:ext cx="173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</a:rPr>
              <a:t>F I M</a:t>
            </a: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6600" y="63612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Um abraço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2" name="camera.wav"/>
      </p:stSnd>
    </p:sndAc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73640" y="528840"/>
            <a:ext cx="739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mpurrar o CD com o dedo para inseri-lo na CP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é prejudicial ao equipamento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1080" y="5392440"/>
            <a:ext cx="678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ada a v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ada irá acontecer se tu empurrares com uma força norm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oi feito exactamente para isso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>
                    <a:alpha val="50000"/>
                  </a:srgbClr>
                </a:solidFill>
                <a:effectLst>
                  <a:outerShdw dist="17819" dir="2700000" blurRad="0" rotWithShape="0">
                    <a:srgbClr val="791e00"/>
                  </a:outerShdw>
                </a:effectLst>
                <a:latin typeface="Arial Black"/>
              </a:rPr>
              <a:t>Falso!</a:t>
            </a:r>
            <a:endParaRPr b="0" lang="en-US" sz="1800" spc="1" strike="noStrike">
              <a:ln w="0">
                <a:noFill/>
              </a:ln>
              <a:solidFill>
                <a:srgbClr val="cc3300">
                  <a:alpha val="50000"/>
                </a:srgbClr>
              </a:solidFill>
              <a:effectLst>
                <a:outerShdw dist="17819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mera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8440" y="457200"/>
            <a:ext cx="839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Água ou café derramados sobre o teclado pode arruin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 seu funcionamento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>
                    <a:alpha val="50000"/>
                  </a:srgbClr>
                </a:solidFill>
                <a:effectLst>
                  <a:outerShdw dist="17819" dir="2700000" blurRad="0" rotWithShape="0">
                    <a:srgbClr val="009800"/>
                  </a:outerShdw>
                </a:effectLst>
                <a:latin typeface="Arial Black"/>
              </a:rPr>
              <a:t>Verdadeiro!</a:t>
            </a:r>
            <a:endParaRPr b="0" lang="en-US" sz="1800" spc="1" strike="noStrike">
              <a:ln w="0">
                <a:noFill/>
              </a:ln>
              <a:solidFill>
                <a:srgbClr val="00ff00">
                  <a:alpha val="50000"/>
                </a:srgbClr>
              </a:solidFill>
              <a:effectLst>
                <a:outerShdw dist="17819" dir="2700000" blurRad="0" rotWithShape="0">
                  <a:srgbClr val="0098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840240" y="5523840"/>
            <a:ext cx="71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stragam as trilhas metalizadas que estão por baixo das tec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dem criar um curto-circuito e queimar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mera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03280" y="463680"/>
            <a:ext cx="60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É necessário ter espaço entre o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 a parede atrás del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>
                    <a:alpha val="50000"/>
                  </a:srgbClr>
                </a:solidFill>
                <a:effectLst>
                  <a:outerShdw dist="17819" dir="2700000" blurRad="0" rotWithShape="0">
                    <a:srgbClr val="791e00"/>
                  </a:outerShdw>
                </a:effectLst>
                <a:latin typeface="Arial Black"/>
              </a:rPr>
              <a:t>Falso!</a:t>
            </a:r>
            <a:endParaRPr b="0" lang="en-US" sz="1800" spc="1" strike="noStrike">
              <a:ln w="0">
                <a:noFill/>
              </a:ln>
              <a:solidFill>
                <a:srgbClr val="cc3300">
                  <a:alpha val="50000"/>
                </a:srgbClr>
              </a:solidFill>
              <a:effectLst>
                <a:outerShdw dist="17819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436320" y="5262480"/>
            <a:ext cx="84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onitor não é geladeira. O ambiente, em geral, deve estar ventilad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as não é indispensável que seja muita a distân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É muito pior ter outro monitor atrás (como acontece em muitos escritóri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rque pode haver o risco de haver interferências entre os computadores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mera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28200" y="312840"/>
            <a:ext cx="75492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do o computador passou a noite toda liga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é melhor desligá-lo e voltar a reinic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>
                    <a:alpha val="50000"/>
                  </a:srgbClr>
                </a:solidFill>
                <a:effectLst>
                  <a:outerShdw dist="17819" dir="2700000" blurRad="0" rotWithShape="0">
                    <a:srgbClr val="791e00"/>
                  </a:outerShdw>
                </a:effectLst>
                <a:latin typeface="Arial Black"/>
              </a:rPr>
              <a:t>Falso!</a:t>
            </a:r>
            <a:endParaRPr b="0" lang="en-US" sz="1800" spc="1" strike="noStrike">
              <a:ln w="0">
                <a:noFill/>
              </a:ln>
              <a:solidFill>
                <a:srgbClr val="cc3300">
                  <a:alpha val="50000"/>
                </a:srgbClr>
              </a:solidFill>
              <a:effectLst>
                <a:outerShdw dist="17819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373680" y="4905000"/>
            <a:ext cx="8398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ode seguir ligado sem problema alg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inda que pareça o contrário, e dê vontade de desligá-lo um mo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ara que descanse, seguindo a lógica humana, o HD dura muito m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se permanecer ligado e não ser, o tempo todo, ligado e deslig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or uma questão de economia de energia, não convém deixar ligado por vários di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s, se não levarmos em conta o factor do aquecimento global, seria muito melh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ara o PC nunca o desligar. Eles foram criados para isso.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mera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15160" y="536760"/>
            <a:ext cx="61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sta mais energia ao ser ligado d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 várias horas de us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>
                    <a:alpha val="50000"/>
                  </a:srgbClr>
                </a:solidFill>
                <a:effectLst>
                  <a:outerShdw dist="17819" dir="2700000" blurRad="0" rotWithShape="0">
                    <a:srgbClr val="791e00"/>
                  </a:outerShdw>
                </a:effectLst>
                <a:latin typeface="Arial Black"/>
              </a:rPr>
              <a:t>Falso!</a:t>
            </a:r>
            <a:endParaRPr b="0" lang="en-US" sz="1800" spc="1" strike="noStrike">
              <a:ln w="0">
                <a:noFill/>
              </a:ln>
              <a:solidFill>
                <a:srgbClr val="cc3300">
                  <a:alpha val="50000"/>
                </a:srgbClr>
              </a:solidFill>
              <a:effectLst>
                <a:outerShdw dist="17819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250200" y="5392440"/>
            <a:ext cx="84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o ligar não consome tanto como para superar as horas de funciona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o desligar poupa-se energia e se permanecer ligado, ga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mo qualquer outro electrodoméstico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mera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7320" y="71964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z mal ao computador ter algum celular por pert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>
                    <a:alpha val="50000"/>
                  </a:srgbClr>
                </a:solidFill>
                <a:effectLst>
                  <a:outerShdw dist="17819" dir="2700000" blurRad="0" rotWithShape="0">
                    <a:srgbClr val="791e00"/>
                  </a:outerShdw>
                </a:effectLst>
                <a:latin typeface="Arial Black"/>
              </a:rPr>
              <a:t>Falso!</a:t>
            </a:r>
            <a:endParaRPr b="0" lang="en-US" sz="1800" spc="1" strike="noStrike">
              <a:ln w="0">
                <a:noFill/>
              </a:ln>
              <a:solidFill>
                <a:srgbClr val="cc3300">
                  <a:alpha val="50000"/>
                </a:srgbClr>
              </a:solidFill>
              <a:effectLst>
                <a:outerShdw dist="17819" dir="2700000" blurRad="0" rotWithShape="0">
                  <a:srgbClr val="79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157760" y="5536800"/>
            <a:ext cx="68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m problema algum; no máximo, um ronco provocado pe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terferência  de uma cham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55680" y="1812960"/>
            <a:ext cx="472140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mera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0920" y="1812960"/>
            <a:ext cx="4721400" cy="2552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30120" y="274320"/>
            <a:ext cx="644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pois de desligar o computador é melh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ixá-lo descans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ns segundos, antes de o voltar a ligar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24280" y="4591080"/>
            <a:ext cx="1495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>
                    <a:alpha val="50000"/>
                  </a:srgbClr>
                </a:solidFill>
                <a:effectLst>
                  <a:outerShdw dist="17819" dir="2700000" blurRad="0" rotWithShape="0">
                    <a:srgbClr val="009800"/>
                  </a:outerShdw>
                </a:effectLst>
                <a:latin typeface="Arial Black"/>
              </a:rPr>
              <a:t>Verdadeiro!</a:t>
            </a:r>
            <a:endParaRPr b="0" lang="en-US" sz="1800" spc="1" strike="noStrike">
              <a:ln w="0">
                <a:noFill/>
              </a:ln>
              <a:solidFill>
                <a:srgbClr val="00ff00">
                  <a:alpha val="50000"/>
                </a:srgbClr>
              </a:solidFill>
              <a:effectLst>
                <a:outerShdw dist="17819" dir="2700000" blurRad="0" rotWithShape="0">
                  <a:srgbClr val="0098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1041120" y="5451120"/>
            <a:ext cx="67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É recomendável esperar, no mínimo, alguns segun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ntes de voltar a ligá-lo. 10 segundos deve ser o suficiente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2" name="camera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3:00:55Z</dcterms:created>
  <dc:creator>LÉA SANCHEZ</dc:creator>
  <dc:description/>
  <dc:language>en-US</dc:language>
  <cp:lastModifiedBy>***</cp:lastModifiedBy>
  <dcterms:modified xsi:type="dcterms:W3CDTF">2009-12-13T23:56:22Z</dcterms:modified>
  <cp:revision>8</cp:revision>
  <dc:subject>Computadores</dc:subject>
  <dc:title>Falso ou Verdadeiro?</dc:title>
</cp:coreProperties>
</file>