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ANJA~12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F96-89B8-4B6E-95BB-A7CF16A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49F-D1FA-42D1-B372-C98C968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A38-AAF0-4B15-B473-9D3F1FB4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384-B53B-4A64-9BEC-446640ED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139-00EF-445A-BFC9-8F33EBE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6BA-0A61-4F97-890B-194BF307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233-830D-4050-8407-CFF1758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C1A-C05C-41BC-AAA2-2A14C47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6DD-593A-44C4-85CE-CFB44F75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58C-8D6E-4591-8394-89AB017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CA1-8C71-4594-A745-C926AC4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603-E01D-4A70-904F-5679CA6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860-92C6-4C9C-B9ED-D2A47C29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ANJA~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8381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LOUCU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825560"/>
            <a:ext cx="9144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qui está o te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33520"/>
            <a:ext cx="8039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resolveu convidar os amigos para tomarem um café em sua ca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os convidados fora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pós tomarem o café, a Loucura propô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-Vamos brincar de esconde-escond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que é iss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erguntou a Curiosidad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conde-esconde é uma brincadeira em que eu conto até cem e vou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primeiro a ser encontrado será o próximo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aceitaram, menos o Medo   e a Preguiç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1,2,3...,a Loucura começou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74600"/>
            <a:ext cx="883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Press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se escondeu primeiro, em qualquer  lug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imidez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, tímida como sempre, escondeu-se na copa da árvo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Alegri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rreu para o meio do jardim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á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stez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meçou a chorar, pois não achava um local apropriado para se esco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Invej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acompanhou 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unfo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e se escondeu perto dele, debaixo de uma ped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0492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continuava a contar e os seus amigos iam se esconden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esespero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ficou desesperado ao ver a Loucura que já estava no noventa e no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em...(gritou a Loucura)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ou começar a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rimeira a aparecer foi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riosidade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á que não agüentava mais, querendo saber quem seria o próximo a con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80880"/>
            <a:ext cx="8458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o olhar para o lado, a Loucura viu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úvid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m cima do muro, sem saber em qual dos lados se esconderia melh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 assim foram aparecendo, a Alegria, a Tristeza, a Timidez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 estavam todos reunidos, a Curiosidade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Onde está o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or?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nguém o tinha vis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oucura começou a procurar. Procurou em cima da montanha, nos rios, debaixo das pedras e nada do Amor apare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urando por todos os lados, a Loucura viu uma roseira, pegou um pauzinho, começou a procurar entre os galhos, e de repente ouviu um  gri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ra o Amor, gritando por ter furado o olho com o espinh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não sabia o que faz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Pediu desculpas, implorou pelo perdão do Amor e até prometeu servi-lo para semp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Amor aceitou as desculp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esde então e até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572000"/>
            <a:ext cx="731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O amor é cego,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 a loucura sempre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acompanha".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380880"/>
            <a:ext cx="8153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Meu desejo para você hoje é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oveite a vida e beije muito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O número de pessoas a quem tu mandares este e-mail  será, com certeza, o número de beijos que receberás 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Todos merecemos ganhar beij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specialmente voc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ntã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2:14:15Z</dcterms:created>
  <dc:creator>Alex</dc:creator>
  <dc:description/>
  <dc:language>en-US</dc:language>
  <cp:lastModifiedBy>GITANA</cp:lastModifiedBy>
  <dcterms:modified xsi:type="dcterms:W3CDTF">2008-04-15T17:32:15Z</dcterms:modified>
  <cp:revision>5</cp:revision>
  <dc:subject/>
  <dc:title>Apresentação do PowerPoint</dc:title>
</cp:coreProperties>
</file>