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Piano%20-%20Suave-Ne%20Me%20Quitte%20pa.wav" ContentType="audio/x-wav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705720"/>
          </a:xfrm>
          <a:prstGeom prst="roundRect">
            <a:avLst>
              <a:gd name="adj" fmla="val 23"/>
            </a:avLst>
          </a:prstGeom>
          <a:noFill/>
          <a:ln w="898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Piano%20-%20Suave-Ne%20Me%20Quitte%20p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16002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" name=""/>
          <p:cNvSpPr/>
          <p:nvPr/>
        </p:nvSpPr>
        <p:spPr>
          <a:xfrm>
            <a:off x="5410080" y="4648320"/>
            <a:ext cx="37339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x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rauzio Var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édico cancerologista e escr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600200" y="6400800"/>
            <a:ext cx="304920" cy="457200"/>
          </a:xfrm>
          <a:custGeom>
            <a:avLst/>
            <a:gdLst>
              <a:gd name="textAreaLeft" fmla="*/ 360 w 304920"/>
              <a:gd name="textAreaRight" fmla="*/ 304560 w 30492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32375">
                <a:moveTo>
                  <a:pt x="112" y="0"/>
                </a:moveTo>
                <a:arcTo wR="112" hR="112" stAng="16200000" swAng="-5400000"/>
                <a:lnTo>
                  <a:pt x="0" y="32263"/>
                </a:lnTo>
                <a:arcTo wR="112" hR="112" stAng="10800000" swAng="-5400000"/>
                <a:lnTo>
                  <a:pt x="21488" y="32375"/>
                </a:lnTo>
                <a:arcTo wR="112" hR="112" stAng="5400000" swAng="-5400000"/>
                <a:lnTo>
                  <a:pt x="21600" y="112"/>
                </a:lnTo>
                <a:arcTo wR="112" hR="112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519640" cy="2401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132000" y="1916280"/>
            <a:ext cx="2664000" cy="2376360"/>
          </a:xfrm>
          <a:prstGeom prst="rect">
            <a:avLst/>
          </a:prstGeom>
          <a:noFill/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3" name="Piano%20-%20Suave-Ne%20Me%20Quitte%20p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411120" y="457200"/>
            <a:ext cx="8319960" cy="5576400"/>
            <a:chOff x="411120" y="457200"/>
            <a:chExt cx="8319960" cy="5576400"/>
          </a:xfrm>
        </p:grpSpPr>
        <p:sp>
          <p:nvSpPr>
            <p:cNvPr id="64" name=""/>
            <p:cNvSpPr/>
            <p:nvPr/>
          </p:nvSpPr>
          <p:spPr>
            <a:xfrm>
              <a:off x="411120" y="820440"/>
              <a:ext cx="831996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Uma relação tem que servir pa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um acompanhar o outro no médico,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ara um perdoar as fraquezas do outro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ara um abrir a garrafa de vinho 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ara o outro abrir o jogo, 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ara os dois abrirem-se para o mundo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ientes de que o mund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não se resum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os dois.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56840" y="457200"/>
              <a:ext cx="914040" cy="87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596560" y="1968480"/>
            <a:ext cx="299772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r.Drauzio Var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7120" y="2727360"/>
            <a:ext cx="8427960" cy="131436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PRA QUE SERVE UMA RELAÇÃ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42900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ste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280" y="216360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efinição mais simples e exata sobre o</a:t>
            </a:r>
            <a:r>
              <a:rPr b="0" lang="en-US" sz="32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ntido de mantermos uma relaçã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"Uma relação tem que servir para tornar a vida dos dois mais fácil"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52280" y="457200"/>
            <a:ext cx="8837640" cy="5714280"/>
            <a:chOff x="152280" y="457200"/>
            <a:chExt cx="8837640" cy="5714280"/>
          </a:xfrm>
        </p:grpSpPr>
        <p:sp>
          <p:nvSpPr>
            <p:cNvPr id="46" name=""/>
            <p:cNvSpPr/>
            <p:nvPr/>
          </p:nvSpPr>
          <p:spPr>
            <a:xfrm>
              <a:off x="152280" y="684000"/>
              <a:ext cx="8837640" cy="54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Georgia"/>
                </a:rPr>
                <a:t>Vou dar continuidade a esta afirmaçã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Georgia"/>
                </a:rPr>
                <a:t>porque o assunto é bom, 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Georgia"/>
                </a:rPr>
                <a:t>merece ser desenvolvido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Georgia"/>
                </a:rPr>
                <a:t>Algumas pessoas mantém relaçõe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Georgia"/>
                </a:rPr>
                <a:t>para se sentirem integradas na sociedade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Georgia"/>
                </a:rPr>
                <a:t>para provarem a sí mesmas que são capazes de ser amadas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Georgia"/>
                </a:rPr>
                <a:t>para evitar a solidão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Georgia"/>
                </a:rPr>
                <a:t>por dinheiro ou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Georgia"/>
                </a:rPr>
                <a:t>por preguiça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Georgia"/>
                </a:rPr>
                <a:t>Todos fadados à frustraçã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Georgia"/>
                </a:rPr>
                <a:t>Uma armadilh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456840" y="457200"/>
              <a:ext cx="914040" cy="87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57200" y="380880"/>
            <a:ext cx="8210520" cy="6066360"/>
            <a:chOff x="457200" y="380880"/>
            <a:chExt cx="8210520" cy="6066360"/>
          </a:xfrm>
        </p:grpSpPr>
        <p:sp>
          <p:nvSpPr>
            <p:cNvPr id="49" name=""/>
            <p:cNvSpPr/>
            <p:nvPr/>
          </p:nvSpPr>
          <p:spPr>
            <a:xfrm>
              <a:off x="476280" y="380880"/>
              <a:ext cx="8191440" cy="60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Uma relação tem que servir pa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você se sentir 100%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à vontade com outra pessoa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à vontade para concordar com ela e discordar dela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ara ter sexo sem não-me-toques ou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ara cair no sono logo após o jantar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regad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914400" cy="871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457200" y="457200"/>
            <a:ext cx="8151480" cy="5944320"/>
            <a:chOff x="457200" y="457200"/>
            <a:chExt cx="8151480" cy="5944320"/>
          </a:xfrm>
        </p:grpSpPr>
        <p:sp>
          <p:nvSpPr>
            <p:cNvPr id="52" name=""/>
            <p:cNvSpPr/>
            <p:nvPr/>
          </p:nvSpPr>
          <p:spPr>
            <a:xfrm>
              <a:off x="533160" y="761760"/>
              <a:ext cx="8075520" cy="56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Uma relação tem que servi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ara você ter com quem i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o cinema de mãos dadas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ara ter alguém que instale o som novo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enquanto você prepara uma omelete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ara ter alguém com quem viajar para um país distante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ara ter alguém com quem ficar em silêncio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sem que nenhum dos dois se incomode com iss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914040" cy="87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57200" y="457200"/>
            <a:ext cx="7427520" cy="4935960"/>
            <a:chOff x="457200" y="457200"/>
            <a:chExt cx="7427520" cy="4935960"/>
          </a:xfrm>
        </p:grpSpPr>
        <p:sp>
          <p:nvSpPr>
            <p:cNvPr id="55" name=""/>
            <p:cNvSpPr/>
            <p:nvPr/>
          </p:nvSpPr>
          <p:spPr>
            <a:xfrm>
              <a:off x="1257120" y="1459800"/>
              <a:ext cx="662760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Uma relação tem que servir para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às vezes, estimular você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 se produzir, e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quase sempre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estimular você a ser do jeito que é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e cara lavada uma pessoa bonit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 seu modo.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914040" cy="87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457200"/>
            <a:ext cx="9142560" cy="4723200"/>
            <a:chOff x="0" y="457200"/>
            <a:chExt cx="9142560" cy="4723200"/>
          </a:xfrm>
        </p:grpSpPr>
        <p:sp>
          <p:nvSpPr>
            <p:cNvPr id="58" name=""/>
            <p:cNvSpPr/>
            <p:nvPr/>
          </p:nvSpPr>
          <p:spPr>
            <a:xfrm>
              <a:off x="0" y="820440"/>
              <a:ext cx="914256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Uma relação tem que servir par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um e outro se sentirem amparados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nas suas inquietações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ara ensinar a confiar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 respeitar as diferenças que há entre as pessoas, 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eve servir para fazer os dois se divertirem demais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mesmo em casa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principalmente em cas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456840" y="457200"/>
              <a:ext cx="914040" cy="87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57200" y="457200"/>
            <a:ext cx="8091000" cy="4935960"/>
            <a:chOff x="457200" y="457200"/>
            <a:chExt cx="8091000" cy="4935960"/>
          </a:xfrm>
        </p:grpSpPr>
        <p:sp>
          <p:nvSpPr>
            <p:cNvPr id="61" name=""/>
            <p:cNvSpPr/>
            <p:nvPr/>
          </p:nvSpPr>
          <p:spPr>
            <a:xfrm>
              <a:off x="990360" y="1459800"/>
              <a:ext cx="755784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Uma relação tem que servir pa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cobrir as despesas um do outro num momento de aper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e cobrir as dores um do outro num momento de melancolia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e cobrirem o corpo um do outro, quando o cobertor cair.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914040" cy="87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CE</cp:lastModifiedBy>
  <dcterms:modified xsi:type="dcterms:W3CDTF">2006-09-12T03:52:26Z</dcterms:modified>
  <cp:revision>2</cp:revision>
  <dc:subject/>
  <dc:title>Slide 1</dc:title>
</cp:coreProperties>
</file>