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sound001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33B-7488-4137-99AB-4B022F4C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A62-113E-4885-84EB-7A651A8C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932-4365-4ABD-96FD-BFD27EC7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AF9-2BA9-4962-B762-4D249A42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04F-3B76-4886-9A7B-264A90F4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5C2-3271-454E-BDB3-2BB54F4D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A1A-6AF7-403B-9B56-E8E258B5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B59-F5FB-4465-B39C-DE323DCC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EE3-67EF-4F26-A7EA-75DF1321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48E-6D68-4505-9C67-73E3405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60A-2054-4529-AAC7-4949814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8D5-2696-4562-9636-A8C81345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5D61-D45B-4AC7-8227-B114FD973C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sound001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350532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Um pouco de tudo..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 advTm="10000">
    <p:random/>
    <p:sndAc>
      <p:stSnd>
        <p:snd r:embed="rId5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438280" y="49528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or própri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57531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perceber suas qualidades e gostar do que vê por d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809880" y="5105520"/>
            <a:ext cx="609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Fé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594360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te guiar, te sustentar e te manter de p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666880" y="48769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incer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6386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ser verdadeiro(a), gostar de você mesmo(a) e viver melh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819520" y="53341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Felic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199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-la dentro de você e doá-la à quem preci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819520" y="5181480"/>
            <a:ext cx="2819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iz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59436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r que, quem tem um amigo, tem um teso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flower030" descr=""/>
          <p:cNvPicPr/>
          <p:nvPr/>
        </p:nvPicPr>
        <p:blipFill>
          <a:blip r:embed="rId2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743200" y="495288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Esperanç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867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fazer você acreditar na vida e se sentir uma eterna crian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819520" y="5105520"/>
            <a:ext cx="2819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abedor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59436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entender que só o bem existe, o resto é ilu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200400" y="51055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Desejo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5943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alimentar o seu corpo, dando prazer ao seu espír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276720" y="5410080"/>
            <a:ext cx="2361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onho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943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poder, todos os dias,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alimentar a sua al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evt="end">
                                        <p:tn val="2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438280" y="1905120"/>
            <a:ext cx="2590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o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895480"/>
            <a:ext cx="624852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ter alguém para amar e sentir-se amado(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ejar tocar uma estrela, sorrir para a L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Sentir que a vida é bela, andando pela r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r que existe um Sol dentro de voc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se sentir feliz a cada amanhecer e saber que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amor é a razão maior... para v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Mas se você não tiver um amor, que nunca deixe morrer 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você, a procura...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o desejo de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o encont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47920" y="4876920"/>
            <a:ext cx="6933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Que você tenha um pouco de tud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295280" y="3276720"/>
            <a:ext cx="67057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Tenha de tudo, um pouco...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Monotype Corsiva"/>
              </a:rPr>
              <a:t>Seja Feliz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flower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143000" y="2057400"/>
            <a:ext cx="67057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braço !!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28600" y="5646600"/>
            <a:ext cx="1368360" cy="1211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248520" y="0"/>
            <a:ext cx="327636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666880" y="480060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ensibil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ficar indiferente diante das belezas da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124080" y="45720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Corag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colocar a timidez de lado e poder realizar o que tem vont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819520" y="4724280"/>
            <a:ext cx="3733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olidarie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ficar neutro(a) diante do sofrimento da human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95480" y="50292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Bon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5943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desviar os olhos de quem te pede uma aju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514600" y="495288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Tranqüil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57531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quando chegar ao fim do dia,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oder deitar e dormir o sono dos an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895480" y="518148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legr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943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istribuí-la, colocando um sorriso no rosto de algué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743200" y="525780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Humil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601992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reconhecer aquilo que você não 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3:21:51Z</dcterms:created>
  <dc:creator>Usuario</dc:creator>
  <dc:description/>
  <dc:language>en-US</dc:language>
  <cp:lastModifiedBy>Usuario</cp:lastModifiedBy>
  <dcterms:modified xsi:type="dcterms:W3CDTF">2007-10-15T06:46:24Z</dcterms:modified>
  <cp:revision>10</cp:revision>
  <dc:subject/>
  <dc:title>Apresentação do PowerPoint</dc:title>
</cp:coreProperties>
</file>