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sound003.wav" ContentType="audio/x-wav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163-B003-4037-B172-27F2D278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2C0-B77C-409C-874E-FB2F1A6C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527-1E1F-477F-997A-F500ED90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397-AFC2-400C-840D-F4558412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524-C183-4217-A174-5F4F735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53B-2B69-4258-8173-826EC0CE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883-B4BF-4F78-9808-443DA1D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437-4B71-40E1-8DF4-51EF10D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5C4-C6B6-421E-8F01-A80ACAB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F6B-6C20-402F-BCBA-1B17CF6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3F4-224C-4FD9-A2F0-128ACF3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4C6-7ACE-4562-901D-138435A6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139-DA48-41A4-B78E-1C64270A0C52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Picture 6" descr="987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7" descr=""/>
          <p:cNvPicPr/>
          <p:nvPr/>
        </p:nvPicPr>
        <p:blipFill>
          <a:blip r:embed="rId2"/>
          <a:stretch/>
        </p:blipFill>
        <p:spPr>
          <a:xfrm>
            <a:off x="5370480" y="6095880"/>
            <a:ext cx="360216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876422bgs38kym2w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427640" y="9579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seu passado e pagá-lo com seu pres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960480" y="216144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tentar compreender as pess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39960" y="34581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ensar que as vidas delas vale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mais que a su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28800" y="51012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saber que cada um tem seu caminho e sua so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6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28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84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876422bgs38kym2w"/>
          <p:cNvPicPr/>
          <p:nvPr/>
        </p:nvPicPr>
        <p:blipFill>
          <a:blip r:embed="rId1"/>
          <a:stretch/>
        </p:blipFill>
        <p:spPr>
          <a:xfrm>
            <a:off x="0" y="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c"/>
          <p:cNvPicPr/>
          <p:nvPr/>
        </p:nvPicPr>
        <p:blipFill>
          <a:blip r:embed="rId2"/>
          <a:stretch/>
        </p:blipFill>
        <p:spPr>
          <a:xfrm>
            <a:off x="5572080" y="501984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857240" y="28555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criar sua históri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3611160"/>
            <a:ext cx="64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Deixar de dar graças a Deus por sua vid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4200" y="43254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er um momento para quem necessita de você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6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76422bgs38kym2w"/>
          <p:cNvPicPr/>
          <p:nvPr/>
        </p:nvPicPr>
        <p:blipFill>
          <a:blip r:embed="rId1"/>
          <a:stretch/>
        </p:blipFill>
        <p:spPr>
          <a:xfrm>
            <a:off x="6372360" y="3809880"/>
            <a:ext cx="259056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-71280" y="2216880"/>
            <a:ext cx="92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compreender que o que a vida lhe dá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ambém lhe tir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3880" y="3287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buscar a felicidad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88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ic"/>
          <p:cNvPicPr/>
          <p:nvPr/>
        </p:nvPicPr>
        <p:blipFill>
          <a:blip r:embed="rId2"/>
          <a:stretch/>
        </p:blipFill>
        <p:spPr>
          <a:xfrm>
            <a:off x="5364000" y="479736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928800" y="32158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viver sua vida com uma atitude positiv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1280" y="3968280"/>
            <a:ext cx="80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pensar que podemos ser melhore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2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12920" y="2427840"/>
            <a:ext cx="83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9900"/>
                </a:solidFill>
                <a:latin typeface="Century Gothic"/>
              </a:rPr>
              <a:t>Não sentir que sem você este mundo não seria igual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5" descr="876422bgs38kym2w"/>
          <p:cNvPicPr/>
          <p:nvPr/>
        </p:nvPicPr>
        <p:blipFill>
          <a:blip r:embed="rId1"/>
          <a:stretch/>
        </p:blipFill>
        <p:spPr>
          <a:xfrm>
            <a:off x="6300720" y="3645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644920" y="3502440"/>
            <a:ext cx="38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Century Gothic"/>
              </a:rPr>
              <a:t>É proibido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5789688-M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786200" y="685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importa o passad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57880" y="14716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Hoje é presente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000760" y="2400480"/>
            <a:ext cx="35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O futuro? É com Você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86280" y="3186000"/>
            <a:ext cx="19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ense nisto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714920" y="5186520"/>
            <a:ext cx="44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Uma linda vida para Você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767120" y="402732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O tempo não espera ninguém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143760" y="5900760"/>
            <a:ext cx="11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Val ..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7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7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7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876422bgs38kym2w"/>
          <p:cNvPicPr/>
          <p:nvPr/>
        </p:nvPicPr>
        <p:blipFill>
          <a:blip r:embed="rId1"/>
          <a:stretch/>
        </p:blipFill>
        <p:spPr>
          <a:xfrm>
            <a:off x="0" y="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3780000" y="620640"/>
            <a:ext cx="44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xto de Pablo Neruda</a:t>
            </a:r>
            <a:endParaRPr b="0" lang="en-US" sz="12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3591000" y="2060640"/>
            <a:ext cx="4868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matação Val Paladini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3708360" y="3429000"/>
            <a:ext cx="4489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ja feliz hoje e sempre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250920" y="6021360"/>
            <a:ext cx="45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lpaladini120@hotmail.com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1" descr="7"/>
          <p:cNvPicPr/>
          <p:nvPr/>
        </p:nvPicPr>
        <p:blipFill>
          <a:blip r:embed="rId10"/>
          <a:stretch/>
        </p:blipFill>
        <p:spPr>
          <a:xfrm>
            <a:off x="6012000" y="4724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876422bgs38kym2w"/>
          <p:cNvPicPr/>
          <p:nvPr/>
        </p:nvPicPr>
        <p:blipFill>
          <a:blip r:embed="rId1"/>
          <a:stretch/>
        </p:blipFill>
        <p:spPr>
          <a:xfrm>
            <a:off x="6372360" y="189000"/>
            <a:ext cx="2590560" cy="3047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663480" y="56340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83160" y="1290600"/>
            <a:ext cx="36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Century Gothic"/>
              </a:rPr>
              <a:t>É proibido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571840" y="464328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Century Gothic"/>
              </a:rPr>
              <a:t>Pablo Neruda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132000" y="15919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</a:t>
            </a: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chorar sem aprende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" name="Picture 7" descr="ic"/>
          <p:cNvPicPr/>
          <p:nvPr/>
        </p:nvPicPr>
        <p:blipFill>
          <a:blip r:embed="rId2"/>
          <a:stretch/>
        </p:blipFill>
        <p:spPr>
          <a:xfrm>
            <a:off x="5292720" y="472428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335240" y="3095640"/>
            <a:ext cx="65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Levantar-se um dia sem saber o que fazer,</a:t>
            </a:r>
            <a:r>
              <a:rPr b="0" lang="pt-PT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48254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er medo de suas lembranç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1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2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876422bgs38kym2w"/>
          <p:cNvPicPr/>
          <p:nvPr/>
        </p:nvPicPr>
        <p:blipFill>
          <a:blip r:embed="rId1"/>
          <a:stretch/>
        </p:blipFill>
        <p:spPr>
          <a:xfrm>
            <a:off x="6372360" y="364500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c"/>
          <p:cNvPicPr/>
          <p:nvPr/>
        </p:nvPicPr>
        <p:blipFill>
          <a:blip r:embed="rId2"/>
          <a:stretch/>
        </p:blipFill>
        <p:spPr>
          <a:xfrm>
            <a:off x="25092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395280" y="49032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ransformar sonhos em realidad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95640" y="103752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rir dos problemas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714680" y="3171240"/>
            <a:ext cx="47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lutar pelo que se que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16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c"/>
          <p:cNvPicPr/>
          <p:nvPr/>
        </p:nvPicPr>
        <p:blipFill>
          <a:blip r:embed="rId2"/>
          <a:stretch/>
        </p:blipFill>
        <p:spPr>
          <a:xfrm>
            <a:off x="5364000" y="486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3348000" y="1242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demonstrar am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403280" y="30027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Fazer com que algué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ague por suas dúvidas e mau – hum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00040" y="51192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deixar os amig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876422bgs38kym2w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476360" y="23266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entar compreender o que viveram ju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826920" y="32871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Chamá-los somente quando necessita del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4000" y="423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ser você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mesmo diante das pess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4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c"/>
          <p:cNvPicPr/>
          <p:nvPr/>
        </p:nvPicPr>
        <p:blipFill>
          <a:blip r:embed="rId2"/>
          <a:stretch/>
        </p:blipFill>
        <p:spPr>
          <a:xfrm>
            <a:off x="5364000" y="486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098880" y="1325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Fingir que elas não lhe importam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501920" y="3002760"/>
            <a:ext cx="66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r gentil só para que s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lembrem de você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42920" y="47440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aqueles que gostam de você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6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876422bgs38kym2w"/>
          <p:cNvPicPr/>
          <p:nvPr/>
        </p:nvPicPr>
        <p:blipFill>
          <a:blip r:embed="rId1"/>
          <a:stretch/>
        </p:blipFill>
        <p:spPr>
          <a:xfrm>
            <a:off x="6372360" y="364500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c"/>
          <p:cNvPicPr/>
          <p:nvPr/>
        </p:nvPicPr>
        <p:blipFill>
          <a:blip r:embed="rId2"/>
          <a:stretch/>
        </p:blipFill>
        <p:spPr>
          <a:xfrm>
            <a:off x="179280" y="26028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4067280" y="13150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fazer as coisas por si mesm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403280" y="31824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crer em Deus e fazer seu destin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28760" y="4744080"/>
            <a:ext cx="52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er medo da vida e de seus compromisso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4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72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c"/>
          <p:cNvPicPr/>
          <p:nvPr/>
        </p:nvPicPr>
        <p:blipFill>
          <a:blip r:embed="rId2"/>
          <a:stretch/>
        </p:blipFill>
        <p:spPr>
          <a:xfrm>
            <a:off x="5572080" y="479736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143160" y="1243800"/>
            <a:ext cx="57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viver cada dia como se fosse um último suspir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57120" y="326664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sentir saudades de alguém sem se alegra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39640" y="46515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seus olho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u sorriso, só porqu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us caminh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 desencontraram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2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9:11:48Z</dcterms:created>
  <dc:creator>Nome</dc:creator>
  <dc:description/>
  <dc:language>en-US</dc:language>
  <cp:lastModifiedBy>Flavia</cp:lastModifiedBy>
  <dcterms:modified xsi:type="dcterms:W3CDTF">2009-05-05T04:56:03Z</dcterms:modified>
  <cp:revision>6</cp:revision>
  <dc:subject/>
  <dc:title>Slide 1</dc:title>
</cp:coreProperties>
</file>