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sound003.wav" ContentType="audio/x-wav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123-7A5E-49A1-82D6-B3D3ED22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01B-78FB-4FAF-8147-1563A30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F05-8404-4DE0-BE3C-81660BB5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121-E445-4F02-9C6F-1A4E65BA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312-5ED5-4D3E-9A50-B919538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FD6-34C3-4622-AC99-4A19F6A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F2A-06BD-4C36-9190-D8DDFFED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5DC-8A10-4838-9511-2222A727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BC4-C1BC-48F0-B03A-F11EB550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EDF-A738-46D4-9B48-0910FEB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ACC-968F-404F-9970-808F5EB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96C-B3FC-4F3B-B920-D73FCFD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5BE2-5E9F-48EB-B155-BB7C70CBF693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ound00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Picture 6" descr="987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7" descr=""/>
          <p:cNvPicPr/>
          <p:nvPr/>
        </p:nvPicPr>
        <p:blipFill>
          <a:blip r:embed="rId2"/>
          <a:stretch/>
        </p:blipFill>
        <p:spPr>
          <a:xfrm>
            <a:off x="5370480" y="6095880"/>
            <a:ext cx="360216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876422bgs38kym2w"/>
          <p:cNvPicPr/>
          <p:nvPr/>
        </p:nvPicPr>
        <p:blipFill>
          <a:blip r:embed="rId1"/>
          <a:stretch/>
        </p:blipFill>
        <p:spPr>
          <a:xfrm>
            <a:off x="6553080" y="380988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427640" y="9579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Esquecer seu passado e pagá-lo com seu pres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960480" y="216144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tentar compreender as pessoa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39960" y="34581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Pensar que as vidas delas valem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mais que a su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28800" y="51012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saber que cada um tem seu caminho e sua sor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68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28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84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876422bgs38kym2w"/>
          <p:cNvPicPr/>
          <p:nvPr/>
        </p:nvPicPr>
        <p:blipFill>
          <a:blip r:embed="rId1"/>
          <a:stretch/>
        </p:blipFill>
        <p:spPr>
          <a:xfrm>
            <a:off x="0" y="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c"/>
          <p:cNvPicPr/>
          <p:nvPr/>
        </p:nvPicPr>
        <p:blipFill>
          <a:blip r:embed="rId2"/>
          <a:stretch/>
        </p:blipFill>
        <p:spPr>
          <a:xfrm>
            <a:off x="5572080" y="501984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857240" y="28555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criar sua históri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3611160"/>
            <a:ext cx="64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Deixar de dar graças a Deus por sua vid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14200" y="432540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ter um momento para quem necessita de você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20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6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876422bgs38kym2w"/>
          <p:cNvPicPr/>
          <p:nvPr/>
        </p:nvPicPr>
        <p:blipFill>
          <a:blip r:embed="rId1"/>
          <a:stretch/>
        </p:blipFill>
        <p:spPr>
          <a:xfrm>
            <a:off x="6372360" y="3809880"/>
            <a:ext cx="259056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-71280" y="2216880"/>
            <a:ext cx="927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compreender que o que a vida lhe dá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também lhe tir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523880" y="32871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buscar a felicidad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88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ic"/>
          <p:cNvPicPr/>
          <p:nvPr/>
        </p:nvPicPr>
        <p:blipFill>
          <a:blip r:embed="rId2"/>
          <a:stretch/>
        </p:blipFill>
        <p:spPr>
          <a:xfrm>
            <a:off x="5364000" y="479736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928800" y="32158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viver sua vida com uma atitude positiv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1280" y="3968280"/>
            <a:ext cx="80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pensar que podemos ser melhore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2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12920" y="2427840"/>
            <a:ext cx="83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9900"/>
                </a:solidFill>
                <a:latin typeface="Century Gothic"/>
              </a:rPr>
              <a:t>Não sentir que sem você este mundo não seria igual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Picture 5" descr="876422bgs38kym2w"/>
          <p:cNvPicPr/>
          <p:nvPr/>
        </p:nvPicPr>
        <p:blipFill>
          <a:blip r:embed="rId1"/>
          <a:stretch/>
        </p:blipFill>
        <p:spPr>
          <a:xfrm>
            <a:off x="6300720" y="3645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2644920" y="3502440"/>
            <a:ext cx="38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Century Gothic"/>
              </a:rPr>
              <a:t>É proibido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5789688-M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786200" y="6858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importa o passad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57880" y="14716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Hoje é presente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000760" y="2400480"/>
            <a:ext cx="35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O futuro? É com Você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786280" y="3186000"/>
            <a:ext cx="19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Pense nisto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714920" y="5186520"/>
            <a:ext cx="44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Uma linda vida para Você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767120" y="402732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O tempo não espera ninguém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6143760" y="5900760"/>
            <a:ext cx="11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Val ..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7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7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7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7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876422bgs38kym2w"/>
          <p:cNvPicPr/>
          <p:nvPr/>
        </p:nvPicPr>
        <p:blipFill>
          <a:blip r:embed="rId1"/>
          <a:stretch/>
        </p:blipFill>
        <p:spPr>
          <a:xfrm>
            <a:off x="0" y="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3780000" y="620640"/>
            <a:ext cx="446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xto de Pablo Neruda</a:t>
            </a:r>
            <a:endParaRPr b="0" lang="en-US" sz="12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3591000" y="2060640"/>
            <a:ext cx="4868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matação Val Paladini</a:t>
            </a:r>
            <a:endParaRPr b="0" lang="en-US" sz="16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3708360" y="3429000"/>
            <a:ext cx="4489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ja feliz hoje e sempre</a:t>
            </a:r>
            <a:endParaRPr b="0" lang="en-US" sz="16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250920" y="6021360"/>
            <a:ext cx="453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262626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lpaladini120@hotmail.com</a:t>
            </a:r>
            <a:endParaRPr b="0" lang="en-US" sz="1600" spc="1" strike="noStrike">
              <a:ln w="9360">
                <a:solidFill>
                  <a:srgbClr val="262626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11" descr="7"/>
          <p:cNvPicPr/>
          <p:nvPr/>
        </p:nvPicPr>
        <p:blipFill>
          <a:blip r:embed="rId10"/>
          <a:stretch/>
        </p:blipFill>
        <p:spPr>
          <a:xfrm>
            <a:off x="6012000" y="4724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876422bgs38kym2w"/>
          <p:cNvPicPr/>
          <p:nvPr/>
        </p:nvPicPr>
        <p:blipFill>
          <a:blip r:embed="rId1"/>
          <a:stretch/>
        </p:blipFill>
        <p:spPr>
          <a:xfrm>
            <a:off x="6372360" y="189000"/>
            <a:ext cx="2590560" cy="3047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663480" y="563400"/>
            <a:ext cx="217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983160" y="1290600"/>
            <a:ext cx="36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Century Gothic"/>
              </a:rPr>
              <a:t>É proibido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571840" y="464328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Century Gothic"/>
              </a:rPr>
              <a:t>Pablo Neruda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132000" y="15919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</a:t>
            </a: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chorar sem aprender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" name="Picture 7" descr="ic"/>
          <p:cNvPicPr/>
          <p:nvPr/>
        </p:nvPicPr>
        <p:blipFill>
          <a:blip r:embed="rId2"/>
          <a:stretch/>
        </p:blipFill>
        <p:spPr>
          <a:xfrm>
            <a:off x="5292720" y="472428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335240" y="3095640"/>
            <a:ext cx="65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Levantar-se um dia sem saber o que fazer,</a:t>
            </a:r>
            <a:r>
              <a:rPr b="0" lang="pt-PT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95280" y="48254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Ter medo de suas lembranç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12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2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876422bgs38kym2w"/>
          <p:cNvPicPr/>
          <p:nvPr/>
        </p:nvPicPr>
        <p:blipFill>
          <a:blip r:embed="rId1"/>
          <a:stretch/>
        </p:blipFill>
        <p:spPr>
          <a:xfrm>
            <a:off x="6372360" y="3645000"/>
            <a:ext cx="2590560" cy="30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c"/>
          <p:cNvPicPr/>
          <p:nvPr/>
        </p:nvPicPr>
        <p:blipFill>
          <a:blip r:embed="rId2"/>
          <a:stretch/>
        </p:blipFill>
        <p:spPr>
          <a:xfrm>
            <a:off x="25092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395280" y="49032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transformar sonhos em realidad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995640" y="103752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rir dos problemas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714680" y="3171240"/>
            <a:ext cx="47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lutar pelo que se quer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16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c"/>
          <p:cNvPicPr/>
          <p:nvPr/>
        </p:nvPicPr>
        <p:blipFill>
          <a:blip r:embed="rId2"/>
          <a:stretch/>
        </p:blipFill>
        <p:spPr>
          <a:xfrm>
            <a:off x="5364000" y="486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3348000" y="1242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demonstrar am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403280" y="30027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Fazer com que alguém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pague por suas dúvidas e mau – hum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00040" y="51192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deixar os amig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876422bgs38kym2w"/>
          <p:cNvPicPr/>
          <p:nvPr/>
        </p:nvPicPr>
        <p:blipFill>
          <a:blip r:embed="rId1"/>
          <a:stretch/>
        </p:blipFill>
        <p:spPr>
          <a:xfrm>
            <a:off x="6553080" y="380988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c"/>
          <p:cNvPicPr/>
          <p:nvPr/>
        </p:nvPicPr>
        <p:blipFill>
          <a:blip r:embed="rId2"/>
          <a:stretch/>
        </p:blipFill>
        <p:spPr>
          <a:xfrm>
            <a:off x="179280" y="18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1476360" y="23266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tentar compreender o que viveram junt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826920" y="32871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Chamá-los somente quando necessita del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24000" y="423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ser você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mesmo diante das pessoa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2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4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c"/>
          <p:cNvPicPr/>
          <p:nvPr/>
        </p:nvPicPr>
        <p:blipFill>
          <a:blip r:embed="rId2"/>
          <a:stretch/>
        </p:blipFill>
        <p:spPr>
          <a:xfrm>
            <a:off x="5364000" y="4869000"/>
            <a:ext cx="3571920" cy="1838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098880" y="1325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Fingir que elas não lhe importam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501920" y="3002760"/>
            <a:ext cx="66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r gentil só para que s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lembrem de você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42920" y="47440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Esquecer aqueles que gostam de você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16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6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876422bgs38kym2w"/>
          <p:cNvPicPr/>
          <p:nvPr/>
        </p:nvPicPr>
        <p:blipFill>
          <a:blip r:embed="rId1"/>
          <a:stretch/>
        </p:blipFill>
        <p:spPr>
          <a:xfrm>
            <a:off x="6372360" y="3645000"/>
            <a:ext cx="2590560" cy="30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c"/>
          <p:cNvPicPr/>
          <p:nvPr/>
        </p:nvPicPr>
        <p:blipFill>
          <a:blip r:embed="rId2"/>
          <a:stretch/>
        </p:blipFill>
        <p:spPr>
          <a:xfrm>
            <a:off x="179280" y="26028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4067280" y="13150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não fazer as coisas por si mesm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403280" y="31824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crer em Deus e fazer seu destin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28760" y="4744080"/>
            <a:ext cx="52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Ter medo da vida e de seus compromisso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48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72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876422bgs38kym2w"/>
          <p:cNvPicPr/>
          <p:nvPr/>
        </p:nvPicPr>
        <p:blipFill>
          <a:blip r:embed="rId1"/>
          <a:stretch/>
        </p:blipFill>
        <p:spPr>
          <a:xfrm>
            <a:off x="179280" y="189000"/>
            <a:ext cx="2590920" cy="304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c"/>
          <p:cNvPicPr/>
          <p:nvPr/>
        </p:nvPicPr>
        <p:blipFill>
          <a:blip r:embed="rId2"/>
          <a:stretch/>
        </p:blipFill>
        <p:spPr>
          <a:xfrm>
            <a:off x="5572080" y="4797360"/>
            <a:ext cx="3571920" cy="1838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143160" y="1243800"/>
            <a:ext cx="57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Não viver cada dia como se fosse um último suspir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57120" y="326664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É proibido sentir saudades de alguém sem se alegrar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39640" y="46515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Esquecer seus olhos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u sorriso, só porqu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us caminho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Century Gothic"/>
              </a:rPr>
              <a:t>se desencontraram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72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2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9:11:48Z</dcterms:created>
  <dc:creator>Nome</dc:creator>
  <dc:description/>
  <dc:language>en-US</dc:language>
  <cp:lastModifiedBy>Flavia</cp:lastModifiedBy>
  <dcterms:modified xsi:type="dcterms:W3CDTF">2009-05-05T04:56:03Z</dcterms:modified>
  <cp:revision>6</cp:revision>
  <dc:subject/>
  <dc:title>Slide 1</dc:title>
</cp:coreProperties>
</file>