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4.gif" ContentType="image/gif"/>
  <Override PartName="/ppt/media/AMIGOS%20PARA%20SEMPRE.wav" ContentType="audio/x-wav"/>
  <Override PartName="/ppt/media/image1.jpeg" ContentType="image/jpeg"/>
  <Override PartName="/ppt/media/image22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  <p:custShowLst>
    <p:custShow name="A Amizade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5FD-7B6F-45BD-A98C-EB8CCE17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BB0-F864-4679-9B9C-66680E5D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A1E7-DEA3-4CC6-96E2-14384EF3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AB3-BFE2-42B6-B908-9F4EBB17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3057-F964-4071-B9E9-59C283D8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B3AD-B4AF-4C09-B733-AF7F42C9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2598-ED7B-4DCD-89D5-D4715BB6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2BC2-75E0-4AF9-9801-0C7C4272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214E-5F16-4451-9E51-34DF6C4E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32C7-AF46-4153-A299-13BA4D8D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A1BF-D19C-497B-B901-41948BC4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F09-1A87-4C76-80BB-E0CAE22D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0C3B-A709-4489-9717-CC57B93A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8DEA-0C64-41FA-AD9D-B4EF74C0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B215-AFCF-439D-B5BE-008FBBA8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C01C-9F2D-4A49-8128-691BBAA9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E65B-3921-42C0-8791-D6E8EC48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5B9-E58D-41D0-BB11-94B5F3B6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9FA-2AB6-409A-A2F3-CAA515B7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58B-0459-49E9-907D-DF0C41C1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84E-8482-4AFF-9ED7-7F7636E4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306-09FC-46C1-B30F-C6770B88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DFC-67C9-4F5A-8858-F23D5DD7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759-FF27-46C6-8EC3-E3D0B642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4F2C-F747-4C30-B240-A7BC03BD6E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9F6B-EB43-4FC2-ACEC-84559660D6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audio" Target="../media/AMIGOS%20PARA%20SEMPR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3068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Você é muito important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em minha vida!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Sabe porquê?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Porque você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É Amigo(a)!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E Amizade.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Ah..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276720" y="5661000"/>
            <a:ext cx="11905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5300640"/>
            <a:ext cx="4835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Monotype Corsiva"/>
              </a:rPr>
              <a:t>É ter um só propósito: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6000" y="2421000"/>
            <a:ext cx="50500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Ver o outro se alegrar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68360" y="5876640"/>
            <a:ext cx="47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Monotype Corsiva"/>
              </a:rPr>
              <a:t>É estar sempre ao lado,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111111"/>
                </a:solidFill>
                <a:latin typeface="Monotype Corsiva"/>
              </a:rPr>
              <a:t>E se necessário,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11111"/>
                </a:solidFill>
                <a:latin typeface="Monotype Corsiva"/>
              </a:rPr>
              <a:t>         Também chorar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594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É viver  em comunhão,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Monotype Corsiva"/>
              </a:rPr>
              <a:t>Doando-se sem medidas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1557000"/>
            <a:ext cx="7488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Monotype Corsiva"/>
              </a:rPr>
              <a:t>É ser mais que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Monotype Corsiva"/>
              </a:rPr>
              <a:t>          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Monotype Corsiva"/>
              </a:rPr>
              <a:t>                                                          Irmãos,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E descobrir que esse Amor,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781360"/>
            <a:ext cx="5148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Monotype Corsiva"/>
              </a:rPr>
              <a:t>É o que dá sentido à Vida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Monotype Corsiva"/>
              </a:rPr>
              <a:t>                           </a:t>
            </a:r>
            <a:r>
              <a:rPr b="0" lang="en-US" sz="1800" spc="-1" strike="noStrike">
                <a:solidFill>
                  <a:srgbClr val="6600ff"/>
                </a:solidFill>
                <a:latin typeface="Monotype Corsiva"/>
              </a:rPr>
              <a:t>(Ana J.M. Lu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19640" y="620640"/>
            <a:ext cx="4965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Monotype Corsiv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Monotype Corsiva"/>
              </a:rPr>
              <a:t>Amigos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Monotype Corsiva"/>
              </a:rPr>
              <a:t>pra sempre.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635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Bons Amigo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Que nasceram pela Fé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3456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Monotype Corsiva"/>
              </a:rPr>
              <a:t>“</a:t>
            </a:r>
            <a:r>
              <a:rPr b="0" lang="en-US" sz="4400" spc="-1" strike="noStrike">
                <a:solidFill>
                  <a:srgbClr val="990000"/>
                </a:solidFill>
                <a:latin typeface="Monotype Corsiva"/>
              </a:rPr>
              <a:t>A Amizade</a:t>
            </a: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780000" y="4797000"/>
            <a:ext cx="5076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Monotype Corsiva"/>
              </a:rPr>
              <a:t>É a essência  da Vida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404640"/>
            <a:ext cx="36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757440" y="3141360"/>
            <a:ext cx="619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Monotype Corsiva"/>
              </a:rPr>
              <a:t>Amigos pra semp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-612720" y="53737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Para sempre Amigos, sim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7280" y="1628640"/>
            <a:ext cx="4475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571e"/>
                </a:solidFill>
                <a:latin typeface="Monotype Corsiva"/>
              </a:rPr>
              <a:t>Se Deus quiser!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Dedicado a você,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que dá sentido à minha vida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a quem eu tenho o orgulho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de poder chamar de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Amigo(a)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8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Se você tem uma pessoa especial em sua vida,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E pode chamá-lo de Amigo(a),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Envie essa  mensagem a ele(a).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Com certeza, o(a)  fará muito feliz!!!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E com certeza vai recebê-la de volta.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Afinal, você também é muito especial!!!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Tenha um ótimo dia!!!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Beijos..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-360" y="5013000"/>
            <a:ext cx="57243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oesia: “A Amizad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utora: Ana J.M. Lu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magens: Inter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Música: Amigos pela Fé (Anjos de Resga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Monotype Corsiva"/>
              </a:rPr>
              <a:t>Flor, Perfume e Beleza..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499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É </a:t>
            </a:r>
            <a:r>
              <a:rPr b="0" lang="en-US" sz="4400" spc="-1" strike="noStrike">
                <a:solidFill>
                  <a:srgbClr val="ff9900"/>
                </a:solidFill>
                <a:latin typeface="Monotype Corsiva"/>
              </a:rPr>
              <a:t>a forma suprema de Amar,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414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É doar-se inteiramente,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Sem nada em troca esperar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408560" y="5465880"/>
            <a:ext cx="405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46560" y="549000"/>
            <a:ext cx="4897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Monotype Corsiva"/>
              </a:rPr>
              <a:t>É falar-se no silêncio,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Monotype Corsiva"/>
              </a:rPr>
              <a:t>Com a ternura</a:t>
            </a:r>
            <a:r>
              <a:rPr b="0" lang="en-US" sz="4400" spc="-1" strike="noStrike">
                <a:solidFill>
                  <a:srgbClr val="2b5481"/>
                </a:solidFill>
                <a:latin typeface="Monotype Corsiva"/>
              </a:rPr>
              <a:t>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De um olhar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É estar disposto a tudo: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Monotype Corsiva"/>
              </a:rPr>
              <a:t>De aprender,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6699"/>
                </a:solidFill>
                <a:latin typeface="Monotype Corsiva"/>
              </a:rPr>
              <a:t>                           </a:t>
            </a:r>
            <a:br>
              <a:rPr sz="4400"/>
            </a:br>
            <a:r>
              <a:rPr b="0" lang="en-US" sz="4400" spc="-1" strike="noStrike">
                <a:solidFill>
                  <a:srgbClr val="336699"/>
                </a:solidFill>
                <a:latin typeface="Monotype Corsiva"/>
              </a:rPr>
              <a:t>                               A ensinar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2:37:10Z</dcterms:created>
  <dc:creator>andre</dc:creator>
  <dc:description/>
  <dc:language>en-US</dc:language>
  <cp:lastModifiedBy>Silvio</cp:lastModifiedBy>
  <dcterms:modified xsi:type="dcterms:W3CDTF">2008-05-20T21:37:43Z</dcterms:modified>
  <cp:revision>6</cp:revision>
  <dc:subject/>
  <dc:title>Slide 1</dc:title>
</cp:coreProperties>
</file>