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4.gif" ContentType="image/gif"/>
  <Override PartName="/ppt/media/AMIGOS%20PARA%20SEMPRE.wav" ContentType="audio/x-wav"/>
  <Override PartName="/ppt/media/image1.jpeg" ContentType="image/jpeg"/>
  <Override PartName="/ppt/media/image22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A Amizade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1C9-46B0-4BA7-A6B6-6E287C86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2E4-DE29-4BD4-BA38-8A94A847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F3C-5DA5-48C6-92FE-429ED165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EDE-43D5-43E5-BD30-32FBF817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23DB-E2AC-4F11-8D00-227CF678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130B-FD88-46E6-83E6-6382DFD8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38E1-541C-4FB1-9D01-F335424E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F7DD-6BD4-47E2-9840-A516A834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B1E7-EF17-407A-AD90-100F8E31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0493-86BE-49C7-B026-D86F5164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5E01-00F1-4A3F-A44A-FDAB9053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2B7-683A-4C8E-B0C0-7A9ACB16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BCC0-30F2-4340-A098-2C1A4EC2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9BD4-5FC0-45E4-846F-F7725E13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7216-E713-47A0-B6DC-C9518819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C4B6-70CB-4C38-944D-849008C5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D3D7-0EF9-4B44-BBE8-5D94864E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D0D-A7F0-4384-8B8C-F2A28530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6F0-D545-4835-B643-260FA7BA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59F-4034-433C-BACA-F03AA1A7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442-8F0B-4E33-88D2-976BE76B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D6B-1DBC-49E5-B22E-57029A62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F0A-519F-43DD-ABE2-818B148E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622-1729-4F36-B0B9-CD95FAC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01C4-1132-49D0-8441-675BBA8B6A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71FB-2E39-4A57-9D71-50A9113498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audio" Target="../media/AMIGOS%20PARA%20SEMPR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3068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Você é muito important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em minha vida!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Sabe porquê?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Porque você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É Amigo(a)!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E Amizade.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Ah..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276720" y="5661000"/>
            <a:ext cx="11905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300640"/>
            <a:ext cx="4835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Monotype Corsiva"/>
              </a:rPr>
              <a:t>É ter um só propósito: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6000" y="2421000"/>
            <a:ext cx="50500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Ver o outro se alegrar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360" y="5876640"/>
            <a:ext cx="47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Monotype Corsiva"/>
              </a:rPr>
              <a:t>É estar sempre ao lado,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111111"/>
                </a:solidFill>
                <a:latin typeface="Monotype Corsiva"/>
              </a:rPr>
              <a:t>E se necessário,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11111"/>
                </a:solidFill>
                <a:latin typeface="Monotype Corsiva"/>
              </a:rPr>
              <a:t>         Também chorar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594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É viver  em comunhão,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Monotype Corsiva"/>
              </a:rPr>
              <a:t>Doando-se sem medidas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1557000"/>
            <a:ext cx="748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Monotype Corsiva"/>
              </a:rPr>
              <a:t>É ser mais que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Monotype Corsiva"/>
              </a:rPr>
              <a:t>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Monotype Corsiva"/>
              </a:rPr>
              <a:t>                                                          Irmãos,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E descobrir que esse Amor,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781360"/>
            <a:ext cx="514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Monotype Corsiva"/>
              </a:rPr>
              <a:t>É o que dá sentido à Vida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Monotype Corsiva"/>
              </a:rPr>
              <a:t>                           </a:t>
            </a:r>
            <a:r>
              <a:rPr b="0" lang="en-US" sz="1800" spc="-1" strike="noStrike">
                <a:solidFill>
                  <a:srgbClr val="6600ff"/>
                </a:solidFill>
                <a:latin typeface="Monotype Corsiva"/>
              </a:rPr>
              <a:t>(Ana J.M. Lu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19640" y="620640"/>
            <a:ext cx="4965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Monotype Corsiv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Monotype Corsiva"/>
              </a:rPr>
              <a:t>Amigos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Monotype Corsiva"/>
              </a:rPr>
              <a:t>pra sempre.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635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Bons Amigo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Que nasceram pela Fé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3456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Monotype Corsiva"/>
              </a:rPr>
              <a:t>“</a:t>
            </a:r>
            <a:r>
              <a:rPr b="0" lang="en-US" sz="4400" spc="-1" strike="noStrike">
                <a:solidFill>
                  <a:srgbClr val="990000"/>
                </a:solidFill>
                <a:latin typeface="Monotype Corsiva"/>
              </a:rPr>
              <a:t>A Amizade</a:t>
            </a: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780000" y="4797000"/>
            <a:ext cx="50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Monotype Corsiva"/>
              </a:rPr>
              <a:t>É a essência  da Vida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404640"/>
            <a:ext cx="36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757440" y="3141360"/>
            <a:ext cx="619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Monotype Corsiva"/>
              </a:rPr>
              <a:t>Amigos pra semp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-612720" y="5373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Para sempre Amigos, sim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7280" y="1628640"/>
            <a:ext cx="4475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571e"/>
                </a:solidFill>
                <a:latin typeface="Monotype Corsiva"/>
              </a:rPr>
              <a:t>Se Deus quiser!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Dedicado a você,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que dá sentido à minha vida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a quem eu tenho o orgulho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de poder chamar d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Amigo(a)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Se você tem uma pessoa especial em sua vida,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E pode chamá-lo de Amigo(a),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Envie essa  mensagem a ele(a).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Com certeza, o(a)  fará muito feliz!!!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E com certeza vai recebê-la de volta.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Afinal, você também é muito especial!!!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Tenha um ótimo dia!!!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Beijos..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-360" y="5013000"/>
            <a:ext cx="57243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oesia: “A Amizad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utora: Ana J.M. L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magens: Inter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úsica: Amigos pela Fé (Anjos de Resg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Monotype Corsiva"/>
              </a:rPr>
              <a:t>Flor, Perfume e Beleza..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499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É </a:t>
            </a:r>
            <a:r>
              <a:rPr b="0" lang="en-US" sz="4400" spc="-1" strike="noStrike">
                <a:solidFill>
                  <a:srgbClr val="ff9900"/>
                </a:solidFill>
                <a:latin typeface="Monotype Corsiva"/>
              </a:rPr>
              <a:t>a forma suprema de Amar,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414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É doar-se inteiramente,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Sem nada em troca esperar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408560" y="5465880"/>
            <a:ext cx="40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46560" y="549000"/>
            <a:ext cx="4897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Monotype Corsiva"/>
              </a:rPr>
              <a:t>É falar-se no silêncio,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Monotype Corsiva"/>
              </a:rPr>
              <a:t>Com a ternura</a:t>
            </a:r>
            <a:r>
              <a:rPr b="0" lang="en-US" sz="4400" spc="-1" strike="noStrike">
                <a:solidFill>
                  <a:srgbClr val="2b5481"/>
                </a:solidFill>
                <a:latin typeface="Monotype Corsiva"/>
              </a:rPr>
              <a:t>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De um olhar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É estar disposto a tudo: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Monotype Corsiva"/>
              </a:rPr>
              <a:t>De aprender,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6699"/>
                </a:solidFill>
                <a:latin typeface="Monotype Corsiva"/>
              </a:rPr>
              <a:t>     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336699"/>
                </a:solidFill>
                <a:latin typeface="Monotype Corsiva"/>
              </a:rPr>
              <a:t>                               A ensinar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2:37:10Z</dcterms:created>
  <dc:creator>andre</dc:creator>
  <dc:description/>
  <dc:language>en-US</dc:language>
  <cp:lastModifiedBy>Silvio</cp:lastModifiedBy>
  <dcterms:modified xsi:type="dcterms:W3CDTF">2008-05-20T21:37:43Z</dcterms:modified>
  <cp:revision>6</cp:revision>
  <dc:subject/>
  <dc:title>Slide 1</dc:title>
</cp:coreProperties>
</file>