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Caf%C3%A8%20Del%20Mar%20-%20Aria%203%20-%20Metamorphosis%20-%2002%20-%20Paul%20Schwartz%20-%20Furioso.wav" ContentType="audio/x-wav"/>
  <Override PartName="/ppt/media/image2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C452-CD66-4450-A413-3C34DF5BD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D412-5414-4E01-A53E-C791A61B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62CC-6AA3-4911-8CA8-52548B00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0D2B-700B-4E34-BE9B-4587F688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03D4-B877-4915-8558-CA1DB144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B7EE-EF87-4832-B4F4-0CFE6540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1AE8-B3A9-4D48-B0E5-54805C4F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B361-9548-4B7D-AE3E-3B6062FD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FB6F-1DC4-4B54-A062-6BE18402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1C6A-78B3-47B5-827A-9F7C5D59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BB83-62F8-44CB-94A4-9D665AEF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D7ED-42C1-43FC-9542-31FBA863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2FA7-51D7-4EC5-BF19-3577C6DDC1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af&#232;%20Del%20Mar%20-%20Aria%203%20-%20Metamorphosis%20-%2002%20-%20Paul%20Schwartz%20-%20Furioso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 Rectángulo" descr=""/>
          <p:cNvPicPr/>
          <p:nvPr/>
        </p:nvPicPr>
        <p:blipFill>
          <a:blip r:embed="rId1"/>
          <a:stretch/>
        </p:blipFill>
        <p:spPr>
          <a:xfrm>
            <a:off x="1243080" y="1231920"/>
            <a:ext cx="5906880" cy="1974960"/>
          </a:xfrm>
          <a:prstGeom prst="rect">
            <a:avLst/>
          </a:prstGeom>
          <a:ln w="0">
            <a:noFill/>
          </a:ln>
        </p:spPr>
      </p:pic>
      <p:pic>
        <p:nvPicPr>
          <p:cNvPr id="42" name="4 Rectángulo" descr=""/>
          <p:cNvPicPr/>
          <p:nvPr/>
        </p:nvPicPr>
        <p:blipFill>
          <a:blip r:embed="rId2"/>
          <a:stretch/>
        </p:blipFill>
        <p:spPr>
          <a:xfrm>
            <a:off x="1060560" y="3597120"/>
            <a:ext cx="6492600" cy="19749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  <p:sndAc>
      <p:stSnd>
        <p:snd r:embed="rId3" name="Caf%C3%A8%20Del%20Mar%20-%20Aria%203%20-%20Metamorphosis%20-%2002%20-%20Paul%20Schwartz%20-%20Furios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 Imagen" descr="fun_animals_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 Imagen" descr="fotos-animales-aguilas-peq.jpg"/>
          <p:cNvPicPr/>
          <p:nvPr/>
        </p:nvPicPr>
        <p:blipFill>
          <a:blip r:embed="rId1"/>
          <a:stretch/>
        </p:blipFill>
        <p:spPr>
          <a:xfrm>
            <a:off x="0" y="0"/>
            <a:ext cx="9796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 Imagen" descr="11912 AGUILA.jp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 Imagen" descr="1199458023_extras_albumes_0 CABEZ AGUILA.jpg"/>
          <p:cNvPicPr/>
          <p:nvPr/>
        </p:nvPicPr>
        <p:blipFill>
          <a:blip r:embed="rId1"/>
          <a:stretch/>
        </p:blipFill>
        <p:spPr>
          <a:xfrm>
            <a:off x="-380880" y="0"/>
            <a:ext cx="10315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3 Imagen" descr="150_misc_62090.jpg"/>
          <p:cNvPicPr/>
          <p:nvPr/>
        </p:nvPicPr>
        <p:blipFill>
          <a:blip r:embed="rId1"/>
          <a:stretch/>
        </p:blipFill>
        <p:spPr>
          <a:xfrm>
            <a:off x="0" y="0"/>
            <a:ext cx="9504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 Imagen" descr="2211312010_016bf8f18c.jpg"/>
          <p:cNvPicPr/>
          <p:nvPr/>
        </p:nvPicPr>
        <p:blipFill>
          <a:blip r:embed="rId1"/>
          <a:stretch/>
        </p:blipFill>
        <p:spPr>
          <a:xfrm>
            <a:off x="0" y="0"/>
            <a:ext cx="96105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 Imagen" descr="223355574_d87e2d71a4.jpg"/>
          <p:cNvPicPr/>
          <p:nvPr/>
        </p:nvPicPr>
        <p:blipFill>
          <a:blip r:embed="rId1"/>
          <a:stretch/>
        </p:blipFill>
        <p:spPr>
          <a:xfrm>
            <a:off x="-457200" y="0"/>
            <a:ext cx="101757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 Imagen" descr="36761.jpg"/>
          <p:cNvPicPr/>
          <p:nvPr/>
        </p:nvPicPr>
        <p:blipFill>
          <a:blip r:embed="rId1"/>
          <a:stretch/>
        </p:blipFill>
        <p:spPr>
          <a:xfrm>
            <a:off x="0" y="-228600"/>
            <a:ext cx="9680400" cy="70866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 Imagen" descr="186_misc_55042.jpg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 Imagen" descr="148_misc_45651.jpg"/>
          <p:cNvPicPr/>
          <p:nvPr/>
        </p:nvPicPr>
        <p:blipFill>
          <a:blip r:embed="rId1"/>
          <a:stretch/>
        </p:blipFill>
        <p:spPr>
          <a:xfrm>
            <a:off x="-133200" y="0"/>
            <a:ext cx="92772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 Imagen" descr="fun_animals_30.jpg"/>
          <p:cNvPicPr/>
          <p:nvPr/>
        </p:nvPicPr>
        <p:blipFill>
          <a:blip r:embed="rId1"/>
          <a:stretch/>
        </p:blipFill>
        <p:spPr>
          <a:xfrm>
            <a:off x="-380880" y="0"/>
            <a:ext cx="100296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Imagen" descr="168_misc_10969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Imagen" descr="abrazaditos_gato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1 Imagen" descr="fotos-cachorros-perros-peq.jpg"/>
          <p:cNvPicPr/>
          <p:nvPr/>
        </p:nvPicPr>
        <p:blipFill>
          <a:blip r:embed="rId1"/>
          <a:stretch/>
        </p:blipFill>
        <p:spPr>
          <a:xfrm>
            <a:off x="-457200" y="0"/>
            <a:ext cx="11430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1 Imagen" descr="gatoconcasc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 Imagen" descr="polarbear.jpg"/>
          <p:cNvPicPr/>
          <p:nvPr/>
        </p:nvPicPr>
        <p:blipFill>
          <a:blip r:embed="rId1"/>
          <a:stretch/>
        </p:blipFill>
        <p:spPr>
          <a:xfrm>
            <a:off x="-228600" y="0"/>
            <a:ext cx="98996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1 Imagen" descr="74379416.jpg"/>
          <p:cNvPicPr/>
          <p:nvPr/>
        </p:nvPicPr>
        <p:blipFill>
          <a:blip r:embed="rId1"/>
          <a:stretch/>
        </p:blipFill>
        <p:spPr>
          <a:xfrm>
            <a:off x="-9360" y="-228600"/>
            <a:ext cx="9153360" cy="70866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1 Imagen" descr="2140013039_247a74e7ee.jpg"/>
          <p:cNvPicPr/>
          <p:nvPr/>
        </p:nvPicPr>
        <p:blipFill>
          <a:blip r:embed="rId1"/>
          <a:stretch/>
        </p:blipFill>
        <p:spPr>
          <a:xfrm>
            <a:off x="-533520" y="0"/>
            <a:ext cx="102967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1 Imagen" descr="7437947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1 Rectángulo" descr=""/>
          <p:cNvPicPr/>
          <p:nvPr/>
        </p:nvPicPr>
        <p:blipFill>
          <a:blip r:embed="rId1"/>
          <a:stretch/>
        </p:blipFill>
        <p:spPr>
          <a:xfrm>
            <a:off x="42840" y="237960"/>
            <a:ext cx="8442360" cy="51516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 Imagen" descr="fun_animals_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 Imagen" descr="fun_animals_25.jpg"/>
          <p:cNvPicPr/>
          <p:nvPr/>
        </p:nvPicPr>
        <p:blipFill>
          <a:blip r:embed="rId1"/>
          <a:stretch/>
        </p:blipFill>
        <p:spPr>
          <a:xfrm>
            <a:off x="-228600" y="0"/>
            <a:ext cx="9685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Imagen" descr="fun_animals_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 Imagen" descr="fun_animals_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 Imagen" descr="74379350.jpg"/>
          <p:cNvPicPr/>
          <p:nvPr/>
        </p:nvPicPr>
        <p:blipFill>
          <a:blip r:embed="rId1"/>
          <a:stretch/>
        </p:blipFill>
        <p:spPr>
          <a:xfrm>
            <a:off x="-457200" y="0"/>
            <a:ext cx="10395000" cy="69501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 Imagen" descr="fun_animals_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2 Imagen" descr="1199457170_extras_albumes_LOB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7T16:42:05Z</dcterms:created>
  <dc:creator>ARTURO</dc:creator>
  <dc:description/>
  <dc:language>en-US</dc:language>
  <cp:lastModifiedBy>ARTURO</cp:lastModifiedBy>
  <dcterms:modified xsi:type="dcterms:W3CDTF">2008-07-03T11:18:23Z</dcterms:modified>
  <cp:revision>11</cp:revision>
  <dc:subject/>
  <dc:title>Diapositiva 1</dc:title>
</cp:coreProperties>
</file>