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FA9-E722-4DDD-9DB1-B99F005B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CF3-4533-44C3-A84A-0D06B815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1DE-771C-4A46-B624-444FE952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37C-2EE7-4D97-B46D-5586DCB2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650D-4179-4945-B42E-40CE9D9E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A09E-E868-479D-B133-E78ADD13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F0AD-2851-4259-94CC-A560602F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10CF-9B66-469C-B495-26C21AD5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A8AE-8CD4-49ED-841C-BA08D447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4CF1-1928-4662-81F6-DF338122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5966-4E1A-4AD7-9590-90972B2B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E41-8469-4311-8903-0219C4B7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D097-C479-46A4-BBD5-C4112C8D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6413-EE3C-4A22-8BF0-5767D7F5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A9AA-E715-4438-B055-F5256C29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ECFA-1213-4F6E-BD7B-D467A728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68A8-5973-442E-B764-64F018B8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630-50E6-4A93-BD77-3722C5B5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BE9-CE52-4E69-8B0E-8F11F8E7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6B0-F36A-43AB-991C-F66D1376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FE5-0FC2-4DDB-98D1-A347F1C6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062-FD13-44AA-B6D8-6D9BD285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BA8-166E-42D0-8728-5CC2DA5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134-BBE8-4728-A04B-512EDC15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7B56-6C9E-4847-9B09-845B5116E2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DB6E-E461-4B22-96DC-C1D90A2810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physical_science/chemistry/h2o2_molecule_big_gif_image.s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uroex.com.br/tabuas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268280"/>
            <a:ext cx="3749760" cy="281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268360" y="4581360"/>
            <a:ext cx="475308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18900000" blurRad="0" rotWithShape="0">
                    <a:srgbClr val="ffffff"/>
                  </a:outerShdw>
                </a:effectLst>
                <a:latin typeface="Impact"/>
              </a:rPr>
              <a:t>A ÁGUA OXIGENADA</a:t>
            </a:r>
            <a:endParaRPr b="0" lang="en-US" sz="24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189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586728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Tábuas de carne e outros utensílios são totalmente desinfetados após uso,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com um pouco de água oxigenada.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O produto mata qualquer bactéria ou germe, inclusive salmonelas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914400"/>
            <a:ext cx="2590920" cy="5029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imes New Roman"/>
              </a:rPr>
              <a:t>Passada nos pés, à noite, evita problemas de frieiras e outros fungos que causam os principais problemas nos pés, inclusive os maus odores (chulé).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48240" y="3400560"/>
            <a:ext cx="47520" cy="5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548240" y="3400560"/>
            <a:ext cx="47520" cy="56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548240" y="3400560"/>
            <a:ext cx="47520" cy="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5184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.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Passada em ferimentos (várias vezes ao dia) evita infecções e ajuda na cicatrização. Até casos de gangrena regrediram com o seu uso.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3428640"/>
            <a:ext cx="820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7.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Numa mistura meio-a-meio com água pura, pode ser pingada no nariz em resfriados e sinusites. Esperar alguns instantes e assoar o nariz. Isso mata  germes e outros microorganismos nocivo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32000" y="765000"/>
            <a:ext cx="3203640" cy="240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560" y="907920"/>
            <a:ext cx="77662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8.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  <a:ea typeface="Times New Roman"/>
              </a:rPr>
              <a:t>Um pouco de água oxigenada na água do banho combate micoses e fungos e ajuda a manter a pele saudáve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Bruxa1.jpg"/>
          <p:cNvPicPr/>
          <p:nvPr/>
        </p:nvPicPr>
        <p:blipFill>
          <a:blip r:embed="rId1"/>
          <a:stretch/>
        </p:blipFill>
        <p:spPr>
          <a:xfrm>
            <a:off x="2556000" y="2492280"/>
            <a:ext cx="4114800" cy="3749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82090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ahoma"/>
              </a:rPr>
              <a:t>9.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ahoma"/>
                <a:ea typeface="Times New Roman"/>
              </a:rPr>
              <a:t>Roupas que precisam de desinfecção (lençóis, fraldas etc.) ou aquelas em contato com secreções corporais e sangue, podem ser totalmente desinfetadas se ficarem de molho numa solução contendo água oxigenada antes da lavagem norm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132000" y="3429000"/>
            <a:ext cx="2405160" cy="2452680"/>
            <a:chOff x="3132000" y="3429000"/>
            <a:chExt cx="2405160" cy="245268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3162240" y="3443400"/>
              <a:ext cx="2374920" cy="243828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3132000" y="3429000"/>
              <a:ext cx="2376720" cy="2421000"/>
            </a:xfrm>
            <a:prstGeom prst="rect">
              <a:avLst/>
            </a:prstGeom>
            <a:noFill/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1268280"/>
            <a:ext cx="74995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10. Certamente você encontrará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formas de usar a água oxigenada 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sua c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03640" y="2924280"/>
            <a:ext cx="3024000" cy="2778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2565360"/>
            <a:ext cx="883908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b00047"/>
                </a:solidFill>
                <a:latin typeface="Tahoma"/>
              </a:rPr>
              <a:t>Realização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b00047"/>
                </a:solidFill>
                <a:latin typeface="Tahoma"/>
              </a:rPr>
              <a:t>Mon Ville Alimentação Lt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21607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Você acha                                a Água Oxigenada                sem muita utilidad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3716280"/>
            <a:ext cx="7201080" cy="123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ois então, surpreenda-s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3276720" y="163440"/>
            <a:ext cx="2590560" cy="1679760"/>
            <a:chOff x="3276720" y="163440"/>
            <a:chExt cx="2590560" cy="1679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3564000" y="163440"/>
              <a:ext cx="2133360" cy="16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276720" y="1808280"/>
              <a:ext cx="2590560" cy="0"/>
            </a:xfrm>
            <a:prstGeom prst="line">
              <a:avLst/>
            </a:prstGeom>
            <a:ln w="7632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31640" y="2436840"/>
            <a:ext cx="82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  <a:ea typeface="Times New Roman"/>
              </a:rPr>
              <a:t>A Água Oxigenada foi desenvolvida na década de 1920 por cientistas, com o objetivo de conter problemas de infecções e gangrena em soldados em frentes de batalhas. Na Segunda Guerra Mundial diminuiu o número de amputaçõ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914480"/>
            <a:ext cx="8305920" cy="464832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bjetivo da inven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ácil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ácil Armaze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ácil Uti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m Efeitos Colater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18680" y="1277640"/>
            <a:ext cx="6782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Tahoma"/>
                <a:ea typeface="Times New Roman"/>
              </a:rPr>
              <a:t>Numa solução a 3%, é um dos mais potentes desinfetantes que exi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Tahoma"/>
                <a:ea typeface="Times New Roman"/>
              </a:rPr>
              <a:t>Por que é tão pouco divulgad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319040" y="4446720"/>
            <a:ext cx="670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Verdana"/>
                <a:ea typeface="Times New Roman"/>
              </a:rPr>
              <a:t>Não dá lucr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Tahoma"/>
              </a:rPr>
              <a:t>Por que não é divulgada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49200" y="2133720"/>
            <a:ext cx="2459160" cy="609480"/>
          </a:xfrm>
          <a:prstGeom prst="flowChartAlternateProcess">
            <a:avLst/>
          </a:prstGeom>
          <a:solidFill>
            <a:srgbClr val="00e4a8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Ba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124080"/>
            <a:ext cx="2529000" cy="533520"/>
          </a:xfrm>
          <a:prstGeom prst="flowChartAlternateProcess">
            <a:avLst/>
          </a:prstGeom>
          <a:solidFill>
            <a:srgbClr val="00e4a8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Simples de u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8280" y="4365720"/>
            <a:ext cx="3124080" cy="685800"/>
          </a:xfrm>
          <a:prstGeom prst="flowChartAlternateProcess">
            <a:avLst/>
          </a:prstGeom>
          <a:solidFill>
            <a:srgbClr val="00e4a8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Fácil armaze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753160"/>
            <a:ext cx="5181840" cy="685800"/>
          </a:xfrm>
          <a:prstGeom prst="flowChartAlternateProcess">
            <a:avLst/>
          </a:prstGeom>
          <a:solidFill>
            <a:srgbClr val="00e4a8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Pode ser utilizada para muitos f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95840" y="2506680"/>
            <a:ext cx="4419720" cy="2743200"/>
          </a:xfrm>
          <a:prstGeom prst="flowChartPreparation">
            <a:avLst/>
          </a:prstGeom>
          <a:solidFill>
            <a:srgbClr val="00e4a8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ompetição 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Produtos desenvolv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por farmacêu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e indústri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desinfetantes domés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e  hospitala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438280"/>
            <a:ext cx="1828800" cy="1447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751200" y="3903840"/>
            <a:ext cx="914400" cy="1828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3429000"/>
            <a:ext cx="175284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492360" y="3885840"/>
            <a:ext cx="1155960" cy="911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1125000"/>
            <a:ext cx="7143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A eficácia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doméstica da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Água Oxigenada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280" y="2276280"/>
            <a:ext cx="807732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Uma colher de sobremesa do produto usada para bochechos e mantido na boca por alguns minutos, mata todos os germes bucais, branqueando os dentes! Cuspir após o bochech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511360" cy="2289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13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2. Manter escovas de dentes numa solução de água oxigenada conserva as escovas livres de germes que causam gengivite e outros problemas bucai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56000" y="3645000"/>
            <a:ext cx="3886200" cy="2514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00000" y="2276280"/>
            <a:ext cx="739152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Verdana"/>
                <a:ea typeface="Times New Roman"/>
              </a:rPr>
              <a:t>Um pouco de água oxigenada num pano desinfeta superfícies melhor do que qualquer outro produto. Excelente para usar em cozinhas e banheiros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08360" y="33336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5:13:32Z</dcterms:created>
  <dc:creator>Particular</dc:creator>
  <dc:description/>
  <dc:language>en-US</dc:language>
  <cp:lastModifiedBy>Particular</cp:lastModifiedBy>
  <dcterms:modified xsi:type="dcterms:W3CDTF">2007-03-05T16:09:24Z</dcterms:modified>
  <cp:revision>2</cp:revision>
  <dc:subject/>
  <dc:title>Slide 1</dc:title>
</cp:coreProperties>
</file>