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24B-FC6E-4745-8CB1-01A6047C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393-9DB3-4376-B235-7DB87D4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1F6-1C01-4BA2-82C2-61A3AC99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9F8-EF6F-4FE1-BFC2-D2D051D9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EB14-125A-491A-AB07-8C8FB9BF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D8E-3DE3-4978-9E93-F8C9E519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9700-9CCC-4DAF-BFA2-0EA36460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D16-3363-4209-817D-0F22ACC4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F72F-35DA-4114-A2F9-06099A6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9F1-42F9-4795-B3AB-7D9E89F6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8DD5-D745-443C-B165-65D463F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56D-EA10-4736-97AC-7C54EF7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8B6-42F3-4703-AA04-1734D14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6C1D-8B76-4486-9AE2-AA372C62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E95-91F6-4C42-999E-4E39F1E9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0DF9-27D2-4991-A52E-D5E0DCF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762-CEDF-4829-BDC6-7E7083E8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81C-F6AD-44B9-AE5F-963CD85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26B-4A7C-4FE3-A64A-08BB2B2F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85E-8C0A-47D0-BE64-4A153830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376-BCE4-4715-8127-664ADE5B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07E-8A90-4446-8EB9-2034CF7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9B9-7920-4691-A6C4-C9C658D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4E8-5E9F-4CCB-BBF6-66631199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DB3B-DA21-4AD8-82D8-67F4EDFBC8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BDC5-C013-4073-9698-780D514D1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physical_science/chemistry/h2o2_molecule_big_gif_image.s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ex.com.br/tabuas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26828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268360" y="4581360"/>
            <a:ext cx="475308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18900000" blurRad="0" rotWithShape="0">
                    <a:srgbClr val="ffffff"/>
                  </a:outerShdw>
                </a:effectLst>
                <a:latin typeface="Impact"/>
              </a:rPr>
              <a:t>A ÁGUA OXIGENADA</a:t>
            </a:r>
            <a:endParaRPr b="0" lang="en-US" sz="24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189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586728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Tábuas de carne e outros utensílios são totalmente desinfetados após uso,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com um pouco de água oxigenada.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O produto mata qualquer bactéria ou germe, inclusive salmonela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914400"/>
            <a:ext cx="2590920" cy="5029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imes New Roman"/>
              </a:rPr>
              <a:t>Passada nos pés, à noite, evita problemas de frieiras e outros fungos que causam os principais problemas nos pés, inclusive os maus odores (chulé).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48240" y="3400560"/>
            <a:ext cx="47520" cy="5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48240" y="3400560"/>
            <a:ext cx="47520" cy="56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48240" y="3400560"/>
            <a:ext cx="47520" cy="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5184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.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Passada em ferimentos (várias vezes ao dia) evita infecções e ajuda na cicatrização. Até casos de gangrena regrediram com o seu uso.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3428640"/>
            <a:ext cx="820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7.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Numa mistura meio-a-meio com água pura, pode ser pingada no nariz em resfriados e sinusites. Esperar alguns instantes e assoar o nariz. Isso mata  germes e outros microorganismos nocivo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32000" y="765000"/>
            <a:ext cx="3203640" cy="24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907920"/>
            <a:ext cx="7766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8.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Um pouco de água oxigenada na água do banho combate micoses e fungos e ajuda a manter a pele saudáve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Bruxa1.jpg"/>
          <p:cNvPicPr/>
          <p:nvPr/>
        </p:nvPicPr>
        <p:blipFill>
          <a:blip r:embed="rId1"/>
          <a:stretch/>
        </p:blipFill>
        <p:spPr>
          <a:xfrm>
            <a:off x="2556000" y="2492280"/>
            <a:ext cx="4114800" cy="3749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20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ahoma"/>
              </a:rPr>
              <a:t>9.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ahoma"/>
                <a:ea typeface="Times New Roman"/>
              </a:rPr>
              <a:t>Roupas que precisam de desinfecção (lençóis, fraldas etc.) ou aquelas em contato com secreções corporais e sangue, podem ser totalmente desinfetadas se ficarem de molho numa solução contendo água oxigenada antes da lavagem norm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132000" y="3429000"/>
            <a:ext cx="2405160" cy="2452680"/>
            <a:chOff x="3132000" y="3429000"/>
            <a:chExt cx="2405160" cy="245268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162240" y="3443400"/>
              <a:ext cx="2374920" cy="24382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3132000" y="3429000"/>
              <a:ext cx="2376720" cy="2421000"/>
            </a:xfrm>
            <a:prstGeom prst="rect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268280"/>
            <a:ext cx="74995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10. Certamente você encontrará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formas de usar a água oxigenada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sua c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3024000" cy="2778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2565360"/>
            <a:ext cx="88390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b00047"/>
                </a:solidFill>
                <a:latin typeface="Tahoma"/>
              </a:rPr>
              <a:t>Realização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b00047"/>
                </a:solidFill>
                <a:latin typeface="Tahoma"/>
              </a:rPr>
              <a:t>Mon Ville Alimentação Lt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21607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Você acha                                a Água Oxigenada                sem muita utilidad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716280"/>
            <a:ext cx="7201080" cy="12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ois então, surpreenda-s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276720" y="163440"/>
            <a:ext cx="2590560" cy="1679760"/>
            <a:chOff x="3276720" y="163440"/>
            <a:chExt cx="2590560" cy="1679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564000" y="163440"/>
              <a:ext cx="2133360" cy="16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76720" y="1808280"/>
              <a:ext cx="2590560" cy="0"/>
            </a:xfrm>
            <a:prstGeom prst="line">
              <a:avLst/>
            </a:prstGeom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31640" y="2436840"/>
            <a:ext cx="82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  <a:ea typeface="Times New Roman"/>
              </a:rPr>
              <a:t>A Água Oxigenada foi desenvolvida na década de 1920 por cientistas, com o objetivo de conter problemas de infecções e gangrena em soldados em frentes de batalhas. Na Segunda Guerra Mundial diminuiu o número de amputaçõ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914480"/>
            <a:ext cx="8305920" cy="464832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tivo da inven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ácil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ácil Armaze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ácil Uti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 Efeitos Colate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18680" y="1277640"/>
            <a:ext cx="6782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Numa solução a 3%, é um dos mais potentes desinfetantes que exi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ahoma"/>
                <a:ea typeface="Times New Roman"/>
              </a:rPr>
              <a:t>Por que é tão pouco divulg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19040" y="444672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Verdana"/>
                <a:ea typeface="Times New Roman"/>
              </a:rPr>
              <a:t>Não dá lucr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ahoma"/>
              </a:rPr>
              <a:t>Por que não é divulgad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49200" y="2133720"/>
            <a:ext cx="2459160" cy="60948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B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124080"/>
            <a:ext cx="2529000" cy="53352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Simples de u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280" y="4365720"/>
            <a:ext cx="3124080" cy="68580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Fácil armaze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53160"/>
            <a:ext cx="5181840" cy="685800"/>
          </a:xfrm>
          <a:prstGeom prst="flowChartAlternateProcess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ode ser utilizada para muito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95840" y="2506680"/>
            <a:ext cx="4419720" cy="2743200"/>
          </a:xfrm>
          <a:prstGeom prst="flowChartPreparation">
            <a:avLst/>
          </a:prstGeom>
          <a:solidFill>
            <a:srgbClr val="00e4a8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mpetição 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rodutos desenvolv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or farmacêu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e indústri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infetantes domé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e  hospita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438280"/>
            <a:ext cx="1828800" cy="144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51200" y="3903840"/>
            <a:ext cx="91440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429000"/>
            <a:ext cx="175284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492360" y="3885840"/>
            <a:ext cx="1155960" cy="911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1125000"/>
            <a:ext cx="7143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A eficáci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doméstica d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Água Oxigenada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807732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Uma colher de sobremesa do produto usada para bochechos e mantido na boca por alguns minutos, mata todos os germes bucais, branqueando os dentes! Cuspir após o bochec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1360" cy="2289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2. Manter escovas de dentes numa solução de água oxigenada conserva as escovas livres de germes que causam gengivite e outros problemas buca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3915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Um pouco de água oxigenada num pano desinfeta superfícies melhor do que qualquer outro produto. Excelente para usar em cozinhas e banheiro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5:13:32Z</dcterms:created>
  <dc:creator>Particular</dc:creator>
  <dc:description/>
  <dc:language>en-US</dc:language>
  <cp:lastModifiedBy>Particular</cp:lastModifiedBy>
  <dcterms:modified xsi:type="dcterms:W3CDTF">2007-03-05T16:09:24Z</dcterms:modified>
  <cp:revision>2</cp:revision>
  <dc:subject/>
  <dc:title>Slide 1</dc:title>
</cp:coreProperties>
</file>