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Allanis%20Morriset%20-%20%20Cidade%20dos%20Anjos%201.37%20cut%20lind%C3%ADssima.wav" ContentType="audio/x-wav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5EF3-64C3-404B-9A2A-EC713681E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B8F4-C4F1-451E-B85E-E1C30432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F6C3-3C6F-4F52-8F9E-0412C1FD5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61F7-F065-4FB1-B050-1D6C209A0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F84A-842B-4372-B683-FCDB138E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1F94-CCD8-4A1C-9E20-D796F68B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291A-6364-41AF-8C51-42DCE639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B6B3-F266-4599-99AC-271B6D85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6C2D-A8AA-4B78-839C-C3238E96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5643-322D-47CB-BDD3-7612E8D5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75FE-F220-411D-96C6-E0432973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47A5-6DB8-4DCD-AB21-3C40EB43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8873-6F4A-493D-8A44-621C02B54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llanis%20Morriset%20-%20%20Cidade%20dos%20Anjos%201.37%20cut%20lind&#237;ssim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bk1_62" descr=""/>
          <p:cNvPicPr/>
          <p:nvPr/>
        </p:nvPicPr>
        <p:blipFill>
          <a:blip r:embed="rId1"/>
          <a:stretch/>
        </p:blipFill>
        <p:spPr>
          <a:xfrm>
            <a:off x="0" y="-1447920"/>
            <a:ext cx="9144000" cy="9306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19520" y="457200"/>
            <a:ext cx="35812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Garamond"/>
              </a:rPr>
              <a:t>Acas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3962520"/>
            <a:ext cx="769608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Garamond"/>
                <a:ea typeface="Times New Roman"/>
              </a:rPr>
              <a:t>Ninguém conhece alguém por acaso, nada nesta vida acontece por acaso.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  <p:sndAc>
      <p:stSnd>
        <p:snd r:embed="rId2" name="Allanis%20Morriset%20-%20%20Cidade%20dos%20Anjos%201.37%20cut%20lind%C3%ADssim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200010981-001" descr=""/>
          <p:cNvPicPr/>
          <p:nvPr/>
        </p:nvPicPr>
        <p:blipFill>
          <a:blip r:embed="rId1"/>
          <a:stretch/>
        </p:blipFill>
        <p:spPr>
          <a:xfrm>
            <a:off x="0" y="-1606680"/>
            <a:ext cx="9144000" cy="8464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8600" y="0"/>
            <a:ext cx="8534520" cy="1161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Garamond"/>
                <a:ea typeface="Times New Roman"/>
              </a:rPr>
              <a:t>Observe sua vida, comece a recordar todas as pessoas que já passaram por você e o que cada uma deixou. Você estará buscando a sua própria identidade, que foi sendo construída aos poucos,de momentos que aconteceram na sua vida,e que até hoje interferem em seu caminho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10024941" descr=""/>
          <p:cNvPicPr/>
          <p:nvPr/>
        </p:nvPicPr>
        <p:blipFill>
          <a:blip r:embed="rId1"/>
          <a:stretch/>
        </p:blipFill>
        <p:spPr>
          <a:xfrm>
            <a:off x="-533520" y="0"/>
            <a:ext cx="10134720" cy="7543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265428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5400" spc="-1" strike="noStrike">
                <a:solidFill>
                  <a:srgbClr val="000000"/>
                </a:solidFill>
                <a:latin typeface="Garamond"/>
                <a:ea typeface="Times New Roman"/>
              </a:rPr>
              <a:t>Quando sentir que alguém não lhe agrada,dê uma segunda chance de conhecê-lo melhor, você poderá ter muitas surpresas cedendo mais uma oportunidade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1015847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22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80880" y="3048120"/>
            <a:ext cx="84582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Garamond"/>
                <a:ea typeface="Times New Roman"/>
              </a:rPr>
              <a:t>Quando sentir que alguém é especial para você, diga a ele o que sente e terá feito um momento de felicidade na vida de alguém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595602-001" descr=""/>
          <p:cNvPicPr/>
          <p:nvPr/>
        </p:nvPicPr>
        <p:blipFill>
          <a:blip r:embed="rId1"/>
          <a:stretch/>
        </p:blipFill>
        <p:spPr>
          <a:xfrm>
            <a:off x="0" y="-2057400"/>
            <a:ext cx="9144000" cy="9601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7200" y="3962520"/>
            <a:ext cx="830592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Garamond"/>
                <a:ea typeface="Times New Roman"/>
              </a:rPr>
              <a:t>Não deixe para fazer as coisas amanhã, poderá ser tarde demais</a:t>
            </a:r>
            <a:br>
              <a:rPr sz="5400"/>
            </a:br>
            <a:r>
              <a:rPr b="0" i="1" lang="en-US" sz="5400" spc="-1" strike="noStrike">
                <a:solidFill>
                  <a:srgbClr val="000000"/>
                </a:solidFill>
                <a:latin typeface="Garamond"/>
                <a:ea typeface="Times New Roman"/>
              </a:rPr>
              <a:t>Faça hoje tudo o que tiver vontade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200024138-001" descr=""/>
          <p:cNvPicPr/>
          <p:nvPr/>
        </p:nvPicPr>
        <p:blipFill>
          <a:blip r:embed="rId1"/>
          <a:stretch/>
        </p:blipFill>
        <p:spPr>
          <a:xfrm>
            <a:off x="0" y="-914400"/>
            <a:ext cx="9144000" cy="7772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066680" y="3657600"/>
            <a:ext cx="75438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Garamond"/>
                <a:ea typeface="Times New Roman"/>
              </a:rPr>
              <a:t>Se estiver amando, ame pra valer,viva cada minuto deste amor sem medir esforços.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10178867" descr=""/>
          <p:cNvPicPr/>
          <p:nvPr/>
        </p:nvPicPr>
        <p:blipFill>
          <a:blip r:embed="rId1"/>
          <a:stretch/>
        </p:blipFill>
        <p:spPr>
          <a:xfrm>
            <a:off x="-685800" y="0"/>
            <a:ext cx="10439280" cy="6867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04920" y="4038480"/>
            <a:ext cx="861048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Garamond"/>
                <a:ea typeface="Times New Roman"/>
              </a:rPr>
              <a:t>Sopre aos ventos os seus sonhos,eles irão se espalhar e voltar a você em forma de realidad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200068244-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28600" y="304920"/>
            <a:ext cx="838188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Garamond"/>
                <a:ea typeface="Times New Roman"/>
              </a:rPr>
              <a:t>Preste bastante atenção em todas as pessoas, elas poderão estar trazendo a sua tão esperada  </a:t>
            </a:r>
            <a:r>
              <a:rPr b="1" i="1" lang="en-US" sz="5400" spc="-1" strike="noStrike">
                <a:solidFill>
                  <a:srgbClr val="000000"/>
                </a:solidFill>
                <a:latin typeface="Garamond"/>
                <a:ea typeface="Times New Roman"/>
              </a:rPr>
              <a:t>FELICIDAD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91120" y="5410080"/>
            <a:ext cx="3044880" cy="13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Garamond"/>
              </a:rPr>
              <a:t>Noelson Pa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Garamond"/>
              </a:rPr>
              <a:t>noelsonpaim@uol.com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00473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472428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Garamond"/>
                <a:ea typeface="Times New Roman"/>
              </a:rPr>
              <a:t>Ninguém chega até nós </a:t>
            </a:r>
            <a:br>
              <a:rPr sz="5400"/>
            </a:br>
            <a:r>
              <a:rPr b="0" i="1" lang="en-US" sz="5400" spc="-1" strike="noStrike">
                <a:solidFill>
                  <a:srgbClr val="000000"/>
                </a:solidFill>
                <a:latin typeface="Garamond"/>
                <a:ea typeface="Times New Roman"/>
              </a:rPr>
              <a:t>por um simples acaso.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015845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880" y="457200"/>
            <a:ext cx="876312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r>
              <a:rPr b="0" i="1" lang="en-US" sz="5400" spc="-1" strike="noStrike">
                <a:solidFill>
                  <a:srgbClr val="000000"/>
                </a:solidFill>
                <a:latin typeface="Garamond"/>
                <a:ea typeface="Times New Roman"/>
              </a:rPr>
              <a:t>" As pessoas não se encontram por acaso, nem permanecem em nossa vida por causa desse simples acaso"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2960" y="5410080"/>
            <a:ext cx="805824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Garamond"/>
                <a:ea typeface="Times New Roman"/>
              </a:rPr>
              <a:t>" O  Destino de cada um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76800" y="4456080"/>
            <a:ext cx="38412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nse niss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015846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380880"/>
            <a:ext cx="8382240" cy="832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Garamond"/>
                <a:ea typeface="Times New Roman"/>
              </a:rPr>
              <a:t>Passamos por momentos de plena felicidade em nossa vida Momentos que nos marcam de uma forma surpreendente e nos transformam, nos comovem, nos ensinam e muitas vezes, nos machucam profundamente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0047321" descr="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304920"/>
            <a:ext cx="9144000" cy="256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Garamond"/>
                <a:ea typeface="Times New Roman"/>
              </a:rPr>
              <a:t>As pessoas que entram em nossa vida,  sempre entram por algum propósito.</a:t>
            </a:r>
            <a:r>
              <a:rPr b="0" i="1" lang="en-US" sz="5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572000"/>
            <a:ext cx="8381880" cy="256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Garamond"/>
                <a:ea typeface="Times New Roman"/>
              </a:rPr>
              <a:t>Elas nos encontram ou nós as encontramos  meio que sem querer.</a:t>
            </a:r>
            <a:r>
              <a:rPr b="0" lang="en-US" sz="44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318504-0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" y="3124080"/>
            <a:ext cx="84582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Garamond"/>
                <a:ea typeface="Times New Roman"/>
              </a:rPr>
              <a:t>Assim, tudo o que podemos pensar é que existe um destino,  em que cada um encontra aquilo que é importante para si mesmo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597096-001" descr=""/>
          <p:cNvPicPr/>
          <p:nvPr/>
        </p:nvPicPr>
        <p:blipFill>
          <a:blip r:embed="rId1"/>
          <a:stretch/>
        </p:blipFill>
        <p:spPr>
          <a:xfrm>
            <a:off x="0" y="-1752480"/>
            <a:ext cx="9144000" cy="10667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2209680"/>
            <a:ext cx="9144000" cy="585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Garamond"/>
                <a:ea typeface="Times New Roman"/>
              </a:rPr>
              <a:t>Ainda que a pessoa que entrou em nossa vida, aparentemente, não nos ofereça nada, mas ela não entrou por acaso, não está passando por nós apenas por passar.</a:t>
            </a:r>
            <a:r>
              <a:rPr b="0" lang="en-US" sz="5400" spc="-1" strike="noStrike">
                <a:solidFill>
                  <a:srgbClr val="ffffff"/>
                </a:solidFill>
                <a:latin typeface="Garamond"/>
                <a:ea typeface="Times New Roman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1019558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6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8600" y="2362320"/>
            <a:ext cx="8915400" cy="585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5400" spc="-1" strike="noStrike">
                <a:solidFill>
                  <a:srgbClr val="000000"/>
                </a:solidFill>
                <a:latin typeface="Garamond"/>
                <a:ea typeface="Times New Roman"/>
              </a:rPr>
              <a:t>Conhecer a alma significa conhecer o que as pessoas sentem, o que elas realmente desejam de nós, pois só assim é que poderemos tê-las por inteiro em nossa vid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200028996-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87200"/>
            <a:ext cx="8763120" cy="914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Garamond"/>
                <a:ea typeface="Times New Roman"/>
              </a:rPr>
              <a:t>A amizade é algo que importa muito na vida e sem esse vínculo nós não teremos harmonia nem paz. Precisamos de amigos para nos ensinar, nos alegrar e também para cumprirmos nossa maior missão: </a:t>
            </a:r>
            <a:br>
              <a:rPr sz="5400"/>
            </a:br>
            <a:r>
              <a:rPr b="0" i="1" lang="en-US" sz="5400" spc="-1" strike="noStrike">
                <a:solidFill>
                  <a:srgbClr val="000000"/>
                </a:solidFill>
                <a:latin typeface="Garamond"/>
                <a:ea typeface="Times New Roman"/>
              </a:rPr>
              <a:t>"Amar ao próximo como a si mesmo"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5T21:07:42Z</dcterms:created>
  <dc:creator>TANIRAMA</dc:creator>
  <dc:description/>
  <dc:language>en-US</dc:language>
  <cp:lastModifiedBy>Noelson</cp:lastModifiedBy>
  <dcterms:modified xsi:type="dcterms:W3CDTF">2004-01-22T04:10:54Z</dcterms:modified>
  <cp:revision>4</cp:revision>
  <dc:subject/>
  <dc:title>ACASO</dc:title>
</cp:coreProperties>
</file>