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Allanis%20Morriset%20-%20%20Cidade%20dos%20Anjos%201.37%20cut%20lind%C3%ADssima.wav" ContentType="audio/x-wav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039-08DF-4412-AC8B-D6A7CA1A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BFA-97CB-4EEC-AEE5-C7BF5AED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46F-E4B4-474F-A72E-D5547298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3F2-FB1B-4A35-B3B8-F2AABE00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3CA-BC1D-4F17-8F60-28D12707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324-1437-4AE1-B77A-0B51F7C6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BA9-5D30-4432-B5D3-A9CF6AE3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059-35A3-43E9-8632-7F248C84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558-3FA3-4248-BED7-2CA76813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6EC-DCFA-480D-AA6F-73A7089D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FFD-F4B1-4B25-BB69-28DA4F4E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9C3-044F-459F-803D-DFB4A412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00A9-9900-4C8B-857B-BD804CAC9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lanis%20Morriset%20-%20%20Cidade%20dos%20Anjos%201.37%20cut%20lind&#237;ssim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bk1_62" descr=""/>
          <p:cNvPicPr/>
          <p:nvPr/>
        </p:nvPicPr>
        <p:blipFill>
          <a:blip r:embed="rId1"/>
          <a:stretch/>
        </p:blipFill>
        <p:spPr>
          <a:xfrm>
            <a:off x="0" y="-1447920"/>
            <a:ext cx="9144000" cy="930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457200"/>
            <a:ext cx="3581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Garamond"/>
              </a:rPr>
              <a:t>Acas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962520"/>
            <a:ext cx="76960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Ninguém conhece alguém por acaso, nada nesta vida acontece por acaso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2" name="Allanis%20Morriset%20-%20%20Cidade%20dos%20Anjos%201.37%20cut%20lind%C3%ADssim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00010981-001" descr=""/>
          <p:cNvPicPr/>
          <p:nvPr/>
        </p:nvPicPr>
        <p:blipFill>
          <a:blip r:embed="rId1"/>
          <a:stretch/>
        </p:blipFill>
        <p:spPr>
          <a:xfrm>
            <a:off x="0" y="-1606680"/>
            <a:ext cx="9144000" cy="8464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0"/>
            <a:ext cx="853452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erve sua vida, comece a recordar todas as pessoas que já passaram por você e o que cada uma deixou. Você estará buscando a sua própria identidade, que foi sendo construída aos poucos,de momentos que aconteceram na sua vida,e que até hoje interferem em seu caminho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0024941" descr=""/>
          <p:cNvPicPr/>
          <p:nvPr/>
        </p:nvPicPr>
        <p:blipFill>
          <a:blip r:embed="rId1"/>
          <a:stretch/>
        </p:blipFill>
        <p:spPr>
          <a:xfrm>
            <a:off x="-533520" y="0"/>
            <a:ext cx="10134720" cy="7543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654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Quando sentir que alguém não lhe agrada,dê uma segunda chance de conhecê-lo melhor, você poderá ter muitas surpresas cedendo mais uma oportunidad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015847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22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3048120"/>
            <a:ext cx="84582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Quando sentir que alguém é especial para você, diga a ele o que sente e terá feito um momento de felicidade na vida de alguém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595602-001" descr=""/>
          <p:cNvPicPr/>
          <p:nvPr/>
        </p:nvPicPr>
        <p:blipFill>
          <a:blip r:embed="rId1"/>
          <a:stretch/>
        </p:blipFill>
        <p:spPr>
          <a:xfrm>
            <a:off x="0" y="-2057400"/>
            <a:ext cx="9144000" cy="9601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3962520"/>
            <a:ext cx="830592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Não deixe para fazer as coisas amanhã, poderá ser tarde demais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Faça hoje tudo o que tiver vontad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200024138-001" descr="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3657600"/>
            <a:ext cx="75438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Se estiver amando, ame pra valer,viva cada minuto deste amor sem medir esforços.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0178867" descr=""/>
          <p:cNvPicPr/>
          <p:nvPr/>
        </p:nvPicPr>
        <p:blipFill>
          <a:blip r:embed="rId1"/>
          <a:stretch/>
        </p:blipFill>
        <p:spPr>
          <a:xfrm>
            <a:off x="-685800" y="0"/>
            <a:ext cx="10439280" cy="6867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4038480"/>
            <a:ext cx="86104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Sopre aos ventos os seus sonhos,eles irão se espalhar e voltar a você em forma de realida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200068244-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304920"/>
            <a:ext cx="83818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Preste bastante atenção em todas as pessoas, elas poderão estar trazendo a sua tão esperada  </a:t>
            </a:r>
            <a:r>
              <a:rPr b="1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FELICIDA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5410080"/>
            <a:ext cx="3044880" cy="13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Garamond"/>
              </a:rPr>
              <a:t>Noelson Pa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Garamond"/>
              </a:rPr>
              <a:t>noelsonpaim@uol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00473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724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Ninguém chega até nós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por um simples acaso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1584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457200"/>
            <a:ext cx="876312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" As pessoas não se encontram por acaso, nem permanecem em nossa vida por causa desse simples acaso"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2960" y="5410080"/>
            <a:ext cx="80582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" O  Destino de cada um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76800" y="4456080"/>
            <a:ext cx="3841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nse nis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1584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380880"/>
            <a:ext cx="8382240" cy="83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Passamos por momentos de plena felicidade em nossa vida Momentos que nos marcam de uma forma surpreendente e nos transformam, nos comovem, nos ensinam e muitas vezes, nos machucam profundament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0047321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049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As pessoas que entram em nossa vida,  sempre entram por algum propósito.</a:t>
            </a:r>
            <a:r>
              <a:rPr b="0" i="1" lang="en-US" sz="5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572000"/>
            <a:ext cx="838188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as nos encontram ou nós as encontramos  meio que sem querer.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18504-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3124080"/>
            <a:ext cx="84582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Assim, tudo o que podemos pensar é que existe um destino,  em que cada um encontra aquilo que é importante para si mesmo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597096-001" descr=""/>
          <p:cNvPicPr/>
          <p:nvPr/>
        </p:nvPicPr>
        <p:blipFill>
          <a:blip r:embed="rId1"/>
          <a:stretch/>
        </p:blipFill>
        <p:spPr>
          <a:xfrm>
            <a:off x="0" y="-1752480"/>
            <a:ext cx="9144000" cy="1066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22096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Ainda que a pessoa que entrou em nossa vida, aparentemente, não nos ofereça nada, mas ela não entrou por acaso, não está passando por nós apenas por passar.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019558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6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2362320"/>
            <a:ext cx="89154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hecer a alma significa conhecer o que as pessoas sentem, o que elas realmente desejam de nós, pois só assim é que poderemos tê-las por inteiro em nossa vid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00028996-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87200"/>
            <a:ext cx="8763120" cy="914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amizade é algo que importa muito na vida e sem esse vínculo nós não teremos harmonia nem paz. Precisamos de amigos para nos ensinar, nos alegrar e também para cumprirmos nossa maior missão: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"Amar ao próximo como a si mesmo"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21:07:42Z</dcterms:created>
  <dc:creator>TANIRAMA</dc:creator>
  <dc:description/>
  <dc:language>en-US</dc:language>
  <cp:lastModifiedBy>Noelson</cp:lastModifiedBy>
  <dcterms:modified xsi:type="dcterms:W3CDTF">2004-01-22T04:10:54Z</dcterms:modified>
  <cp:revision>4</cp:revision>
  <dc:subject/>
  <dc:title>ACASO</dc:title>
</cp:coreProperties>
</file>