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the_e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3AD-B486-41A3-B573-F015B1C6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844-AED1-467C-9DFC-D3095A1B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15F-D633-4FF3-B29C-75F9210D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64F-A538-4DF8-B62D-9D814939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57B-1DF7-4FC7-9562-B957453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FF5-7FD5-4237-B439-AA9D16AE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29D-4476-4418-A746-4C3A6180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2B8-C668-4D37-AA08-9DE0350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393-2EC1-4B15-A8DC-0AA71315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55E-B4EA-48A1-A0B8-88B7F9D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9B0-AECB-495F-932B-EC3F4CE8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C35-2DDF-4635-A4D4-A94B939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ADB-F7E6-49D4-86C4-C0FCCCA9C9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he_end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05740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Entre - falou DEUS. Então, você gostaria de me entrevist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Se tiver um tempinho, disse e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207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ccff"/>
                </a:solidFill>
                <a:latin typeface="Comic Sans MS"/>
              </a:rPr>
              <a:t>Sonhei que tinha marcado uma entrevista com DEU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381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DEUS sorriu e falo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Meu tempo é eterno, suficiente para fazer todas as coisas; Que perguntas você tem em 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the_e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051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mic Sans MS"/>
              </a:rPr>
              <a:t>DEUS responde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se aborreçam de ser crianças e queiram logo crescer e aí, desejam ser crianças outra v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desperdicem a saúde para fazer dinheiro e aí percam dinheiro para restaurar a saú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0492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O que mais o surpreende na humanidad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erguntei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vivam como se nunca fossem morrer e que morram como se nunca tivessem viv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pensem ansiosamente sobre o futuro, esqueçam o presente e, dessa forma não vivam nem o presente, nem o futu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9528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m seguida, a mão de DEUS segurou a minha e por um instante ficamos silencioso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ntão eu pergunte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- PAI, quais são as lições de vida que deseja que seus filhos aprend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286000"/>
            <a:ext cx="8305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Com um sorriso DEUS responde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podem fazer com que alguém os ame. O certo é  se deixar am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o mais valioso não é o que se tem na vida, mas QUEM se tem na v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é bom se compararem uns com os outros.Por que todos serão julgados individualmente sobre seus próprios mér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6668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uma pessoa rica não é a que tem mais, mas a que precisa me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956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só é preciso alguns segundos para abrir profundas feridas nas pessoas amadas e que é necessário muitos anos para curá-la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a perdoar, praticando o perd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há pessoas que os amam muito, mas que simplesmente não sabem como expressar ou demonstrar seus sent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1911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dinheiro pode comprar tudo, exceto felic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e aprendam que duas pessoas podem olhar para a mesma coisa e vê-las de forma totalmente difer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um amigo verdadeiro é  alguém que sabe tudo sobre você e gosta de  você do jeito que 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aprendam que não é suficiente que sejam perdoados, mas que  perdoem a si mesm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267080"/>
            <a:ext cx="883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or um tempo, permaneci sentado, desfrutando aquele mo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Agradeci a Deus pelo seu tempo e por todas as coisas que tem feito por mim.                    ELE responde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Estarei aqui sempre que alguém precisar de ajuda.Tudo que precisam fazer é chamar por m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Que todos podem esquecer o que EU disse ,podem esquecer o que EU fiz,mas  jamais EU esquecerei de cada um de você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34340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...Então, em gratidão a DEUS ao tempo que Ele nos dedica, será que você consegue arranjar um tempinho para mandar essa mensagem para as pessoas que você gosta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9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Autor desconhecid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91440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Comic Sans MS"/>
              </a:rPr>
              <a:t>...EU ARRANJEI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324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ccff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5053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Comic Sans MS"/>
              </a:rPr>
              <a:t>E estou mandando a você que é especial para mim,faça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2:35:33Z</dcterms:created>
  <dc:creator>patricia</dc:creator>
  <dc:description/>
  <dc:language>en-US</dc:language>
  <cp:lastModifiedBy>Elza</cp:lastModifiedBy>
  <dcterms:modified xsi:type="dcterms:W3CDTF">2005-08-25T23:37:40Z</dcterms:modified>
  <cp:revision>18</cp:revision>
  <dc:subject/>
  <dc:title>Slide 1</dc:title>
</cp:coreProperties>
</file>