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2.jpeg" ContentType="image/jpeg"/>
  <Override PartName="/ppt/media/sound002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FDF-D332-40E2-A5B6-2DFD3CCC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DCF-309E-4E17-8A21-0DC6B315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34C-81D1-4CAA-91C9-3E3A8AE6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387-572C-46A2-B402-0048EA5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8FD-9053-4AAB-9893-22442747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19A-2FAF-4AAF-BDD8-1E3B8CE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335-C186-4165-9AE0-4DF2BA3A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268-E78E-4443-A576-293CBFA5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604-82E9-4B79-8CE8-65D3366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94C-1D7E-4086-8F0F-239802E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7BA-7DD1-4869-8FA2-72954C2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BC6-7EB6-42D0-B17E-14F8918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2B01-BF23-4CB2-AFAB-D2BF5A0E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12840"/>
            <a:ext cx="88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No dia em que Deus derrubou a caixa de tinta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53680" y="2876400"/>
            <a:ext cx="187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be0e3"/>
                </a:solidFill>
                <a:latin typeface="Comic Sans MS"/>
              </a:rPr>
              <a:t>Op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  <p:sndAc>
      <p:stSnd>
        <p:snd r:embed="rId2" name="sound0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76960" y="39337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ág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40464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Poé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82800" y="47628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L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2840" y="83664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Profun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27440" y="162864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r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3600" y="20606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aboroso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99800" y="155736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re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69760" y="5493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ibr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9560" y="3573360"/>
            <a:ext cx="18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Infi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79480" y="5349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520" y="278136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cc33"/>
                </a:solidFill>
                <a:latin typeface="Comic Sans MS"/>
              </a:rPr>
              <a:t>Renovad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1120" y="236520"/>
            <a:ext cx="514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... O mundo ficou assi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Assim como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Assim, ora! Não está ve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Liiindoo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372600" cy="922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76440" y="9079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i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48880" y="141300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lic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8480" y="5373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gu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50920" y="386064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ncant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66400" y="90972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bl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1880" y="2421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speranç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7080" y="76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ajest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23280" y="62064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Fantás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82000" y="53020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Gost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13360" y="484488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Comic Sans MS"/>
              </a:rPr>
              <a:t>Aleg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21560" y="141120"/>
            <a:ext cx="198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olorido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4880" y="333360"/>
            <a:ext cx="250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Comic Sans MS"/>
              </a:rPr>
              <a:t>Natur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1400" y="1917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d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55480" y="4149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o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0120" y="501336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rpreende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37920" y="357336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inge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8240" y="458136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08800" y="2709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Az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884400">
            <a:off x="990360" y="5333760"/>
            <a:ext cx="29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úsic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:What a Wonderfu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uis Arm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08120" y="693720"/>
            <a:ext cx="509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us derrubou a ca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 tintas de propósi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ó prá te agrad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encantar e, ass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provar o quanto 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a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pois de tudo que vi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ocê ainda duvida d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A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98100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Român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19720" y="18900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imp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54520" y="4428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ngraç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320" y="3333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isteri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93920" y="44370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intil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6080" y="4428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uri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3:04:31Z</dcterms:created>
  <dc:creator>Jussara</dc:creator>
  <dc:description/>
  <dc:language>en-US</dc:language>
  <cp:lastModifiedBy>Jussara</cp:lastModifiedBy>
  <dcterms:modified xsi:type="dcterms:W3CDTF">2008-09-08T23:55:29Z</dcterms:modified>
  <cp:revision>2</cp:revision>
  <dc:subject/>
  <dc:title>Slide 1</dc:title>
</cp:coreProperties>
</file>