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2.jpeg" ContentType="image/jpeg"/>
  <Override PartName="/ppt/media/sound002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161-8EA2-4801-B71D-8A61F07C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AFA-FDFA-43FB-85D9-067EFA89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4EE-9346-43C5-B87C-BCABAE13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F33-8E29-4E4D-B2C2-4EC205DA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54C-A1B4-4004-87B4-0D46DE61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A39-18F9-46F2-A07C-CE9DAD21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3B0-1CF9-44F5-AC55-A2523069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023-7151-4DC8-9480-E84818DC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4FE-7B61-4F99-8971-67F18076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802-7F72-49CD-A911-ED5B27F9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C02-0DFE-4A24-9415-3E0F596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DEA-26DF-4AE4-90D5-B9B8A830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5A76-D889-46D8-B797-9C3B4AAE1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2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12840"/>
            <a:ext cx="88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Comic Sans MS"/>
              </a:rPr>
              <a:t>No dia em que Deus derrubou a caixa de tinta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53680" y="2876400"/>
            <a:ext cx="187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be0e3"/>
                </a:solidFill>
                <a:latin typeface="Comic Sans MS"/>
              </a:rPr>
              <a:t>Op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  <p:sndAc>
      <p:stSnd>
        <p:snd r:embed="rId2" name="sound0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76960" y="393372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Mág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4720" y="40464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Poét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82800" y="476280"/>
            <a:ext cx="12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Le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32840" y="83664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Profun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27440" y="162864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Ter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83600" y="20606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aboroso</a:t>
            </a:r>
            <a:r>
              <a:rPr b="1" lang="pt-BR" sz="28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99800" y="155736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ere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69760" y="5493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Vibr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9560" y="3573360"/>
            <a:ext cx="18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Infin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79480" y="5349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520" y="278136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cc33"/>
                </a:solidFill>
                <a:latin typeface="Comic Sans MS"/>
              </a:rPr>
              <a:t>Renovad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1120" y="236520"/>
            <a:ext cx="514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... O mundo ficou assim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Assim como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Assim, ora! Não está ve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Liiindoo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143000"/>
            <a:ext cx="9372600" cy="922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76440" y="90792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Viv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48880" y="1413000"/>
            <a:ext cx="20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elic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88480" y="5373720"/>
            <a:ext cx="17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egu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950920" y="3860640"/>
            <a:ext cx="24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Encant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66400" y="90972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ubl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81880" y="242100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Esperanç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7080" y="76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Majest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23280" y="62064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Fantást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82000" y="530208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Gost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13360" y="4844880"/>
            <a:ext cx="19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3300"/>
                </a:solidFill>
                <a:latin typeface="Comic Sans MS"/>
              </a:rPr>
              <a:t>Aleg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21560" y="141120"/>
            <a:ext cx="1985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Colorido</a:t>
            </a:r>
            <a:r>
              <a:rPr b="1" lang="pt-BR" sz="28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34880" y="333360"/>
            <a:ext cx="250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3300"/>
                </a:solidFill>
                <a:latin typeface="Comic Sans MS"/>
              </a:rPr>
              <a:t>Natura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1400" y="191772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edut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55480" y="41497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o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0120" y="5013360"/>
            <a:ext cx="33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urpreende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37920" y="357336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inge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8240" y="458136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u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08800" y="27097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Az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884400">
            <a:off x="990360" y="5333760"/>
            <a:ext cx="29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úsic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:What a Wonderfu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uis Arm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08120" y="693720"/>
            <a:ext cx="509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eus derrubou a ca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e tintas de propósi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ó prá te agrad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te encantar e, ass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te provar o quanto 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te a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Depois de tudo que vi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você ainda duvida d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A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981000"/>
            <a:ext cx="24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Românt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19720" y="189000"/>
            <a:ext cx="18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Simp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54520" y="44280"/>
            <a:ext cx="244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Engraç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320" y="3333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Misteri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93920" y="443700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Cintil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6080" y="4428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Curi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3:04:31Z</dcterms:created>
  <dc:creator>Jussara</dc:creator>
  <dc:description/>
  <dc:language>en-US</dc:language>
  <cp:lastModifiedBy>Jussara</cp:lastModifiedBy>
  <dcterms:modified xsi:type="dcterms:W3CDTF">2008-09-08T23:55:29Z</dcterms:modified>
  <cp:revision>2</cp:revision>
  <dc:subject/>
  <dc:title>Slide 1</dc:title>
</cp:coreProperties>
</file>