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avid_Lanz_-_Whiter_Shade_of_Pal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9BC-BF37-4120-936E-72FCDCAA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483-BC7A-4960-B945-8DDDC4B7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14D-7607-4581-B2C6-65D0DFC3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CAC-B0E8-4D55-8C87-68A6D4EE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68A-6B2B-4A20-90E3-B3469FD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F74-7A1B-497B-B935-E7B0C02F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CB3-405C-4238-8E75-1F6CC1C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22A-8554-497D-AAD8-67C8C38C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A5F-31C4-4FAF-890B-A9DF1EF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1E8-2E5B-4808-89D8-8127439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CF5-D000-4123-A839-19FE25D3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620-6086-41A6-B247-B01FCFC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2F91-9474-460F-8F72-D85F6733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vid_Lanz_-_Whiter_Shade_of_Pal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5084640"/>
            <a:ext cx="8748720" cy="825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 Pedidos de Um C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9000">
    <p:zoom dir="out"/>
    <p:sndAc>
      <p:stSnd>
        <p:snd r:embed="rId2" name="David_Lanz_-_Whiter_Shade_of_Pal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4149720"/>
            <a:ext cx="8748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1) Minha vida dura apenas uma parte de sua vida; qualquer separação de você significa sofrimento para m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se muito nisso antes de me adotar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93680"/>
            <a:ext cx="36716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) Tenha paciência e me dê um tempo para que eu possa compreender o que você espera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ê também nem sempre entende imediatamente as coi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) Deposite sua confiança em mim, pois eu vivo disso e vou compensá-lo por isso mais do que ningué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333360"/>
            <a:ext cx="370836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4) Nunca guarde rancor de mim se eu aprontar alguma, e não me prenda "de castigo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cê tem outros amigos além de mim, tem seu trabalho e seu lazer - mas eu só tenho você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5) Converse com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não entendo todas as palavras, mas me faz bem ouvir sua voz falando só para m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549360"/>
            <a:ext cx="403200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6) Pense bem como você, seus amigos e visitas me trat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jamais esqueç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7) Também pense, quando você quiser me bater,  que eu poderia facilmente quebrar os ossos da mão que me machuca, mas que eu não lanço mão deste recurso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260280"/>
            <a:ext cx="331128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8) Se alguma vez você não estiver satisfeito comigo, porque estou de mau humor, preguiçoso ou desobediente, imagina que talvez a minha comida não esteja me fazendo bem ou que tenho estado muito exposto ao so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 que meu coração já está um pouco cansado e fr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836640"/>
            <a:ext cx="302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) Por favor, tenha compreensão comigo quando eu envel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pense logo em me abandonar para adotar um cãozinho novo e boniti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ê também envelh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260280"/>
            <a:ext cx="4248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0) E quando chegar meu último e mais difícil momento fique comi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diga "não posso ver isso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 sua presença tudo fica mais fácil para m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fidelidade de toda a minha vida deveria compensar este momento de 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rich Klever, zoólog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: "The Complete Book of Dog Care"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ução Christa Kurmeier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877000"/>
            <a:ext cx="2808360" cy="733320"/>
          </a:xfrm>
          <a:prstGeom prst="rect">
            <a:avLst/>
          </a:prstGeom>
          <a:solidFill>
            <a:srgbClr val="ffff99">
              <a:alpha val="15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Mísic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David_Lanz_-_Whiter_Shade_of_P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7000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6:58:33Z</dcterms:created>
  <dc:creator>Mari Caruso Cunha</dc:creator>
  <dc:description/>
  <dc:language>en-US</dc:language>
  <cp:lastModifiedBy>Alysson</cp:lastModifiedBy>
  <dcterms:modified xsi:type="dcterms:W3CDTF">2008-02-07T00:30:55Z</dcterms:modified>
  <cp:revision>3</cp:revision>
  <dc:subject>Outros</dc:subject>
  <dc:title>10 Pedidos De Um Cão</dc:title>
</cp:coreProperties>
</file>