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chimes.wav" ContentType="audio/x-wav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FE4-C256-4106-944A-A6FE2A52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E50-887E-42B1-A26A-359915B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6A9-7627-4300-B612-F798C7C2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CE7-4901-456B-A359-12FB0036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D75-8150-4E39-B811-B258E88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BB5-F9AD-4CEA-BBC6-44931E55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272-8276-46CF-B3D7-5EEE22B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917-D859-480E-A050-2B2A204B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06A-FE60-4491-BBE0-5365092A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781-3CB0-4CCF-ADAC-F801018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7F6-0377-4798-9E2A-90E8D495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93A-F4CD-4CF0-92D8-9A17AC2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CF37-17E8-4260-9FB8-888DA2A088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uzina.wav" TargetMode="External"/><Relationship Id="rId5" Type="http://schemas.openxmlformats.org/officeDocument/2006/relationships/hyperlink" Target="file:///tmp/home/.config/libreoffice/4/user/gallery/Buzina.wav" TargetMode="External"/><Relationship Id="rId6" Type="http://schemas.openxmlformats.org/officeDocument/2006/relationships/hyperlink" Target="file:///tmp/home/.config/libreoffice/4/user/gallery/Buzina.wav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Buzina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Buzina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50320" y="4437000"/>
            <a:ext cx="29070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8000"/>
                </a:solidFill>
                <a:latin typeface="Arial"/>
              </a:rPr>
              <a:t>Clicar na resposta cor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684840" y="6308640"/>
            <a:ext cx="141624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meç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47628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latin typeface="comic"/>
              </a:rPr>
              <a:t>Cogito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99"/>
              </a:solidFill>
              <a:latin typeface="comic"/>
              <a:ea typeface="comic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1320" y="1438560"/>
            <a:ext cx="81986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Se dividir 30 por 1/2 e adicionar 10. Qual é o 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  <a:hlinkClick r:id="rId2"/>
          </p:cNvPr>
          <p:cNvSpPr/>
          <p:nvPr/>
        </p:nvSpPr>
        <p:spPr>
          <a:xfrm>
            <a:off x="6609240" y="611964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  <a:hlinkClick r:id="rId3"/>
          </p:cNvPr>
          <p:cNvSpPr/>
          <p:nvPr/>
        </p:nvSpPr>
        <p:spPr>
          <a:xfrm>
            <a:off x="6609240" y="554508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  <a:hlinkClick r:id="rId4"/>
          </p:cNvPr>
          <p:cNvSpPr/>
          <p:nvPr/>
        </p:nvSpPr>
        <p:spPr>
          <a:xfrm>
            <a:off x="6609240" y="496872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19080" y="4365720"/>
            <a:ext cx="2769840" cy="673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30 dividido por 1/2 = 60 </a:t>
            </a:r>
            <a:br>
              <a:rPr sz="1800"/>
            </a:b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60 + 10 = 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87640" y="422280"/>
            <a:ext cx="4753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Se uma cesta tem 3 maçãs e você tira  2, com quantas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2"/>
          </p:cNvPr>
          <p:cNvSpPr/>
          <p:nvPr/>
        </p:nvSpPr>
        <p:spPr>
          <a:xfrm>
            <a:off x="7256880" y="5445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  <a:hlinkClick r:id="rId3"/>
          </p:cNvPr>
          <p:cNvSpPr/>
          <p:nvPr/>
        </p:nvSpPr>
        <p:spPr>
          <a:xfrm>
            <a:off x="6608880" y="5445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  <a:hlinkClick r:id="rId4"/>
          </p:cNvPr>
          <p:cNvSpPr/>
          <p:nvPr/>
        </p:nvSpPr>
        <p:spPr>
          <a:xfrm>
            <a:off x="7905960" y="5445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51840" y="4365720"/>
            <a:ext cx="382500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Fica com as 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que tirou, cl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798120"/>
            <a:ext cx="835344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Um médico receitou três pílulas, que devem ser tomadas a cada meia hora. </a:t>
            </a:r>
            <a:br>
              <a:rPr sz="2400"/>
            </a:b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Quanto tempo dura o trata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  <a:hlinkClick r:id="rId2"/>
          </p:cNvPr>
          <p:cNvSpPr/>
          <p:nvPr/>
        </p:nvSpPr>
        <p:spPr>
          <a:xfrm>
            <a:off x="1784880" y="5877000"/>
            <a:ext cx="12718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Meia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248880" y="5877000"/>
            <a:ext cx="1652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1 Hora e M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  <a:hlinkClick r:id="rId4"/>
          </p:cNvPr>
          <p:cNvSpPr/>
          <p:nvPr/>
        </p:nvSpPr>
        <p:spPr>
          <a:xfrm>
            <a:off x="4305960" y="5877000"/>
            <a:ext cx="891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85440" y="4078440"/>
            <a:ext cx="52056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1ª </a:t>
            </a:r>
            <a:br>
              <a:rPr sz="1200"/>
            </a:b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5440" y="4076640"/>
            <a:ext cx="52056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2ª </a:t>
            </a:r>
            <a:br>
              <a:rPr sz="1200"/>
            </a:b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85800" y="4076640"/>
            <a:ext cx="52056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3ª </a:t>
            </a:r>
            <a:br>
              <a:rPr sz="1200"/>
            </a:br>
            <a:r>
              <a:rPr b="0" lang="pt-PT" sz="1200" spc="-1" strike="noStrike">
                <a:solidFill>
                  <a:srgbClr val="008000"/>
                </a:solidFill>
                <a:latin typeface="Arial"/>
              </a:rPr>
              <a:t>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60720" y="4149720"/>
            <a:ext cx="116208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----1/2 Hora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1080" y="4149720"/>
            <a:ext cx="116208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----1/2 Hora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5373720"/>
            <a:ext cx="41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5440" y="4933800"/>
            <a:ext cx="4106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|-------------------- </a:t>
            </a: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1 Hora 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 ------------------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385920"/>
            <a:ext cx="222120" cy="40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  <a:hlinkClick r:id="rId2"/>
          </p:cNvPr>
          <p:cNvSpPr/>
          <p:nvPr/>
        </p:nvSpPr>
        <p:spPr>
          <a:xfrm>
            <a:off x="4232520" y="602136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  <a:hlinkClick r:id="rId3"/>
          </p:cNvPr>
          <p:cNvSpPr/>
          <p:nvPr/>
        </p:nvSpPr>
        <p:spPr>
          <a:xfrm>
            <a:off x="5340960" y="602136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  <a:hlinkClick r:id="rId4"/>
          </p:cNvPr>
          <p:cNvSpPr/>
          <p:nvPr/>
        </p:nvSpPr>
        <p:spPr>
          <a:xfrm>
            <a:off x="3091320" y="602136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1280" y="282240"/>
            <a:ext cx="68040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Um fazendeiro possuía 17 ovel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Todas morreram menos 9. Com quantas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62760" y="4770360"/>
            <a:ext cx="5434200" cy="429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Fica com as que não morreram.  Ou seja, </a:t>
            </a:r>
            <a:r>
              <a:rPr b="1" i="1" lang="pt-PT" sz="22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7280" y="358920"/>
            <a:ext cx="87364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Quantos animais de cada sexo, Moisés levou para a Arca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  <a:hlinkClick r:id="rId2"/>
          </p:cNvPr>
          <p:cNvSpPr/>
          <p:nvPr/>
        </p:nvSpPr>
        <p:spPr>
          <a:xfrm>
            <a:off x="2659320" y="616572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  <a:hlinkClick r:id="rId3"/>
          </p:cNvPr>
          <p:cNvSpPr/>
          <p:nvPr/>
        </p:nvSpPr>
        <p:spPr>
          <a:xfrm>
            <a:off x="4748400" y="616572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  <a:hlinkClick r:id="rId4"/>
          </p:cNvPr>
          <p:cNvSpPr/>
          <p:nvPr/>
        </p:nvSpPr>
        <p:spPr>
          <a:xfrm>
            <a:off x="3729240" y="616572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59280" y="4797360"/>
            <a:ext cx="49878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8000"/>
                </a:solidFill>
                <a:uFillTx/>
                <a:latin typeface="Arial"/>
              </a:rPr>
              <a:t>Nenhum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. Porque foi 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Noé 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quem construiu a arca, e não Moisé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12200" y="287640"/>
            <a:ext cx="52056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Existe o dia 14 Julho, na Bélgic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3224160" y="6165720"/>
            <a:ext cx="587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  <a:hlinkClick r:id="rId3"/>
          </p:cNvPr>
          <p:cNvSpPr/>
          <p:nvPr/>
        </p:nvSpPr>
        <p:spPr>
          <a:xfrm>
            <a:off x="4737240" y="6165720"/>
            <a:ext cx="6883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4023000"/>
            <a:ext cx="8424720" cy="1008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ff"/>
                </a:solidFill>
                <a:latin typeface="Arial"/>
              </a:rPr>
              <a:t>Uma sala, tem quatro cantos. Em cada canto está um gato. </a:t>
            </a:r>
            <a:br>
              <a:rPr sz="2000"/>
            </a:br>
            <a:r>
              <a:rPr b="1" i="1" lang="pt-PT" sz="2000" spc="-1" strike="noStrike">
                <a:solidFill>
                  <a:srgbClr val="0000ff"/>
                </a:solidFill>
                <a:latin typeface="Arial"/>
              </a:rPr>
              <a:t>Cada gato vê três gatos. </a:t>
            </a:r>
            <a:br>
              <a:rPr sz="2000"/>
            </a:br>
            <a:r>
              <a:rPr b="1" i="1" lang="pt-PT" sz="2000" spc="-1" strike="noStrike">
                <a:solidFill>
                  <a:srgbClr val="0000ff"/>
                </a:solidFill>
                <a:latin typeface="Arial"/>
              </a:rPr>
              <a:t>Quantos gatos estão na sa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  <a:hlinkClick r:id="rId2"/>
          </p:cNvPr>
          <p:cNvSpPr/>
          <p:nvPr/>
        </p:nvSpPr>
        <p:spPr>
          <a:xfrm>
            <a:off x="5756400" y="6021360"/>
            <a:ext cx="30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  <a:hlinkClick r:id="rId3"/>
          </p:cNvPr>
          <p:cNvSpPr/>
          <p:nvPr/>
        </p:nvSpPr>
        <p:spPr>
          <a:xfrm>
            <a:off x="4232880" y="6021360"/>
            <a:ext cx="433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676960" y="6021360"/>
            <a:ext cx="433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4815000"/>
            <a:ext cx="8351640" cy="764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8000"/>
                </a:solidFill>
                <a:latin typeface="Arial"/>
              </a:rPr>
              <a:t>4 gatos! </a:t>
            </a:r>
            <a:br>
              <a:rPr sz="2400"/>
            </a:b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Cada gato vê 3 gatos, que se encontram nos outros cantos da s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6560" y="3806640"/>
            <a:ext cx="835344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Você participa numa corrida e ultrapassou o segundo. </a:t>
            </a:r>
            <a:br>
              <a:rPr sz="2400"/>
            </a:b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Em que posição você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  <a:hlinkClick r:id="rId2"/>
          </p:cNvPr>
          <p:cNvSpPr/>
          <p:nvPr/>
        </p:nvSpPr>
        <p:spPr>
          <a:xfrm>
            <a:off x="1063440" y="4941720"/>
            <a:ext cx="11714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Primei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  <a:hlinkClick r:id="rId3"/>
          </p:cNvPr>
          <p:cNvSpPr/>
          <p:nvPr/>
        </p:nvSpPr>
        <p:spPr>
          <a:xfrm>
            <a:off x="1063800" y="6165720"/>
            <a:ext cx="1145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Tercei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  <a:hlinkClick r:id="rId4"/>
          </p:cNvPr>
          <p:cNvSpPr/>
          <p:nvPr/>
        </p:nvSpPr>
        <p:spPr>
          <a:xfrm>
            <a:off x="1062720" y="5589720"/>
            <a:ext cx="1160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4776840"/>
            <a:ext cx="698508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Segundo. </a:t>
            </a:r>
            <a:br>
              <a:rPr sz="2000"/>
            </a:b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Se você ultrapassou o segundo, fica no lugar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7080" y="2014560"/>
            <a:ext cx="76863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Se ultrapassou o último, em que posição você f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5800" y="4653000"/>
            <a:ext cx="1287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Penú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  <a:hlinkClick r:id="rId3"/>
          </p:cNvPr>
          <p:cNvSpPr/>
          <p:nvPr/>
        </p:nvSpPr>
        <p:spPr>
          <a:xfrm>
            <a:off x="755640" y="5229360"/>
            <a:ext cx="1224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Último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4"/>
          </p:cNvPr>
          <p:cNvSpPr/>
          <p:nvPr/>
        </p:nvSpPr>
        <p:spPr>
          <a:xfrm>
            <a:off x="755640" y="5805360"/>
            <a:ext cx="12240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Hum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18000" y="4221000"/>
            <a:ext cx="3870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8000"/>
                </a:solidFill>
                <a:latin typeface="Arial"/>
              </a:rPr>
              <a:t>Atrás do último, não há ninguém. </a:t>
            </a:r>
            <a:br>
              <a:rPr sz="1800"/>
            </a:br>
            <a:r>
              <a:rPr b="1" i="1" lang="pt-PT" sz="1800" spc="-1" strike="noStrike">
                <a:solidFill>
                  <a:srgbClr val="008000"/>
                </a:solidFill>
                <a:latin typeface="Arial"/>
              </a:rPr>
              <a:t>Portanto, impossível ultrapas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62080" y="638280"/>
            <a:ext cx="61794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Quantos pares de meias tem uma dúzia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  <a:hlinkClick r:id="rId2"/>
          </p:cNvPr>
          <p:cNvSpPr/>
          <p:nvPr/>
        </p:nvSpPr>
        <p:spPr>
          <a:xfrm>
            <a:off x="3324960" y="587700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  <a:hlinkClick r:id="rId3"/>
          </p:cNvPr>
          <p:cNvSpPr/>
          <p:nvPr/>
        </p:nvSpPr>
        <p:spPr>
          <a:xfrm>
            <a:off x="1640160" y="5877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05240" y="5877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79840" y="4797360"/>
            <a:ext cx="6026760" cy="764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. Sejam meias, ovos ou qualquer outra coisa. </a:t>
            </a:r>
            <a:br>
              <a:rPr sz="2000"/>
            </a:br>
            <a:r>
              <a:rPr b="1" i="1" lang="pt-PT" sz="2000" spc="-1" strike="noStrike">
                <a:solidFill>
                  <a:srgbClr val="008000"/>
                </a:solidFill>
                <a:latin typeface="Arial"/>
              </a:rPr>
              <a:t>1 dúzia é sempre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700280"/>
            <a:ext cx="7696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00"/>
                </a:solidFill>
                <a:latin typeface="comic"/>
              </a:rPr>
              <a:t>terça-feira, 28 de Abril de 2009</a:t>
            </a:r>
            <a:r>
              <a:rPr b="0" i="1" lang="es-ES" sz="2400" spc="-1" strike="noStrike">
                <a:solidFill>
                  <a:srgbClr val="ffff00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cc33"/>
                </a:solidFill>
                <a:latin typeface="comic"/>
              </a:rPr>
              <a:t>17:13:0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bbe0e3"/>
                </a:solidFill>
                <a:uFillTx/>
                <a:latin typeface="Garamond"/>
              </a:rPr>
              <a:t>Papi.niel@orang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endshow"/>
          </p:cNvPr>
          <p:cNvSpPr/>
          <p:nvPr/>
        </p:nvSpPr>
        <p:spPr>
          <a:xfrm>
            <a:off x="3572280" y="5950080"/>
            <a:ext cx="6120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0000"/>
                </a:solidFill>
                <a:latin typeface="Arial"/>
              </a:rPr>
              <a:t>S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4853520" y="5950080"/>
            <a:ext cx="7797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In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87600" y="4797360"/>
            <a:ext cx="658152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Existe.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Embora não se comemore (como em Franç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o dia 14 de Julho existe em todos os paí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2360" y="277920"/>
            <a:ext cx="66484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Alguns meses têm 31 dias, quantos tem 28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  <a:hlinkClick r:id="rId2"/>
          </p:cNvPr>
          <p:cNvSpPr/>
          <p:nvPr/>
        </p:nvSpPr>
        <p:spPr>
          <a:xfrm>
            <a:off x="3108960" y="6093000"/>
            <a:ext cx="433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  <a:hlinkClick r:id="rId3"/>
          </p:cNvPr>
          <p:cNvSpPr/>
          <p:nvPr/>
        </p:nvSpPr>
        <p:spPr>
          <a:xfrm>
            <a:off x="194004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652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  <a:hlinkClick r:id="rId5"/>
          </p:cNvPr>
          <p:cNvSpPr/>
          <p:nvPr/>
        </p:nvSpPr>
        <p:spPr>
          <a:xfrm>
            <a:off x="136404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  <a:hlinkClick r:id="rId6"/>
          </p:cNvPr>
          <p:cNvSpPr/>
          <p:nvPr/>
        </p:nvSpPr>
        <p:spPr>
          <a:xfrm>
            <a:off x="2514960" y="6093000"/>
            <a:ext cx="307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4000" y="4797360"/>
            <a:ext cx="54723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 -  todos os meses têm 28 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97280" y="287640"/>
            <a:ext cx="57891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Quantos animais comem com o rabo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  <a:hlinkClick r:id="rId2"/>
          </p:cNvPr>
          <p:cNvSpPr/>
          <p:nvPr/>
        </p:nvSpPr>
        <p:spPr>
          <a:xfrm>
            <a:off x="7257240" y="6237360"/>
            <a:ext cx="5479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  <a:hlinkClick r:id="rId3"/>
          </p:cNvPr>
          <p:cNvSpPr/>
          <p:nvPr/>
        </p:nvSpPr>
        <p:spPr>
          <a:xfrm>
            <a:off x="1568520" y="6237360"/>
            <a:ext cx="10951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Nen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4"/>
          </p:cNvPr>
          <p:cNvSpPr/>
          <p:nvPr/>
        </p:nvSpPr>
        <p:spPr>
          <a:xfrm>
            <a:off x="4376160" y="6237360"/>
            <a:ext cx="8679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58400" y="4797360"/>
            <a:ext cx="660780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Todos.</a:t>
            </a:r>
            <a:r>
              <a:rPr b="1" lang="pt-PT" sz="2000" spc="-1" strike="noStrike">
                <a:solidFill>
                  <a:srgbClr val="008000"/>
                </a:solidFill>
                <a:latin typeface="Arial"/>
              </a:rPr>
              <a:t> Nenhum animal tira o rabo quando vai comer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6200" y="503280"/>
            <a:ext cx="8058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ff"/>
                </a:solidFill>
                <a:latin typeface="Arial"/>
              </a:rPr>
              <a:t>O Islão permite que se case com a irmã da sua viúva</a:t>
            </a:r>
            <a:r>
              <a:rPr b="1" i="1" lang="fr-FR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  <a:hlinkClick r:id="rId2"/>
          </p:cNvPr>
          <p:cNvSpPr/>
          <p:nvPr/>
        </p:nvSpPr>
        <p:spPr>
          <a:xfrm>
            <a:off x="3502440" y="6093000"/>
            <a:ext cx="6883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  <a:hlinkClick r:id="rId3"/>
          </p:cNvPr>
          <p:cNvSpPr/>
          <p:nvPr/>
        </p:nvSpPr>
        <p:spPr>
          <a:xfrm>
            <a:off x="5168880" y="6093000"/>
            <a:ext cx="587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4160" y="4765680"/>
            <a:ext cx="43855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Não.</a:t>
            </a: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 Se é a sua viúva, você já morreu. </a:t>
            </a:r>
            <a:br>
              <a:rPr sz="1800"/>
            </a:br>
            <a:r>
              <a:rPr b="1" lang="pt-PT" sz="1800" spc="-1" strike="noStrike">
                <a:solidFill>
                  <a:srgbClr val="008000"/>
                </a:solidFill>
                <a:latin typeface="Arial"/>
              </a:rPr>
              <a:t>     Obviamente, não podem ca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6588000" y="6237360"/>
            <a:ext cx="1567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6:18:45Z</dcterms:created>
  <dc:creator>AUDIFFREN</dc:creator>
  <dc:description/>
  <dc:language>en-US</dc:language>
  <cp:lastModifiedBy>Rui Barbosa</cp:lastModifiedBy>
  <dcterms:modified xsi:type="dcterms:W3CDTF">2009-04-28T16:41:01Z</dcterms:modified>
  <cp:revision>125</cp:revision>
  <dc:subject/>
  <dc:title>Diapositive 1</dc:title>
</cp:coreProperties>
</file>