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53.png" ContentType="image/png"/>
  <Override PartName="/ppt/media/image16.gif" ContentType="image/gif"/>
  <Override PartName="/ppt/media/image15.gif" ContentType="image/gif"/>
  <Override PartName="/ppt/media/image17.png" ContentType="image/png"/>
  <Override PartName="/ppt/media/image24.gif" ContentType="image/gif"/>
  <Override PartName="/ppt/media/image14.gif" ContentType="image/gif"/>
  <Override PartName="/ppt/media/image13.gif" ContentType="image/gif"/>
  <Override PartName="/ppt/media/image27.png" ContentType="image/png"/>
  <Override PartName="/ppt/media/image4.gif" ContentType="image/gif"/>
  <Override PartName="/ppt/media/image1.gif" ContentType="image/gif"/>
  <Override PartName="/ppt/media/image31.gif" ContentType="image/gif"/>
  <Override PartName="/ppt/media/10-Help.wav-novo.wav-final.wav" ContentType="audio/x-wav"/>
  <Override PartName="/ppt/media/image44.png" ContentType="image/png"/>
  <Override PartName="/ppt/media/image51.gif" ContentType="image/gif"/>
  <Override PartName="/ppt/media/image50.gif" ContentType="image/gif"/>
  <Override PartName="/ppt/media/image38.gif" ContentType="image/gif"/>
  <Override PartName="/ppt/media/image40.gif" ContentType="image/gif"/>
  <Override PartName="/ppt/media/image37.gif" ContentType="image/gif"/>
  <Override PartName="/ppt/media/image49.gif" ContentType="image/gif"/>
  <Override PartName="/ppt/media/image29.gif" ContentType="image/gif"/>
  <Override PartName="/ppt/media/image41.gif" ContentType="image/gif"/>
  <Override PartName="/ppt/media/image34.png" ContentType="image/png"/>
  <Override PartName="/ppt/media/image52.gif" ContentType="image/gif"/>
  <Override PartName="/ppt/media/image30.gif" ContentType="image/gif"/>
  <Override PartName="/ppt/media/image46.png" ContentType="image/png"/>
  <Override PartName="/ppt/media/image54.gif" ContentType="image/gif"/>
  <Override PartName="/ppt/media/image48.gif" ContentType="image/gif"/>
  <Override PartName="/ppt/media/image11.gif" ContentType="image/gif"/>
  <Override PartName="/ppt/media/image47.gif" ContentType="image/gif"/>
  <Override PartName="/ppt/media/image10.gif" ContentType="image/gif"/>
  <Override PartName="/ppt/media/image8.png" ContentType="image/png"/>
  <Override PartName="/ppt/media/image45.gif" ContentType="image/gif"/>
  <Override PartName="/ppt/media/image39.gif" ContentType="image/gif"/>
  <Override PartName="/ppt/media/image9.gif" ContentType="image/gif"/>
  <Override PartName="/ppt/media/image7.png" ContentType="image/png"/>
  <Override PartName="/ppt/media/image12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42.gif" ContentType="image/gif"/>
  <Override PartName="/ppt/media/image5.png" ContentType="image/png"/>
  <Override PartName="/ppt/media/image28.png" ContentType="image/png"/>
  <Override PartName="/ppt/media/image3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A11-D218-42C7-98E2-0DCFF4DB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E6E-441C-4F09-B6C8-7D97C70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BA9-3EEC-4ABC-B3F2-59850D14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511-B7B3-4363-9442-23328A09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FBA-9C27-4BEA-8728-76F7EBC3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85F-BF1F-4680-A33F-4339C8B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714-6929-4D98-8577-2C6489BC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CEF-E8EB-45EB-BD0D-7BF2C189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065-5D96-4CA5-8BF4-603C6E9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2B4-B6D0-4ADB-9044-C8A0264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38F-EEC6-4DC7-999A-C70D8EBD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198-974B-4532-9FA1-6C050FE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2CC1-D3DE-42BC-9A75-CC7E9DC37E0F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10-Help.wav-novo.wav-final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gif"/><Relationship Id="rId6" Type="http://schemas.openxmlformats.org/officeDocument/2006/relationships/image" Target="../media/image51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8 - Íamos brincar na ru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920880" cy="100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1241280" cy="117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2050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com uma única condição:               voltar para casa ao anoitec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80360" y="2349360"/>
            <a:ext cx="1511280" cy="94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06760" y="400536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Não havia celular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81480" y="3200400"/>
            <a:ext cx="341280" cy="115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4797360"/>
            <a:ext cx="5639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E nossos pais não sabiam onde estáv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Arial"/>
              </a:rPr>
              <a:t>Incríve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612720" cy="6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2331720"/>
            <a:ext cx="6019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9 - Tínhamos aulas só de manhã,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400400" cy="833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281952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e íamos almoçar em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1368720" cy="106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994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0 - Gessos, dentes partidos, joelhos ralados...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Alguém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queixava dis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96080" y="114300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00800" y="2349360"/>
            <a:ext cx="579600" cy="100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547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969840" cy="75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530064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Todos tinham razão, menos nó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Comíamos doces à vontade,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Pão com manteiga,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ebidas com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(perigoso) açúcar.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Não se falava de obesidad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rincávamos sempre na rua e éramos super ativos ...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100332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1080" y="155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89480" y="1557360"/>
            <a:ext cx="46980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3967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24000" y="4508640"/>
            <a:ext cx="2589120" cy="112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24360" y="4587840"/>
            <a:ext cx="2368800" cy="128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2 - Dividíamos com nossos amigos uma Tubaína comprada naquela vendinha da esquina, gole a gole e nunca ninguém morreu por isso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404640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13 - Nada de Playstations, Nintendo 64,</a:t>
            </a:r>
            <a:br>
              <a:rPr sz="28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X boxes, jogos de Vídeo 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Internet por satélite,               videocassete,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Dolby surround,              celular com câmera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Computador                        Chats na Inter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... </a:t>
            </a:r>
            <a:r>
              <a:rPr b="1" i="1" lang="de-CH" sz="3600" spc="-1" strike="noStrike">
                <a:solidFill>
                  <a:srgbClr val="ffff00"/>
                </a:solidFill>
                <a:latin typeface="Arial"/>
              </a:rPr>
              <a:t>Só amigos</a:t>
            </a: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20000" y="692280"/>
            <a:ext cx="1079280" cy="89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5572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451640" y="1989000"/>
            <a:ext cx="10796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48000" y="3141720"/>
            <a:ext cx="720720" cy="66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956720" y="2924280"/>
            <a:ext cx="331560" cy="885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411280" y="3933720"/>
            <a:ext cx="792360" cy="7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7667640" y="4076640"/>
            <a:ext cx="907920" cy="8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067280" y="5300640"/>
            <a:ext cx="178596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372360" y="5300640"/>
            <a:ext cx="1368360" cy="73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- E os nossos cachorros? Lemb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ada de ração. Comiam a mesma comida que nós (muitas vezes os restos), e sem problema alg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nho quente? Xamp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Que nada! No quintal, um segurava o cão e o outro com a mangueira (fria) ia jogando água e esfregando-o com (acreditem se quiserem) sabão (em barra) de lavar roup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Algum cachorro morreu (ou adoeceu) por causa diss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5 - A pé ou de bicicleta, íamos à casa dos nossos amigos, mesmo que morassem a kms de nossa ca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entrávamos sem bater e íamos brin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1195560" cy="86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1800" y="4797360"/>
            <a:ext cx="15112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6 - É verdade! Lá fora, nesse mundo cinzento e sem segurança! Como era possível? Jogávamos futebol na rua, com a trave sinalizada por duas pedras, e mesmo que não fossemos escalados ... ninguém ficava frustrado e nem era o </a:t>
            </a: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“FIM DO MUNDO“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4724280"/>
            <a:ext cx="2890800" cy="9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7 – Na escola tinha bons e maus alunos. Uns passavam e outros eram reprovados. Ninguém ia por isso a um psicólogo ou psicoterapeuta. Não havia a „moda“ dos „superdotados“, nem se falava em dislexia, problemas de concentração, hiperatividade. Quem não passava, simplesmente repetia de ano e tentava de novo no ano segu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2016000" cy="1185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7640" y="5013360"/>
            <a:ext cx="164772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799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ff0000"/>
                </a:solidFill>
                <a:latin typeface="Arial"/>
              </a:rPr>
              <a:t>Responda uma coi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4000" spc="-1" strike="noStrike">
                <a:solidFill>
                  <a:srgbClr val="000000"/>
                </a:solidFill>
                <a:latin typeface="Arial"/>
              </a:rPr>
              <a:t>Você que teve sua infância durante os anos  60, 70, 80...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51640" y="4448160"/>
            <a:ext cx="1488960" cy="128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9880" y="3352680"/>
            <a:ext cx="72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ff00"/>
                </a:solidFill>
                <a:latin typeface="Arial"/>
              </a:rPr>
              <a:t>Como pôde sobrev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10-Help.wav-novo.wav-fina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09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18 - Tínhamos: Liberdade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Fracassos,               Sucessos, </a:t>
            </a:r>
            <a:br>
              <a:rPr sz="3200"/>
            </a:br>
            <a:br>
              <a:rPr sz="3200"/>
            </a:b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Deveres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...</a:t>
            </a: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e aprendíamos a lidar com cada um del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792000" cy="77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19520" y="1447920"/>
            <a:ext cx="1081080" cy="89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19520" y="2743200"/>
            <a:ext cx="79200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809880" y="2666880"/>
            <a:ext cx="115272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181480" y="2743200"/>
            <a:ext cx="10051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A única verdadeira questão é:          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como a gente conseguiu sobreviver???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E acima de tudo, como conseguimos desenvolver a no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personalidade?</a:t>
            </a:r>
            <a:r>
              <a:rPr b="0" lang="de-CH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86600" y="1916280"/>
            <a:ext cx="1163520" cy="116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05720" y="4508640"/>
            <a:ext cx="165708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ocê também é dessa geração?</a:t>
            </a:r>
            <a:br>
              <a:rPr sz="3200"/>
            </a:br>
            <a:br>
              <a:rPr sz="32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Se sim, então mande este e-mail aos seus amigos desse tempo,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e também aos seus filhos e sobrinhos,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para que eles saibam como era no...    </a:t>
            </a:r>
            <a:r>
              <a:rPr b="1" i="1" lang="de-CH" sz="4000" spc="-1" strike="noStrike">
                <a:solidFill>
                  <a:srgbClr val="ffff00"/>
                </a:solidFill>
                <a:latin typeface="Arial"/>
              </a:rPr>
              <a:t>Nosso temp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5229360"/>
            <a:ext cx="4392720" cy="128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000000"/>
                </a:solidFill>
                <a:latin typeface="Arial"/>
              </a:rPr>
              <a:t>Sem dúvida vão responder que era uma chatice, mas ...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r>
              <a:rPr b="1" i="1" lang="de-CH" sz="4800" spc="-1" strike="noStrike">
                <a:solidFill>
                  <a:srgbClr val="ff0000"/>
                </a:solidFill>
                <a:latin typeface="Arial"/>
              </a:rPr>
              <a:t>Como éramos felizes!!!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105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Dejan Trifunov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Os carros não tinham cintos de segurança, apoios de cabeça,                 nem air-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4340160"/>
            <a:ext cx="268452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7621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final de cont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– Íamos soltos no banco de trás fazendo   aquela farr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E isso não era perig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5280" y="3959280"/>
            <a:ext cx="2995560" cy="119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As camas de grades e os brinquedos eram multicores e no mínimo pintados com umas tintas  “duvidosas“ contendo chumbo ou outro veneno qualq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59236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Não havia travas de segurança nas portas dos carros, chaves nos armários de  medicamentos,detergentes ou químicos domést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2592360" cy="977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86400" y="4114800"/>
            <a:ext cx="7491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486400" y="5486400"/>
            <a:ext cx="162864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– A gente andava de bicicleta para lá e pra cá,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sem capacete</a:t>
            </a:r>
            <a:r>
              <a:rPr b="0" i="1" lang="de-CH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joelheiras, caneleiras e cotuveleir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00320" y="3127320"/>
            <a:ext cx="174312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Bebíamos água da torneira, de uma mangueira, ou de uma fonte e não águas minerais em garrafas ditas...     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¨esterilizadas¨...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325960" cy="116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7.- Construíamos aqueles famosos </a:t>
            </a:r>
            <a:r>
              <a:rPr b="1" i="1" lang="de-CH" sz="2400" spc="-1" strike="noStrike">
                <a:solidFill>
                  <a:srgbClr val="ff0000"/>
                </a:solidFill>
                <a:latin typeface="Arial"/>
              </a:rPr>
              <a:t>carrinhos de rolimã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e aqueles que tinham a sorte de morar perto de uma ladeira asfaltada, podiam tentar bater records de velocidade e até verificar no meio do caminho que tinham „economizado“ a sola dos sapatos, que eram usados como freios...E estavam descalç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2568600"/>
            <a:ext cx="931680" cy="93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0000"/>
                </a:solidFill>
                <a:latin typeface="Arial"/>
              </a:rPr>
              <a:t>Alguns acidentes depois...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384336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72200" y="4143240"/>
            <a:ext cx="1366920" cy="365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1920" y="5141880"/>
            <a:ext cx="775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Todos esses problemas estavam resolvi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0:02:21Z</dcterms:created>
  <dc:creator>Dejan Trifunovic</dc:creator>
  <dc:description/>
  <dc:language>en-US</dc:language>
  <cp:lastModifiedBy>First5</cp:lastModifiedBy>
  <dcterms:modified xsi:type="dcterms:W3CDTF">2006-03-15T17:52:21Z</dcterms:modified>
  <cp:revision>22</cp:revision>
  <dc:subject/>
  <dc:title>Folie 1</dc:title>
</cp:coreProperties>
</file>