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33.gif" ContentType="image/gif"/>
  <Override PartName="/ppt/media/image23.gif" ContentType="image/gif"/>
  <Override PartName="/ppt/media/image25.png" ContentType="image/png"/>
  <Override PartName="/ppt/media/image2.gif" ContentType="image/gif"/>
  <Override PartName="/ppt/media/image32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53.png" ContentType="image/png"/>
  <Override PartName="/ppt/media/image16.gif" ContentType="image/gif"/>
  <Override PartName="/ppt/media/image15.gif" ContentType="image/gif"/>
  <Override PartName="/ppt/media/image17.png" ContentType="image/png"/>
  <Override PartName="/ppt/media/image24.gif" ContentType="image/gif"/>
  <Override PartName="/ppt/media/image14.gif" ContentType="image/gif"/>
  <Override PartName="/ppt/media/image13.gif" ContentType="image/gif"/>
  <Override PartName="/ppt/media/image27.png" ContentType="image/png"/>
  <Override PartName="/ppt/media/image4.gif" ContentType="image/gif"/>
  <Override PartName="/ppt/media/image1.gif" ContentType="image/gif"/>
  <Override PartName="/ppt/media/image31.gif" ContentType="image/gif"/>
  <Override PartName="/ppt/media/10-Help.wav-novo.wav-final.wav" ContentType="audio/x-wav"/>
  <Override PartName="/ppt/media/image44.png" ContentType="image/png"/>
  <Override PartName="/ppt/media/image51.gif" ContentType="image/gif"/>
  <Override PartName="/ppt/media/image50.gif" ContentType="image/gif"/>
  <Override PartName="/ppt/media/image38.gif" ContentType="image/gif"/>
  <Override PartName="/ppt/media/image40.gif" ContentType="image/gif"/>
  <Override PartName="/ppt/media/image37.gif" ContentType="image/gif"/>
  <Override PartName="/ppt/media/image49.gif" ContentType="image/gif"/>
  <Override PartName="/ppt/media/image29.gif" ContentType="image/gif"/>
  <Override PartName="/ppt/media/image41.gif" ContentType="image/gif"/>
  <Override PartName="/ppt/media/image34.png" ContentType="image/png"/>
  <Override PartName="/ppt/media/image52.gif" ContentType="image/gif"/>
  <Override PartName="/ppt/media/image30.gif" ContentType="image/gif"/>
  <Override PartName="/ppt/media/image46.png" ContentType="image/png"/>
  <Override PartName="/ppt/media/image54.gif" ContentType="image/gif"/>
  <Override PartName="/ppt/media/image48.gif" ContentType="image/gif"/>
  <Override PartName="/ppt/media/image11.gif" ContentType="image/gif"/>
  <Override PartName="/ppt/media/image47.gif" ContentType="image/gif"/>
  <Override PartName="/ppt/media/image10.gif" ContentType="image/gif"/>
  <Override PartName="/ppt/media/image8.png" ContentType="image/png"/>
  <Override PartName="/ppt/media/image45.gif" ContentType="image/gif"/>
  <Override PartName="/ppt/media/image39.gif" ContentType="image/gif"/>
  <Override PartName="/ppt/media/image9.gif" ContentType="image/gif"/>
  <Override PartName="/ppt/media/image7.png" ContentType="image/png"/>
  <Override PartName="/ppt/media/image12.png" ContentType="image/png"/>
  <Override PartName="/ppt/media/image43.gif" ContentType="image/gif"/>
  <Override PartName="/ppt/media/image36.png" ContentType="image/png"/>
  <Override PartName="/ppt/media/image6.png" ContentType="image/png"/>
  <Override PartName="/ppt/media/image42.gif" ContentType="image/gif"/>
  <Override PartName="/ppt/media/image5.png" ContentType="image/png"/>
  <Override PartName="/ppt/media/image28.png" ContentType="image/png"/>
  <Override PartName="/ppt/media/image3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866-B971-4E85-98AE-0BED2779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C9D-72F1-4EAE-A7D1-F8A58044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0D2-2F4C-40D8-A542-9011507A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A01-10E4-4D49-BFAE-CE04353B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1EA-5509-440A-907E-DDA12356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1A9-E9F4-4D8E-97CB-BFA8556B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961-C226-4C2F-95E8-6FA33A54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2E4-8193-4259-B59E-4374CA8A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870-08CD-4E9C-A6EA-BBBFE4BD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A04-FAEF-41D6-A19D-CEDE007D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913-F48B-42FB-B826-F44C9A32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159-2A79-4C34-B34F-CF102D9F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B29D-3E3C-4882-9A3D-BDA3EA0F8633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5.gif"/><Relationship Id="rId5" Type="http://schemas.openxmlformats.org/officeDocument/2006/relationships/image" Target="../media/image36.png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40.gi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10-Help.wav-novo.wav-final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49.gif"/><Relationship Id="rId5" Type="http://schemas.openxmlformats.org/officeDocument/2006/relationships/image" Target="../media/image50.gif"/><Relationship Id="rId6" Type="http://schemas.openxmlformats.org/officeDocument/2006/relationships/image" Target="../media/image51.gi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8 - Íamos brincar na ru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40360" y="1125360"/>
            <a:ext cx="920880" cy="100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93080" y="1052640"/>
            <a:ext cx="1241280" cy="117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2050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com uma única condição:               voltar para casa ao anoitec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380360" y="2349360"/>
            <a:ext cx="1511280" cy="94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06760" y="400536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Não havia celular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181480" y="3200400"/>
            <a:ext cx="341280" cy="1152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4797360"/>
            <a:ext cx="5639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E nossos pais não sabiam onde estávam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Arial"/>
              </a:rPr>
              <a:t>Incrível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612720" cy="61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2331720"/>
            <a:ext cx="6019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9 - Tínhamos aulas só de manhã,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010280" y="1523880"/>
            <a:ext cx="1400400" cy="833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33720" y="2819520"/>
            <a:ext cx="62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e íamos almoçar em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66880" y="4114800"/>
            <a:ext cx="1368720" cy="106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6994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0 - Gessos, dentes partidos, joelhos ralados...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de-CH" sz="3200" spc="-1" strike="noStrike">
                <a:solidFill>
                  <a:srgbClr val="ffffff"/>
                </a:solidFill>
                <a:latin typeface="Arial"/>
              </a:rPr>
              <a:t>Alguém</a:t>
            </a:r>
            <a:r>
              <a:rPr b="1" i="1" lang="de-CH" sz="3600" spc="-1" strike="noStrike">
                <a:solidFill>
                  <a:srgbClr val="ffffff"/>
                </a:solidFill>
                <a:latin typeface="Arial"/>
              </a:rPr>
              <a:t> 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C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CH" sz="3600" spc="-1" strike="noStrike">
                <a:solidFill>
                  <a:srgbClr val="ffffff"/>
                </a:solidFill>
                <a:latin typeface="Arial"/>
              </a:rPr>
              <a:t>queixava diss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96080" y="1143000"/>
            <a:ext cx="1089000" cy="1224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400800" y="2349360"/>
            <a:ext cx="579600" cy="100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364000" y="3716280"/>
            <a:ext cx="547920" cy="57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969840" cy="757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360" y="530064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CH" sz="2800" spc="-1" strike="noStrike">
                <a:solidFill>
                  <a:srgbClr val="ffff00"/>
                </a:solidFill>
                <a:latin typeface="Arial"/>
              </a:rPr>
              <a:t>Todos tinham razão, menos nó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Comíamos doces à vontade,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Pão com manteiga,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bebidas com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(perigoso) açúcar.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Não se falava de obesidade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brincávamos sempre na rua e éramos super ativos ...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1003320" cy="56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21080" y="155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389480" y="1557360"/>
            <a:ext cx="469800" cy="72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276720" y="2421000"/>
            <a:ext cx="396720" cy="86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24000" y="4508640"/>
            <a:ext cx="2589120" cy="112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724360" y="4587840"/>
            <a:ext cx="2368800" cy="1289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2 - Dividíamos com nossos amigos uma Tubaína comprada naquela vendinha da esquina, gole a gole e nunca ninguém morreu por isso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16360" y="4076640"/>
            <a:ext cx="4046400" cy="140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13 - Nada de Playstations, Nintendo 64,</a:t>
            </a:r>
            <a:br>
              <a:rPr sz="2800"/>
            </a:b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X boxes, jogos de Vídeo 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Internet por satélite,               videocassete,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Dolby surround,              celular com câmera  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Computador                        Chats na Internet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de-CH" sz="2800" spc="-1" strike="noStrike">
                <a:solidFill>
                  <a:srgbClr val="ffff00"/>
                </a:solidFill>
                <a:latin typeface="Arial"/>
              </a:rPr>
              <a:t>... </a:t>
            </a:r>
            <a:r>
              <a:rPr b="1" i="1" lang="de-CH" sz="3600" spc="-1" strike="noStrike">
                <a:solidFill>
                  <a:srgbClr val="ffff00"/>
                </a:solidFill>
                <a:latin typeface="Arial"/>
              </a:rPr>
              <a:t>Só amigos</a:t>
            </a:r>
            <a:r>
              <a:rPr b="1" i="1" lang="de-CH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020000" y="692280"/>
            <a:ext cx="1079280" cy="890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55728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451640" y="1989000"/>
            <a:ext cx="1079640" cy="773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348000" y="3141720"/>
            <a:ext cx="720720" cy="663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956720" y="2924280"/>
            <a:ext cx="331560" cy="885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411280" y="3933720"/>
            <a:ext cx="792360" cy="7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7667640" y="4076640"/>
            <a:ext cx="907920" cy="871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4067280" y="5300640"/>
            <a:ext cx="1785960" cy="696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6372360" y="5300640"/>
            <a:ext cx="1368360" cy="73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- E os nossos cachorros? Lemb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Nada de ração. Comiam a mesma comida que nós (muitas vezes os restos), e sem problema algu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nho quente? Xamp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Que nada! No quintal, um segurava o cão e o outro com a mangueira (fria) ia jogando água e esfregando-o com (acreditem se quiserem) sabão (em barra) de lavar roup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Algum cachorro morreu (ou adoeceu) por causa disso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5 - A pé ou de bicicleta, íamos à casa dos nossos amigos, mesmo que morassem a kms de nossa cas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entrávamos sem bater e íamos brinc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1195560" cy="86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1800" y="4797360"/>
            <a:ext cx="151128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6 - É verdade! Lá fora, nesse mundo cinzento e sem segurança! Como era possível? Jogávamos futebol na rua, com a trave sinalizada por duas pedras, e mesmo que não fossemos escalados ... ninguém ficava frustrado e nem era o </a:t>
            </a:r>
            <a:r>
              <a:rPr b="1" i="1" lang="de-CH" sz="3200" spc="-1" strike="noStrike">
                <a:solidFill>
                  <a:srgbClr val="ffffff"/>
                </a:solidFill>
                <a:latin typeface="Arial"/>
              </a:rPr>
              <a:t>“FIM DO MUNDO“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0" y="4724280"/>
            <a:ext cx="2890800" cy="9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7 – Na escola tinha bons e maus alunos. Uns passavam e outros eram reprovados. Ninguém ia por isso a um psicólogo ou psicoterapeuta. Não havia a „moda“ dos „superdotados“, nem se falava em dislexia, problemas de concentração, hiperatividade. Quem não passava, simplesmente repetia de ano e tentava de novo no ano segui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2016000" cy="1185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27640" y="5013360"/>
            <a:ext cx="1647720" cy="126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85800"/>
            <a:ext cx="7993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ff0000"/>
                </a:solidFill>
                <a:latin typeface="Arial"/>
              </a:rPr>
              <a:t>Responda uma cois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4000" spc="-1" strike="noStrike">
                <a:solidFill>
                  <a:srgbClr val="000000"/>
                </a:solidFill>
                <a:latin typeface="Arial"/>
              </a:rPr>
              <a:t>Você que teve sua infância durante os anos  60, 70, 80...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651640" y="4448160"/>
            <a:ext cx="1488960" cy="128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9880" y="3352680"/>
            <a:ext cx="72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ff00"/>
                </a:solidFill>
                <a:latin typeface="Arial"/>
              </a:rPr>
              <a:t>Como pôde sobreviver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10-Help.wav-novo.wav-fina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809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18 - Tínhamos: Liberdade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Fracassos,               Sucessos, </a:t>
            </a:r>
            <a:br>
              <a:rPr sz="3200"/>
            </a:br>
            <a:br>
              <a:rPr sz="3200"/>
            </a:b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Deveres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...</a:t>
            </a: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e aprendíamos a lidar com cada um del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91320" y="457200"/>
            <a:ext cx="792000" cy="776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19520" y="1447920"/>
            <a:ext cx="1081080" cy="898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553080" y="1600200"/>
            <a:ext cx="936720" cy="830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819520" y="2743200"/>
            <a:ext cx="79200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809880" y="2666880"/>
            <a:ext cx="1152720" cy="584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5181480" y="2743200"/>
            <a:ext cx="100512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A única verdadeira questão é:          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</a:rPr>
              <a:t>como a gente conseguiu sobreviver???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E acima de tudo, como conseguimos desenvolver a nos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personalidade?</a:t>
            </a:r>
            <a:r>
              <a:rPr b="0" lang="de-CH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86600" y="1916280"/>
            <a:ext cx="1163520" cy="1163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705720" y="4508640"/>
            <a:ext cx="1657080" cy="146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Você também é dessa geração?</a:t>
            </a:r>
            <a:br>
              <a:rPr sz="3200"/>
            </a:br>
            <a:br>
              <a:rPr sz="3200"/>
            </a:b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Se sim, então mande este e-mail aos seus amigos desse tempo,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e também aos seus filhos e sobrinhos,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para que eles saibam como era no...    </a:t>
            </a:r>
            <a:r>
              <a:rPr b="1" i="1" lang="de-CH" sz="4000" spc="-1" strike="noStrike">
                <a:solidFill>
                  <a:srgbClr val="ffff00"/>
                </a:solidFill>
                <a:latin typeface="Arial"/>
              </a:rPr>
              <a:t>Nosso temp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5229360"/>
            <a:ext cx="4392720" cy="128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000000"/>
                </a:solidFill>
                <a:latin typeface="Arial"/>
              </a:rPr>
              <a:t>Sem dúvida vão responder que era uma chatice, mas ...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000"/>
            </a:br>
            <a:r>
              <a:rPr b="1" i="1" lang="de-CH" sz="4800" spc="-1" strike="noStrike">
                <a:solidFill>
                  <a:srgbClr val="ff0000"/>
                </a:solidFill>
                <a:latin typeface="Arial"/>
              </a:rPr>
              <a:t>Como éramos felizes!!!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105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utor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Dejan Trifunov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- Os carros não tinham cintos de segurança, apoios de cabeça,                 nem air-ba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35280" y="4340160"/>
            <a:ext cx="2684520" cy="960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7621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final de cont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– Íamos soltos no banco de trás fazendo   aquela farr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E isso não era perig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35280" y="3959280"/>
            <a:ext cx="2995560" cy="119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- As camas de grades e os brinquedos eram multicores e no mínimo pintados com umas tintas  “duvidosas“ contendo chumbo ou outro veneno qualqu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2592360" cy="208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- Não havia travas de segurança nas portas dos carros, chaves nos armários de  medicamentos,detergentes ou químicos doméstic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2592360" cy="977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14800" y="4419720"/>
            <a:ext cx="728640" cy="72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486400" y="4114800"/>
            <a:ext cx="74916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486400" y="5486400"/>
            <a:ext cx="1628640" cy="81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– A gente andava de bicicleta para lá e pra cá,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</a:rPr>
              <a:t>sem capacete</a:t>
            </a:r>
            <a:r>
              <a:rPr b="0" i="1" lang="de-CH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</a:rPr>
              <a:t>joelheiras, caneleiras e cotuveleir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00320" y="3127320"/>
            <a:ext cx="1743120" cy="195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- Bebíamos água da torneira, de uma mangueira, ou de uma fonte e não águas minerais em garrafas ditas...     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</a:rPr>
              <a:t>¨esterilizadas¨...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360" y="3933720"/>
            <a:ext cx="2325960" cy="116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7.- Construíamos aqueles famosos </a:t>
            </a:r>
            <a:r>
              <a:rPr b="1" i="1" lang="de-CH" sz="2400" spc="-1" strike="noStrike">
                <a:solidFill>
                  <a:srgbClr val="ff0000"/>
                </a:solidFill>
                <a:latin typeface="Arial"/>
              </a:rPr>
              <a:t>carrinhos de rolimã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 e aqueles que tinham a sorte de morar perto de uma ladeira asfaltada, podiam tentar bater records de velocidade e até verificar no meio do caminho que tinham „economizado“ a sola dos sapatos, que eram usados como freios...E estavam descalç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2568600"/>
            <a:ext cx="931680" cy="931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3505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0000"/>
                </a:solidFill>
                <a:latin typeface="Arial"/>
              </a:rPr>
              <a:t>Alguns acidentes depois...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384336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72200" y="4143240"/>
            <a:ext cx="1366920" cy="365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1920" y="5141880"/>
            <a:ext cx="775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00"/>
                </a:solidFill>
                <a:latin typeface="Arial"/>
              </a:rPr>
              <a:t>Todos esses problemas estavam resolvid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0:02:21Z</dcterms:created>
  <dc:creator>Dejan Trifunovic</dc:creator>
  <dc:description/>
  <dc:language>en-US</dc:language>
  <cp:lastModifiedBy>First5</cp:lastModifiedBy>
  <dcterms:modified xsi:type="dcterms:W3CDTF">2006-03-15T17:52:21Z</dcterms:modified>
  <cp:revision>22</cp:revision>
  <dc:subject/>
  <dc:title>Folie 1</dc:title>
</cp:coreProperties>
</file>