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8CB1-FB3D-4D1F-98BC-8629FDFF7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3C52-90A7-4D33-BF67-0C7DCEC3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8B53-463E-4FAC-86C9-9D42E0C0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A964-0064-4FB1-9E60-783D9E064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110D-55B5-489A-9504-9B7899FB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C914-3405-4C0B-8A48-D540D5D0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898E-6079-48F9-9CCA-A40FCDD0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D036-D7FA-4216-86A5-B3A7C929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4AD0-5351-45FB-A1D6-404BEBA3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BFBA-F97C-4789-8CB7-45A6C2ED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6884-EC17-4A68-8134-A20C1E7D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6D59-63E9-4D27-A024-E5705EE5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3208-5A4E-488B-93D3-7071418CA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reginaldorepres@yahoo.com.br" TargetMode="External"/><Relationship Id="rId3" Type="http://schemas.openxmlformats.org/officeDocument/2006/relationships/hyperlink" Target="mailto:reginaldorepres@yahoo.com.br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atrícia%20Pilar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321000" cy="3962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18040" y="2571840"/>
            <a:ext cx="256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 Black"/>
              </a:rPr>
              <a:t>Nota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 Black"/>
              </a:rPr>
              <a:t>Patrícia Pi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 Black"/>
              </a:rPr>
              <a:t>à impren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40040" y="5791320"/>
            <a:ext cx="27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Verdana"/>
              </a:rPr>
              <a:t>17 de Fevereiro de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atrícia%20Pilar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321000" cy="3962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15480" y="685800"/>
            <a:ext cx="3650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O sint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Inclu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ccccff"/>
              </a:buClr>
              <a:buFont typeface="Arial Blac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Um persis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vermelhidão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crostas no s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mamilo levand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coçar e provo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queimação (c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falei, o meu n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coçou ou arde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mas tive u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crosta na bor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externa de 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dos lad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atrícia%20Pilar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321000" cy="3962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57120" y="1828800"/>
            <a:ext cx="2833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b) Uma dor no s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mamilo que n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diminui (a min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era na área 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auréola com 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área grossa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esbranquiçada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centro de m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mamil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atrícia%20Pilar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321000" cy="3962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39960" y="2743200"/>
            <a:ext cx="222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c) Ger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só um mam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é afe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atrícia%20Pilar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321000" cy="3962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152720" y="762120"/>
            <a:ext cx="3550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Como 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diagnostic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Seu médico far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exame físico, e pedir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mamografia bilat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imediat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Apesar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vermelhidão, inchaç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e crosta parece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dermatite (infla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da pele), seu méd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deve suspeitar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câncer se a lesão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em apenas uma m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atrícia%20Pilar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321000" cy="3962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44440" y="1600200"/>
            <a:ext cx="2907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Seu médico dever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pedir uma bio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em sua lesão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confirmar 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está acontece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Eles tirarão 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amostra do s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tecido mam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naquela área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testar um cânc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atrícia%20Pilar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321000" cy="3962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93040" y="1981080"/>
            <a:ext cx="3030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Se o câncer for s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no mamilo e não 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mama, seu méd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pode recomen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retirar só o mam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e o tecido ao redo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ou suger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radioterap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atrícia%20Pilar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321000" cy="3962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23480" y="1905120"/>
            <a:ext cx="3587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Se o médico cuid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do meu rapid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ao invés de ir trat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como dermatite, tal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pudessem salvar min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mama e a doença n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iria para meus nód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linfát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atrícia%20Pilar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321000" cy="3962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164600" y="1905120"/>
            <a:ext cx="3304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 Black"/>
              </a:rPr>
              <a:t>NO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 Black"/>
              </a:rPr>
              <a:t>Esta mensagem d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 Black"/>
              </a:rPr>
              <a:t>ser levada a sério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 Black"/>
              </a:rPr>
              <a:t>repassada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 Black"/>
              </a:rPr>
              <a:t>tantas amigas qua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 Black"/>
              </a:rPr>
              <a:t>possí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 Black"/>
              </a:rPr>
              <a:t>Pode salvar a v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 Black"/>
              </a:rPr>
              <a:t>de algué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atrícia%20Pilar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321000" cy="3962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53440" y="1600200"/>
            <a:ext cx="3277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Meu câncer de m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se espalhou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metastatizou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meus ossos, i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depois de rece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mega dos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quimioterapia,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tratament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radioterapia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tomar Tomoxip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atrícia%20Pilar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321000" cy="3962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36360" y="1828800"/>
            <a:ext cx="347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Talvez se eu soub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dessa doe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anteriormente, ela n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teria se espalh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Tentei relatar o m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caso em um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de TV, mas não hou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interesse sobre 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atrícia%20Pilar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321000" cy="3962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7280" y="1725480"/>
            <a:ext cx="3022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Eu tive uma f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rara de câncer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mama, que está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exterior da mam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no mamilo 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auréola, surge 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um vermelhid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que depois se to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uma lesão 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bordas crusto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atrícia%20Pilar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321000" cy="3962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12840" y="762120"/>
            <a:ext cx="31935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Por favor atend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a este pedi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 Black"/>
              </a:rPr>
              <a:t>ENVIE ESTA MENSA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 Black"/>
              </a:rPr>
              <a:t>A TODAS AS MULHE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 Black"/>
              </a:rPr>
              <a:t>COM QUE VOCÊ 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 Black"/>
              </a:rPr>
              <a:t>PREOCUPA E PARA 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 Black"/>
              </a:rPr>
              <a:t>HOMENS QUE VOC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 Black"/>
              </a:rPr>
              <a:t>CONHECE E QUE AM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 Black"/>
              </a:rPr>
              <a:t>AS MULHERES 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 Black"/>
              </a:rPr>
              <a:t>EXISTEM EM SU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 Black"/>
              </a:rPr>
              <a:t>VIDAS, PARA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 Black"/>
              </a:rPr>
              <a:t>POSSAM TAMBÉ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 Black"/>
              </a:rPr>
              <a:t>AJUDÁ-LAS NO COMB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 Black"/>
              </a:rPr>
              <a:t>CONTRA O CÂNC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ccff"/>
                </a:solidFill>
                <a:latin typeface="Arial Black"/>
              </a:rPr>
              <a:t>Patrícia Pi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29400" y="6019920"/>
            <a:ext cx="2462040" cy="483840"/>
          </a:xfrm>
          <a:prstGeom prst="rect">
            <a:avLst/>
          </a:prstGeom>
          <a:solidFill>
            <a:srgbClr val="3333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ccccff"/>
                </a:solidFill>
                <a:latin typeface="Verdana"/>
              </a:rPr>
              <a:t>Formatação: Reg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reginaldorepres@yahoo.com.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atrícia%20Pilar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321000" cy="3962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12120" y="2514600"/>
            <a:ext cx="300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Eu nunca 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suspeitad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fosse um câ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de mama, mas era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atrícia%20Pilar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321000" cy="3962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70080" y="2133720"/>
            <a:ext cx="2975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Meu mamilo nu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pareceu dife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para mim, mas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vermelhid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incomodou,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isso eu fui 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consultório do m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méd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atrícia%20Pilar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321000" cy="3962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489680" y="1066680"/>
            <a:ext cx="2722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Às vezes coçava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doía, mas out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vezes n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atrapalha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Era só feio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incômodo, e n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desaparecia 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todos os cre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prescritos p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dermatologist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como a dermat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nos olhos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tive antes dis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atrícia%20Pilar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321000" cy="3962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09240" y="1828800"/>
            <a:ext cx="311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Aí fui 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consultório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ser examin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Eles pareciam 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pouco preocupado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mas não 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avisaram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poderia ser cânc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atrícia%20Pilar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321000" cy="3962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51120" y="1801800"/>
            <a:ext cx="3074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Agora suspeit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não haja mui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mulheres por aí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saibam que u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lesão 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vermelhidão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mamilo ou auré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pode ser câ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de m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atrícia%20Pilar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321000" cy="3962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14640" y="990720"/>
            <a:ext cx="3004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Estes são 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sinto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O meu começ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como uma si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pápula (espinha) 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auréo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Um dos ma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problemas c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Doença de Pa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do mamilo é que 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sintomas parec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inofens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atrícia%20Pilar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321000" cy="3962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301040" y="1752480"/>
            <a:ext cx="3187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Pensa-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freqüentemente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é uma inflamação 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infecção de pe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levand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indesejáv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adiamentos 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detenção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trata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21:02:16Z</dcterms:created>
  <dc:creator>Reginaldo Vieira Matos</dc:creator>
  <dc:description/>
  <dc:language>en-US</dc:language>
  <cp:lastModifiedBy>Reginaldo Vieira Matos</cp:lastModifiedBy>
  <dcterms:modified xsi:type="dcterms:W3CDTF">2008-03-25T14:43:05Z</dcterms:modified>
  <cp:revision>20</cp:revision>
  <dc:subject/>
  <dc:title>Apresentação do PowerPoint</dc:title>
</cp:coreProperties>
</file>