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B22-CF3C-4598-98C8-DF07C228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185-25B7-4C9C-BB7C-436ACDAD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DB7-E0AB-4855-A101-E3479C47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CF2-F1CC-4050-884C-CF028EF3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154-6615-473B-8C22-D3389C2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782-33F8-443B-9CDA-8442422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C75-C067-455A-AACC-C5EA793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DB0-88E0-4AAC-9617-E9A278D8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6C2-B81E-4599-89E7-6992337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C2D-137E-4745-977A-B1F08F9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80E-8EE4-4BE3-B396-7635B55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124-E953-4EB9-A5B0-F2B81051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3AF-0852-4191-8174-DDF0F405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eginaldorepres@yahoo.com.br" TargetMode="External"/><Relationship Id="rId3" Type="http://schemas.openxmlformats.org/officeDocument/2006/relationships/hyperlink" Target="mailto:reginaldorepres@yahoo.com.br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8040" y="2571840"/>
            <a:ext cx="25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Not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Patrícia P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à impren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0040" y="57913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Verdana"/>
              </a:rPr>
              <a:t>17 de Fevereiro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5480" y="685800"/>
            <a:ext cx="3650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O sint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lu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ccccff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Um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rostas n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levan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çar e provo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queimação (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alei, o meu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çou ou arde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s tive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rosta na bo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xterna de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s 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57120" y="1828800"/>
            <a:ext cx="28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b) Uma dor n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qu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iminui (a 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ra na área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uréola com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área gross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sbranquiçada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entro de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39960" y="2743200"/>
            <a:ext cx="222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) G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ó um mam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é afe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52720" y="762120"/>
            <a:ext cx="355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omo 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iagnostic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eu médico f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xame físico, e pedi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amografia b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imedia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pesar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vermelhidão, inch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 crosta parece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rmatite (infl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a pele), seu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ve suspeita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âncer se a lesão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m apenas uma m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4440" y="1600200"/>
            <a:ext cx="29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u médico deve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edir uma bio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m sua lesão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firmar 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stá acontec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les tirarão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ostra do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cido ma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aquela áre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star um câ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93040" y="1981080"/>
            <a:ext cx="303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 o câncer for s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o mamilo e não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a, seu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 recom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etirar só o mam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 o tecido ao red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ou suge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adi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3480" y="1905120"/>
            <a:ext cx="358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 o médico cuid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 meu ra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o invés de ir tra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mo dermatite, tal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udessem salvar 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a e a doença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ria para meus nód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inf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64600" y="1905120"/>
            <a:ext cx="330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Esta mensagem d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ser levada a séri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repassad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tantas amigas qu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ode salvar 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de al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53440" y="1600200"/>
            <a:ext cx="327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u câncer de m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e espalhou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tastatizou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us ossos, 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epois de rec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ega dos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quimioterapia,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tratamen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radioterapi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tomar Tomoxi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36360" y="1828800"/>
            <a:ext cx="347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alvez se eu soub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ssa 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nteriormente, ela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ria se espalh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ntei relatar o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aso em um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TV, mas não ho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teresse sobre 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7280" y="1725480"/>
            <a:ext cx="302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u tive um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rara de cânce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mama, que está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xterior da m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no mamil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uréola, surge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 vermelh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que depois se to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a lesão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bordas crust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2840" y="762120"/>
            <a:ext cx="3193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Por favor aten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 este ped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ENVIE ESTA 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 TODAS AS MUL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M QUE VOCÊ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PREOCUPA E PARA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HOMENS QUE VOC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NHECE E QUE AM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S MULHER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EXISTEM EM S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VIDAS, PAR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POSSAM TAMBÉ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AJUDÁ-LAS NO COMB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CONTRA O CÂN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 Black"/>
              </a:rPr>
              <a:t>Patrícia 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29400" y="6019920"/>
            <a:ext cx="2462040" cy="483840"/>
          </a:xfrm>
          <a:prstGeom prst="rect">
            <a:avLst/>
          </a:prstGeom>
          <a:solidFill>
            <a:srgbClr val="3333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ccccff"/>
                </a:solidFill>
                <a:latin typeface="Verdana"/>
              </a:rPr>
              <a:t>Formatação: Reg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reginaldorepres@yahoo.com.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2120" y="2514600"/>
            <a:ext cx="300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u nunca 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uspeitad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osse um câ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mama, mas 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70080" y="2133720"/>
            <a:ext cx="297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eu mamilo nu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receu dif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ra mim, ma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omodou,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sso eu fui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sultório do m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éd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89680" y="1066680"/>
            <a:ext cx="272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Às vezes coçav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oía, mas ou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zes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trapalh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ra só fei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cômodo, 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saparecia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odos os c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scritos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rmatologis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mo a der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os olh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ive antes di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09240" y="1828800"/>
            <a:ext cx="311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í fui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consultório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er exami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Eles pareciam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uco preocupa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s não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visaram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ria ser câ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1120" y="1801800"/>
            <a:ext cx="307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gora suspeit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ão haja mu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ulheres por aí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saibam que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esã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vermelhidão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amilo ou auré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ode ser câ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m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4640" y="990720"/>
            <a:ext cx="3004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Estes são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in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O meu começ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como uma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pápula (espinha)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auré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Um dos ma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problemas c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oença de P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do mamilo é qu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sintomas pare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 Black"/>
              </a:rPr>
              <a:t>inofens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atrícia%20Pilar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01040" y="1752480"/>
            <a:ext cx="318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ensa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freqüentemente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é uma inflamação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fecção de pe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levan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indesej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diamentos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tençã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tra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1:02:16Z</dcterms:created>
  <dc:creator>Reginaldo Vieira Matos</dc:creator>
  <dc:description/>
  <dc:language>en-US</dc:language>
  <cp:lastModifiedBy>Reginaldo Vieira Matos</cp:lastModifiedBy>
  <dcterms:modified xsi:type="dcterms:W3CDTF">2008-03-25T14:43:05Z</dcterms:modified>
  <cp:revision>20</cp:revision>
  <dc:subject/>
  <dc:title>Apresentação do PowerPoint</dc:title>
</cp:coreProperties>
</file>