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0B5-2611-4C4A-8362-828699E9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AD2-8D91-40A4-9502-1235F10D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E4C-4803-4D6C-8532-4E8C2036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269-6FD5-446A-B3E0-001A5B03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29A-06E6-4425-939A-E81E5309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D19-D97F-438A-9C31-3A52BBD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C1B-66AE-4A3D-AE05-ECA389C5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90C-FCC1-49C8-B404-A8214D5C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9E3-BDC0-49C3-B49C-84D30EFD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32D-5BBF-43EB-9CCD-C56B005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093-F421-4C53-A07A-7D381A9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EF2-64BB-4BCF-BB75-F10D41B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9BF5-1AB5-4B9E-823A-FE9F12A5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rk.ac.uk/inst/crd/welcome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0"/>
            <a:ext cx="8686800" cy="236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fornian FB"/>
              </a:rPr>
              <a:t>DESENVOLVIMENTO DE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alifornian FB"/>
              </a:rPr>
              <a:t>PESQUISA EM SAÚ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so de Pós Grad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IZAÇÃO EM REABILITAÇÃO FUNCIONAL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BRO SUPERIOR E TERAPIA DA M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62720"/>
            <a:ext cx="9144000" cy="81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alibri"/>
              </a:rPr>
              <a:t>Profa Dra Lúcia da Rocha Uchôa-Figueir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Universidade Federal de São Paulo – UNIFESP -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Campus Baixada San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2 – APRENDER A PESQUISAR E ANALISAR DIFERENTES TIPOS DE PESQUISA 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AÇÕES NA ÁREA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tar a parte introdutória do Projeto de Pesquisa, aproveitando o conteúdo de seu projeto de TCC que já tem determinado a hipótese e justificativa para a pesquisa e também 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teúdos progra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squisar em banco de dados, materiais, artigos, dissertações e teses para serem utilizadas na parte introdutória do Projeto de Pesqu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ruir a parte teórica introdutória do Projeto de Pesquisa, segundo as normas do Comitê de Ética escolh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rientações para o estudo dos conteú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pesquisa na rede Biblioteca Virtual em Saúde (BVS) (www.bireme.org) (www.bireme.br) onde encontra um amplo leque de opções em artigos de revistas e jornais, textos, seminários e monografias, que lhe permite ter acesso gratuito e 24 horas por dia, através da internet, a todas as informações de que necessita para seu aprimoramento científico ou profiss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2 – APRENDER A PESQUISAR E ANALISAR DIFERENTES TIPOS DE PESQUISA 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AÇÕES NA ÁREA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Na BVS é possível consultar livremente as principais fontes de informações nacionais e internacionais em saúde. Bases de dados para pesquisa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Lilacs, Medline (www.ncbi.nlm.nih.gov/PubMed), , Cochrane Database of Systematic Reviews (CDSR), SciELO (www.scielo.br/anp) , Portal Periódicos Capes MEC, SCAD, Evidence Based Medicine Reviews (EBMR)(www.ovid.com), Best Evidence, Evidence-Based Mental Health, Evidence – Based Nursing, Cancerlit, Healthstar, Aidsline, Bioethicsline. Web of Science, ProBE, Dominio Público-MEC, A Database of Abstracts of Reviews of Effectiveness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Calibri"/>
              </a:rPr>
              <a:t>(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york.ac.uk/inst/crd/welcome.htm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Calibri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Nos Periódicos CAPES consegue-se acesso a material específico de TO como: Australian Journal of Occupational Therapy, e Occupational Therapy Internat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Bancos de Dados específicos da TO - OTSeeker, OTDBase (em março e outubro abre acesso gratuito por uma sema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tividade / Atividad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586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TERATIV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forme for pesquisando nos bancos de dados sugeridos a cima postar os materiais relacionados com a temática de sua monografia, no Portfól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da um dos alunos deverá postar no mínimo 20 artigos de revistas e jornais, textos, seminários, monografias, dissertações e tese, estes relacionados com a temática de sua monografia, no Portfól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 no fórum colocar a resenha de cada um dos artigos para compartilhar com os colegas, lembrem-se de junto as resenhas colocar os dados pertinentes a refer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qui sua atividade é desenvolvida em duas fases (A e B) valendo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1,0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m sua avaliação continuada e cada fase será colocada em um lugar conforme orientações escritas anterior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azo para participação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 até 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19/04/2010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, impreterivelm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TIV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 finalização da parte teórica do Projeto de Pesquisa, conforme norma do Comitê de Ética escolhido. Postagem no Portfól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ua atividade vale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1,0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m sua avaliação continuada e deverá ser entregue no Portfól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azo de entrega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 até 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19/04/2010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, impreterivelmente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ANDO A CONSTRUÇÃO DO PROJETO DE PESQU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Dar andamento ao Projeto de Pesquisa seguindo a programação individual de cada um d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Conteúdos programá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Método, referências e anexos no Projeto de Pesqu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Orientações para o estudo dos conteú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A Unidade 3 tem como principal referência o estudo do: Método, referências bibliográficas e anexos no Projeto de Pesqu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1. CERVO, A. l.; BERVIAN, P. A.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Metodologia científica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. 5 ed. São Paulo: Prentice Hall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2. MINAYO, M. C. S.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O desafio do conhecimento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: pesquisa qualitativa em saúde. 9. ed. São Paulo: Ed. Hucitec, 2006. 406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3. MINAYO, M. C. S.; SANCHES, O. Quantitativo-Qualitativo: Oposição ou complementaridade?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Caderno de Saúde Pública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, Rio de Janeiro, v. 9, n. 3, p. 239-62, jul./set.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(Vide também referências complementares na última pagina do gu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tividade / A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79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tera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esquisar e adequar um instrumento para ser utilizado no Projeto de Pesqu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) Apresentar e discutir algum instrumentos de pesquisa para seu Projeto de Pesqu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ua interatividade no fórum vale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,0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m sua avaliação contin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razo para participaçã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 até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03/05/2010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impreterivel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star o método, referências bibliográficas e anexos do Projeto de Pesqu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ua atividade vale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,0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m sua avaliação continuada e deverá ser entregue no Portfó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razo de entrega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 até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03/05/2010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impreterive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E FINAL DO PROJETO DE PESQU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Termino do Projeto de Pesqu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Conteúdos progra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Finalização do projeto de Pesquisa e entrega do mesmo ao Comitê de 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Orientações para o estudo dos conteú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Na Unidade 4 será feito o “check list” da programação inicial elaborada pelo aluno para entrega do Projeto de Pesquisa ao Comitê de Ética. O que ficou faltando e é específico de cada programação deverá ser cump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tividade / A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Intera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Postagem do “check list” e troca de experiência com os demais alunos para elaboração do que está faltando de material para o Comitê de Ética. No fó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Postagem do protocolo de recebimento do Projeto de Pesquisa pelo Comitê de Ética escolhido pelo aluno. No fó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Sua interatividade vale 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2,0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m sua avaliação contin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Prazo para participação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: até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Calibri"/>
              </a:rPr>
              <a:t>17/05/2010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impreterivel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A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Postagem no portfólio do Projeto de Pesquisa pronto que foi entregue ao Comitê de É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Sua atividade vale 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2,0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m sua avaliação continuada e deverá ser entregue no Portfólio até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Calibri"/>
              </a:rPr>
              <a:t>17/05/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disciplina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senvolvimento de Pesquisa em Saúde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bordará como fazer pesquisa e quais as implicações exigidas para isto em nosso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necessidade e importância de se fazer pesquisa em nosso país fundamentada na resolução nº 196/96, outorgada pelo Decreto nº 93.933 de 14 de janeiro de 1987, que apresentam diretrizes e normas regulamentadoras de pesquisa envolvendo seres humanos.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faculdadesalesiana.edu.br/media/resol19696.pd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jeto de Pesquisa tem de ser aprovado por um Comitê de Ética, para tal se conhecerá o funcionamento deste e suas normas para submissão de Projeto de Pesqu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envolveremos nesta disciplina cada uma das etapas de um Projeto de Pesquisa para futuramente ser submetê-lo ao Comitê de Ética escolh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64960"/>
            <a:ext cx="8610480" cy="523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Para tal será necessário conhecer melhor sobre como pesquisar em banco de dados confiáveis e sobre seus acessos. Afunilar conhecimentos sobre a construção do método e referências bibliográ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Dessa maneira, com estes conhecimentos adquiridos o aluno terá condições de futuramente sozinho galgar uma pós-graduação Stritu Sensu para os que pretendem se aprofundar em pesqu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O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Guia de estudos da disciplina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traz orientações sobre as leituras e a avaliação continuada (interatividades e atividades) que serão desenvolvidas durante o tempo em que a disciplina estiver disponibilizada no Sistema Gerenciador de Aprendizagem (Sala de Aula Virtu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Tutora desta disciplina será a Profa Ms Juliana P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TIVO G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azer com que o aluno seja capaz de entender a importância da pesquisa na área da saúde e da reabilit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ra isso, contarão não só com a obra de referência, mas também com outras referências bibliográficas e eletrônicas complementares, complementadas por debates no Fórum e troca de mensagens na L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o final da disciplina, sob orientação do tutor, redigirão atividades que demonstrem sua aprendizagem sobre os principais conteúdos estudados e os temas debatidos, publicando-as no Portfó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) Conhecer sobre a resolução nº 196/96 “Sobre Pesquisa Envolvendo Seres Humano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) Aprender a pesquisar e analisar diferentes tipos de pesquisa e publicações na área da saú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) Obter um espírito crítico para pesquisa na área da reabili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) Aproveitar os conteúdos apreendidos/analisados e aplicá-los ao Trabalho de Conclusão de Cur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RAÇÃO E CARGA HOR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carga horária da disciplina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senvolvimento de Pesquisa em Saúde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é d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1 hora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em que realizaremos atividades presenciais e atividades a distâ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TIVIDADE PRESEN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7/03/2010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RODUÇÃO À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TIVIDADES A DISTÂNCIA: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 Jul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- 05/04/20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- 19/04/20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  - 03/05/20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 - 17/05/20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9/05/2010 -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VALIAÇÃO DA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sa forma, você terá 17h na modalidade EAD e 04h na modalidade presen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1 – CONHECER SOBRE A RESOLUÇÃO Nº 196/96 “SOBRE PESQUISA ENVOLVENDO SERES HUMANOS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profundar conhecimentos e discu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Sobre Pesquisa Envolvendo Seres Human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Conteúdos progra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· Termos e Defini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· Aspectos Ét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· Consentimento Livre e Esclarec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· Riscos e Benefíc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· Protocolo de Pesqui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· Comitê de Ética em Pesquisa – C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· Comissão Nacional de Ética em Pesquisa – CONEP/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Orientações para o estudo dos conteú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 Unidade 1 tem como principal referência o estudo da Resolução nº196/96 Sobre Pesquisa Envolvendo Seres Humanos, Biética, v.4, 1996, pag. 15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tivida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Leia a Resolução nº196/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Sobre Pesquisa Envolvendo Seres Hum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m seguida interagir com os demais participantes no fórum, debatendo sobre cada um dos tema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) Termos e Definições da resolu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b) Aspectos É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c) Consentimento Livre e Esclarec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d) Riscos e Benefíc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) Protocolo de Pesqui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f) Comitê de Ética em Pesquisa – C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g) Comissão Nacional de Ética em Pesquisa – CONEP/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Sua interatividade vale 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1,0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m sua avaliação continuada, será no Fo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Prazo para participação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: até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Calibri"/>
              </a:rPr>
              <a:t> 05/04/2010,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impreterive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Procure e escolha um Comitê de Ética em Pesquisa em sua cidade ou o do próprio Centro Universitário Claretiano de Batatais e poste no Portfólio </a:t>
            </a:r>
            <a:r>
              <a:rPr b="0" i="1" lang="pt-BR" sz="2000" spc="-1" strike="noStrike">
                <a:solidFill>
                  <a:srgbClr val="ffffff"/>
                </a:solidFill>
                <a:latin typeface="Calibri"/>
              </a:rPr>
              <a:t>as normas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xigidas para você submeter o seu Projeto de Pesquisa, baseado em seu Projeto de TCC, durante esta discipl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inda com base na Resolução anterior, nas normas do Comitê escolhido e juntando com os dados de seu projeto de TCC da disciplina de metodologia, estruture em tópicos como você deverá desenvolver o seu Projeto de Pesquisa e o que você precisará além do Projeto para entregar ao Comitê de Ética. Postar no portfó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qui sua atividade é desenvolvida em duas fases (A e B) valendo 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1,0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m sua avaliação continuada e as duas fases deverão ser entregues no Portfó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Prazo de entrega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: até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Calibri"/>
              </a:rPr>
              <a:t>05/04/2010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impreterive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os</cp:lastModifiedBy>
  <dcterms:modified xsi:type="dcterms:W3CDTF">2010-03-26T16:02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