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DD0-6284-4C24-81D9-C631FD1E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44E-3553-4965-A595-F0D65F2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A3D-8A1F-4B61-8D85-4069BAB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6B3-8B42-4ACC-9CBE-A2D63830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AE8-98C3-43FF-8048-EA50D22A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CC1-157F-4531-8AF6-0154309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369-F516-4FC0-A5C8-E2CC3DD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A6E-A313-4D9D-8C48-E60B7CD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71E-EBFB-4BC8-9562-3F273A53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1C2-79AD-4D6F-AD57-CF1A186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649-57AF-4295-962F-B31B18B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B85-870F-4A79-BE1C-B40E2D7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1B8-D271-42E4-B0BB-0B8EE80DB6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bilitação Funcional dos Membros Superiores e  Terapia da Mã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Profa. Dra. Lúcia da Rocha Uchô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Profa. Esp. Cláudia D. P. Barbos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57200"/>
            <a:ext cx="8915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ENTRO UNIVERSITÁRIO CLARETI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URSO DE PÓS-GRADUAÇÃO EM TERAPIA OCUP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racterização do Curs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 VIII –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rodução ao estudo das órteses, Classificação, Princípios mecânicos e Confecção de órteses para o membro superior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X –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Estudos clínicos na área de reabilitação físic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rigada!!!!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lesões e processos patológicos que acometem o membro superior podem provocar desde leves alterações em seus padrões de movimento até graves incapacidades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Verdana"/>
                <a:ea typeface="Arial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Verdana"/>
                <a:ea typeface="Arial"/>
              </a:rPr>
              <a:t>	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Nesse sentido, este curso foi criteriosamente preparado para garantir a formação de um profissional especialista em Reabilitação do Membro Superior e Terapia da Mão, que tenha condições de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estabelecer a biomecânica e função adequada deste importante segmento do corpo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2. Adaptar o indivíduo à um novo padrão de movimento caso não seja possível a recuperação completa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3. prevenir deformidades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4. confeccionar órteses que favoreçam a proteção, a reabilitação e a função do membro acometido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5. Auxiliar a clientela a atingir o grau máximo possível de autonomia e independência em seu cotidiano.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ssim, o curso Reabilitação Funcional do membro superior e Terapia da mão, tem como intuito formar profissionais capacitados a reabilitar as disfunções que acometem o membro superior (críticos e reflexivos), contribuintes de uma produção de conhecimentos e que colaborem para o avanço dos estudos a respeito da Reabilitação do Membro Superior, da Terapia Ocupacional e da Fisioterapia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racterização do Curs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ta-se de um curso Semipresencial, ou seja, existirá atividades realizadas e monitoradas à distância (com uso de diferentes tecnologias) e outras presencialmente. 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racterização do Curs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ódulo I – Processos Patológicos, Procedimentos Cirúrgicos, Avaliação e Reabilitação do Ombr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 II – Processos Patológicos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rocedimentos Cirúrgicos, Avaliação e Reabilitação do Cotovel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racterização do Curs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 III– Metodologia da Pesquisa Cientifica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V – Recursos terapêuticos em Reabilitação do Membro Superio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V - Didática do Ensino Superio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racterização do Curs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 VI – Processos Patológicos, Procedimentos Cirúrgicos, Avaliação e Reabilitação do Punho e Mã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Módul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VII – Desenvolvimento de Pesquisa em Saú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2:41:06Z</dcterms:created>
  <dc:creator>Cliente</dc:creator>
  <dc:description/>
  <dc:language>en-US</dc:language>
  <cp:lastModifiedBy>Camila Dilello</cp:lastModifiedBy>
  <dcterms:modified xsi:type="dcterms:W3CDTF">2009-08-15T14:56:50Z</dcterms:modified>
  <cp:revision>5</cp:revision>
  <dc:subject/>
  <dc:title>Reabilitação Funcional dos Membros Superiores e  Terapia da Mão</dc:title>
</cp:coreProperties>
</file>