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A4B-2D1C-4644-B071-870FD050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22F0-E2FA-47A1-84B2-509D6C1C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01C-74B1-492E-ACC5-DEAF2936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C9A7-9376-4FC0-8DE3-F4CA6079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643F-4229-4930-8E2B-961C16BF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1A91-AF50-4D6A-A524-66469FFB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8182-E62B-46F4-8B03-E17D81F4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3D56-A454-4018-980C-C798AD22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3F5D-00F7-4EC6-9709-8552C404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1E84-E56E-48AB-A666-ED265AF7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C11C-273F-457A-BD68-E99AB0D0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C1FB-00CD-489E-9381-6BFF799E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13FE-94A1-41CE-9CC2-C8BE2E3E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3545-E8C3-45E1-8BE2-1755E45F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C51E-A262-43DE-8283-D7E59721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AE02-A6F8-4268-BF51-E4C073D4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6788-5139-4252-ABFB-4C76320A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14A2-306C-4060-BFFE-3C88A2CF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E28-9373-42D9-B095-D0536102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3043-8D28-4CC9-B268-18C73C2D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7D3C-1860-44FE-BAE2-999B8BD9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2D2-69FE-427A-8CEB-46F6F709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E4B-19F5-407C-8F42-01A6E049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6BC9-09B7-4102-A2B8-A04C0075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A80A-31C4-4278-A8CC-6ED8053795BD}" type="slidenum">
              <a:rPr b="0" lang="pt-B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56D0-FAF3-4B47-966D-6DB7228E0A23}" type="slidenum">
              <a:rPr b="0" lang="pt-B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333399"/>
                </a:solidFill>
                <a:latin typeface="Tahoma"/>
              </a:rPr>
              <a:t>Aspectos Anatômicos e Funcionais da Mão</a:t>
            </a:r>
            <a:endParaRPr b="0" lang="en-US" sz="3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438280" y="54100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fa Esp. Cláudia Barb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572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ENTRO UNIVERSITÁRIO CLARETI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URSO DE PÓS-GRADUAÇÃO EM TERAPIA OCUP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e1c24"/>
                </a:solidFill>
                <a:latin typeface="Arial"/>
              </a:rPr>
              <a:t>APONEUROSE PALM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É na aponeurose palmar que se assenta a moléstia de DUPUYTREN, que nada mais é que uma metaplasia fibrosa desta estrutu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As aponeuroses palmares e dorsais dividem a mão em compartimentos que podem ser sede de patologias compressivas tumorais, inflamatórias e infeccios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e1c24"/>
                </a:solidFill>
                <a:latin typeface="Arial"/>
              </a:rPr>
              <a:t>TUNEIS E BAINHAS SINOVIAIS DOS TENDÕES FLEXORES DA MÃ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Os tendões flexores, ao chegarem no punho, se introduzem por baixo do ligamento anular anterior do car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Este ligamento se constitui numa cinta fibrosa, de forma quadrilátera, que se extende transversalmente de um a outro lado do carp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Junto com o assoalho, formado pelos ossos, cápsula e ligamentos do carpo, o ligamento anular anterior do carpo forma um túnel por onde passam tendões flexores superficiais e profundos dos dedos, flexor longo do polegar e nervo media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Nesta região, os tendões flexores são envolvidos por membranas sinoviais, sendo o líquido sinovial de grande importância para a sua nutrição e lubrificaçã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9760" y="531720"/>
            <a:ext cx="8664480" cy="57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O nervo ulnar passa por um túnel separado na região do carpo, denominadocanal de Guyon, cujos limites são o pisiforme e o hâmulo do hama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695680" y="609480"/>
            <a:ext cx="3476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Os tendões extensores são envolvidos por membrana sinovial ao nível do punho. Nessa região encontramos seis compartimentos, tendo a cápsula articular dorsal do punho como o assoalho, e o ligamento transverso, ou retináculo dos extensores, como o te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47800" y="142920"/>
            <a:ext cx="56466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219320" y="1244520"/>
          <a:ext cx="7543800" cy="5004000"/>
        </p:xfrm>
        <a:graphic>
          <a:graphicData uri="http://schemas.openxmlformats.org/drawingml/2006/table">
            <a:tbl>
              <a:tblPr/>
              <a:tblGrid>
                <a:gridCol w="2779560"/>
                <a:gridCol w="4764240"/>
              </a:tblGrid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timent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ndõ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rimei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Abdutor longo do poleg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Extensor curto do poleg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Segun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Extensor radial longo do car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Extensor radial curto do poleg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Tercei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Extensor longo do poleg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Quar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Extensor comum dos de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Extensor próprio do indic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Qui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Extensor próprio do dedo míni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Sex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Extensor ulnar do car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e1c24"/>
                </a:solidFill>
                <a:latin typeface="Arial"/>
              </a:rPr>
              <a:t>INERVA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324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A mão é o segmento terminal do membro superior,continuação do punho, terminando distalmente com os de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Seu limite proximal seria dado por um plano horizontal que passa pelo pisiforme e pelo escafói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23e89"/>
                </a:solidFill>
                <a:latin typeface="Arial"/>
              </a:rPr>
              <a:t>Nervo Median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sensibilidade para o polegar, indicador, dedo médio e metade radial volar do anula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motricidade dos músculos flexores extrínsecos (flexor radial do carpo, palmar longo, flexor longo do polegar, flexor superficial dos dedos e porção radial doflexor profundo dos dedo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Motricidade de intrínsecos (cabeç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superficial do flexor curto do polegar, opon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do polegar, abdutor curto do polegar e lumbricais para dedos indicador e médi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705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23e89"/>
                </a:solidFill>
                <a:latin typeface="Arial"/>
              </a:rPr>
              <a:t>Nervo Uln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sensibilidade para dedos mínimos e metade ulnar do anula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motricidade de músculos extrínsecos (flexor ulnar do carpo e porção ulnar do flexor profundo dos dedo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motricidade de intrínsecos (cabeça profunda do flexor curto do polegar, adutor do polegar, músculos da eminência hipotenar, interósseos palmares, interósseos dorsais e lumbricais para os dedos anular e mínim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23e89"/>
                </a:solidFill>
                <a:latin typeface="Arial"/>
              </a:rPr>
              <a:t>Nervo Radial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sensibilidade para a região da tabaqueira anatômic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motricidade dos músculos extensores extrínsecos (extensor ulnar do carpo, extensor comum dos dedos, extensor próprio do indicador, extensor próprio do dedo mínimo, extensor radial curto e longo do carpo, abdutor longo do polegar, extensor curto e longo do polega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e1c24"/>
                </a:solidFill>
                <a:latin typeface="Arial"/>
              </a:rPr>
              <a:t>VASCULARIZA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rtérias Radial e Ulnar que irão formar os arcos palmares superficial e profun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Arco palmar superficial (mais proximal) as artérias digitais para os de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Arco palmar profundo (mais distal)           a artéria </a:t>
            </a:r>
            <a:r>
              <a:rPr b="0" i="1" lang="pt-BR" sz="2800" spc="-1" strike="noStrike">
                <a:solidFill>
                  <a:srgbClr val="231f20"/>
                </a:solidFill>
                <a:latin typeface="Arial"/>
              </a:rPr>
              <a:t>policis princeps 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que origina as artérias digitais para o polegar, artéria digital radial para o indicador e artérias interósse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411480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54864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917800" y="685800"/>
            <a:ext cx="340668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e1c24"/>
                </a:solidFill>
                <a:latin typeface="Arial"/>
              </a:rPr>
              <a:t>ESQUELE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arp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ileira Proximal: escafoide, semilunar, piramidal e pisifor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ileira Distal: trapézio, trapezóide, capitato e hama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s ossos do carpo possuem grande congruência graças a forte ligame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48160" y="2017800"/>
            <a:ext cx="340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Seu esqueleto corresponderia a segunda fileira do carpo, aos ossos metacárpicos e às falan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As articulações radiocarpica, intercarpica e carpo-metacarpiana promovem movimentos de flexão, extensão, adução e abdução cuja somatória formauma figura de uma elíp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A articulação trapézio-metacarpiana do polegar é do tipo selar e permite um elevado grau de liberdade articu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As articulações metacarpo-falangianas, além de permitir movimentos de flexo-extensão, quando estendidas permitem movimentos de adução e abduç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Por outro lado, as articulações interfalangianas permitem apenas movimentos de flexão e extens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ee1c24"/>
                </a:solidFill>
                <a:latin typeface="Arial"/>
              </a:rPr>
              <a:t>MUSCULATURA INTRÍNSE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Os músculos intrínsecos são aqueles que se originam e se inserem na m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Músculos da Eminência Tenar: flexor curto, abdutor curto, adutor e oponente do poleg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Músculos da Eminência Hipotenar: abdutor, flexor curto e oponente de dedo mínim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Os interósseos dorsais realizam a abdução dos dedos e a flexão da metacarpofalangiana com extensão das interfalangian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Os interósseos ventrais realizam a adução dos dedos e, junto com os interósseos dorsais e lumbricais, realizam a flexão da metacarpofalangiana e extensão das interfalangian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Os lumbricais se originam dos flexores profundos dos dedos passam radialmente às articulações metacarpofalangianas, e se inserem no aparelho extensor. Realizam a flexão das metacarpofalangianas e extensão das interfalangian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Tahoma"/>
              </a:rPr>
              <a:t>DE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gião ventr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- Pregas de flexão da articulações MF, IFP e IF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- A derme extremamente rica em terminações vasculares e nervosas, principalmente na polpa dosdedos, que é a região de maior sensibilidade tátil (“olhos da mão”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mpressões Digitais na epider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Tecido Celular Subcutâneo é fixa à derme à bainha dos flex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gião Dors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Pele da região dorsal da mão e dos dedos é provida de pelos, é mais elástica e menos aderente aos planos profun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Possui pregas cutâneas mais evidentes na região das articulações interfalangian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-  O </a:t>
            </a:r>
            <a:r>
              <a:rPr b="0" i="1" lang="pt-BR" sz="2800" spc="-1" strike="noStrike">
                <a:solidFill>
                  <a:srgbClr val="231f20"/>
                </a:solidFill>
                <a:latin typeface="Arial"/>
              </a:rPr>
              <a:t>tecido celular subcutâneo 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na regiãodorsal é pouco espesso e por ele transitam as veias superficiais dorsais, principais responsáveis pela drenagem venosa dos dedos e da mã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Aspectos Funcionais da Mão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sição Preensora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tilizada nas imobilizações e posicionamentos dinâmic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unho em torno de 30º de extens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F em flex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F em extensão ou leve flex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legar abdução palmar 45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lpa do polegar alinhada com polpa do indicador e  dedo mé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743200" y="2133720"/>
          <a:ext cx="4067280" cy="31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133720"/>
                    <a:ext cx="406728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Clínica e anatomicamente podemos dividi-la 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231f20"/>
                </a:solidFill>
                <a:latin typeface="Arial"/>
              </a:rPr>
              <a:t>Mão: 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Região Ventral (palm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     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Região Dor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231f20"/>
                </a:solidFill>
                <a:latin typeface="Arial"/>
              </a:rPr>
              <a:t>Dedos: 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Região Vent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Região Dor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rcos da M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- Arco longitud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- Arco transverso Proxi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- Arco transverso Dis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145120" y="2201760"/>
          <a:ext cx="3809880" cy="37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5120" y="2201760"/>
                    <a:ext cx="380988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egas de flexão da Mão: indicam o movimento das articulações e orientam o terapeuta a definir os limites da órtese, liberando ou bloqueando-a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827680" y="2017800"/>
          <a:ext cx="2444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27680" y="2017800"/>
                    <a:ext cx="2444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ceito de obliquidade: com a mão fechada podemos verificar uma “queda” do II ao V dedo devido à diferenças de comprimento e da mobilidade entre o II e o IV e V do metacarpian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eminências óss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14400" y="2781360"/>
            <a:ext cx="74674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linhamento do III Metacarpiano com ossos do antebraç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feito tenodese: ação sinérgica dos flexores e extensores do pun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linhamento dos de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590920" y="2666880"/>
          <a:ext cx="32176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666880"/>
                    <a:ext cx="32176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e1c24"/>
                </a:solidFill>
                <a:latin typeface="Arial"/>
              </a:rPr>
              <a:t>MÃO VENTRAL (PALM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231f20"/>
                </a:solidFill>
                <a:latin typeface="Arial"/>
              </a:rPr>
              <a:t>A região ventral, ou palmar, apresenta três saliênci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31f20"/>
                </a:solidFill>
                <a:latin typeface="Arial"/>
              </a:rPr>
              <a:t>– </a:t>
            </a:r>
            <a:r>
              <a:rPr b="0" lang="pt-BR" sz="2400" spc="-1" strike="noStrike">
                <a:solidFill>
                  <a:srgbClr val="231f20"/>
                </a:solidFill>
                <a:latin typeface="Arial"/>
              </a:rPr>
              <a:t>Eminência Ten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31f20"/>
                </a:solidFill>
                <a:latin typeface="Arial"/>
              </a:rPr>
              <a:t>– </a:t>
            </a:r>
            <a:r>
              <a:rPr b="0" lang="pt-BR" sz="2400" spc="-1" strike="noStrike">
                <a:solidFill>
                  <a:srgbClr val="231f20"/>
                </a:solidFill>
                <a:latin typeface="Arial"/>
              </a:rPr>
              <a:t>Eminência Hipoten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31f20"/>
                </a:solidFill>
                <a:latin typeface="Arial"/>
              </a:rPr>
              <a:t>– </a:t>
            </a:r>
            <a:r>
              <a:rPr b="0" lang="pt-BR" sz="2400" spc="-1" strike="noStrike">
                <a:solidFill>
                  <a:srgbClr val="231f20"/>
                </a:solidFill>
                <a:latin typeface="Arial"/>
              </a:rPr>
              <a:t>Saliência Digito-pal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231f20"/>
                </a:solidFill>
                <a:latin typeface="Arial"/>
              </a:rPr>
              <a:t>Estas saliências circundam o oco da mão no centro da pal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45120" y="252252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240" y="304920"/>
            <a:ext cx="7583400" cy="58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Nesta região encontramos as pre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cutâneas que devem ser considera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como “conseqüência” dos movimen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31f20"/>
                </a:solidFill>
                <a:latin typeface="Arial"/>
              </a:rPr>
              <a:t>fisiológic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2666880"/>
          <a:ext cx="8686800" cy="391968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23e89"/>
                          </a:solidFill>
                          <a:latin typeface="Arial"/>
                        </a:rPr>
                        <a:t>Articula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23e89"/>
                          </a:solidFill>
                          <a:latin typeface="Arial"/>
                        </a:rPr>
                        <a:t>Movim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1 – prega distal ou inferi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Metacarpo-falangi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flex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2 – prega 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Metacarpo-falangi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flex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3 – prega proximal ou superi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Trapézio-metacarpi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oponê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24240" y="2017800"/>
            <a:ext cx="5287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e1c24"/>
                </a:solidFill>
                <a:latin typeface="Arial"/>
              </a:rPr>
              <a:t>PE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5105520"/>
            <a:ext cx="76320" cy="304560"/>
          </a:xfrm>
          <a:prstGeom prst="upArrow">
            <a:avLst>
              <a:gd name="adj1" fmla="val 50000"/>
              <a:gd name="adj2" fmla="val 9976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sem pêl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sem glândulas sebác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com muitas glândulas sudorípar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é muito aderente aos planos profundos, sendo praticamente imóvel em quase toda sua extensã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Sua espessura é geralmente maior que em outras regiões do corpo (  espessura  formação de calosidades devido à pressão e esforços exagerad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5638680"/>
            <a:ext cx="304560" cy="76320"/>
          </a:xfrm>
          <a:prstGeom prst="rightArrow">
            <a:avLst>
              <a:gd name="adj1" fmla="val 50000"/>
              <a:gd name="adj2" fmla="val 9976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e1c24"/>
                </a:solidFill>
                <a:latin typeface="Arial"/>
              </a:rPr>
              <a:t>APONEUROSE PALM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A aponeurose superficial pode ser dividida em três porçõ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1 – a porção média, ou aponeurose palmar propriamente dita, localiza-se no oco da mão e se caracteriza por ser forte,espessa e possuir septo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2 – a porção lateral, ou aponeurose da eminência tenar, que se caracteriza por ser tênu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31f20"/>
                </a:solidFill>
                <a:latin typeface="Arial"/>
              </a:rPr>
              <a:t>3 – a porção medial, ou aponeurose da eminência hipotenar, que também é fina e delic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0:44:36Z</dcterms:created>
  <dc:creator>Cliente</dc:creator>
  <dc:description/>
  <dc:language>en-US</dc:language>
  <cp:lastModifiedBy>Camila Dilello</cp:lastModifiedBy>
  <dcterms:modified xsi:type="dcterms:W3CDTF">2009-08-15T14:56:33Z</dcterms:modified>
  <cp:revision>12</cp:revision>
  <dc:subject/>
  <dc:title>Semiologia da Mão</dc:title>
</cp:coreProperties>
</file>