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elicidad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E32-B2DA-49BC-811F-BA2C25B8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BF3-CA1D-46D2-B94E-CC4AEA1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B27-BD3F-4462-8999-C3B75659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AEA-1E74-4EDC-A1EB-F1521A73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036-F919-4516-9C53-E4577751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135-DF4D-46D0-91E8-37098391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C01-ACA1-4C23-9505-B52A37F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EFB-A5D8-41E1-BE9B-CC9184AA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B2E-7B23-42B7-821D-78C53F36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DE3-ED73-4558-8C27-F944C3F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B76-4FCF-400E-8B16-FC8B914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52A-AE98-4B64-AC6B-957C135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B8F-85BE-4518-802C-B183EE087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elicidad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1"/>
          <p:cNvSpPr/>
          <p:nvPr/>
        </p:nvSpPr>
        <p:spPr>
          <a:xfrm>
            <a:off x="0" y="230508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"Os  homens  que  perdem  a  saúde  para j untar  dinheiro                                                          e  depois  perdem  o  dinheiro  para  recuperar  a  saúde;                                                        Por  pensarem  ansiosamente  no  futuro,   esquecem  o  presente,                                  de tal  forma  que  acabam  por  nem  viver  no  presente   nem  no  futuro;                                                                                                                                     Vivem  como  se  nunca  fossem  morrer                                                                                               e morrem  como  se  nunca  tivessem  vivido.“                                                                              (Bu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ângulo 3"/>
          <p:cNvSpPr/>
          <p:nvPr/>
        </p:nvSpPr>
        <p:spPr>
          <a:xfrm>
            <a:off x="214200" y="562752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s  fraldas  de vez em quando me incomodam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e me deixam envergonha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3"/>
          <p:cNvSpPr/>
          <p:nvPr/>
        </p:nvSpPr>
        <p:spPr>
          <a:xfrm>
            <a:off x="214200" y="57214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Gostaria,  às vezes,  de caminhar   para  espairecer  e  ver  a  naturez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ângulo 3"/>
          <p:cNvSpPr/>
          <p:nvPr/>
        </p:nvSpPr>
        <p:spPr>
          <a:xfrm>
            <a:off x="214200" y="522144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Receber  uma  palavrinha  me  faz  lembrar  que  sou  gente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4"/>
          <p:cNvSpPr/>
          <p:nvPr/>
        </p:nvSpPr>
        <p:spPr>
          <a:xfrm>
            <a:off x="214200" y="56991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receber  visitas  me  faz  lembrar  que  sou  importante;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 receber  um  abraço  e um beijo  me diz  que  alguém  ainda  tem  afeto  por  mim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ângulo 3"/>
          <p:cNvSpPr/>
          <p:nvPr/>
        </p:nvSpPr>
        <p:spPr>
          <a:xfrm>
            <a:off x="214200" y="52149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  falta  de  sono  não  é  proposital,  nem  intencional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tângulo 4"/>
          <p:cNvSpPr/>
          <p:nvPr/>
        </p:nvSpPr>
        <p:spPr>
          <a:xfrm>
            <a:off x="214200" y="56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 falta  de  interesse  está  além  do  meu  controle;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minha  falta  de  jeito  é  inexplicável   para  mim  mesma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tângulo 3"/>
          <p:cNvSpPr/>
          <p:nvPr/>
        </p:nvSpPr>
        <p:spPr>
          <a:xfrm>
            <a:off x="214200" y="536400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o  esquecimento  me  deixa  traumatizad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4"/>
          <p:cNvSpPr/>
          <p:nvPr/>
        </p:nvSpPr>
        <p:spPr>
          <a:xfrm>
            <a:off x="214200" y="60069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Tenho  dores  que  às  vezes  não  posso  contar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tângulo 3"/>
          <p:cNvSpPr/>
          <p:nvPr/>
        </p:nvSpPr>
        <p:spPr>
          <a:xfrm>
            <a:off x="285840" y="529272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Nem  sempre  o  que  me  fazem  fazer   é  o  que  eu  gostaria  de  estar  fazend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5"/>
          <p:cNvSpPr/>
          <p:nvPr/>
        </p:nvSpPr>
        <p:spPr>
          <a:xfrm>
            <a:off x="285840" y="59292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Meu  olhar   vago  não  reflete  o  que  sint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3"/>
          <p:cNvSpPr/>
          <p:nvPr/>
        </p:nvSpPr>
        <p:spPr>
          <a:xfrm>
            <a:off x="214200" y="543564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E se  não  dou  um  abraço  é  porque  os  meus  braços  não  me  obedecem  ma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4"/>
          <p:cNvSpPr/>
          <p:nvPr/>
        </p:nvSpPr>
        <p:spPr>
          <a:xfrm>
            <a:off x="214200" y="595800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se  não  dou  um  beijo  é  porque  meus  lábios   não  sabem  mais  o  que  faz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tângulo 3"/>
          <p:cNvSpPr/>
          <p:nvPr/>
        </p:nvSpPr>
        <p:spPr>
          <a:xfrm>
            <a:off x="285840" y="5380200"/>
            <a:ext cx="864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Se  não  te  digo  que  valorizo  sua  dedicação  e  seu  amor                                       é  porque  a  ponte  se  partiu                                                                                                           e perdi  o  caminho que  me  levaria  a  compartilhar  meus  sentimentos              com  você.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3"/>
          <p:cNvSpPr/>
          <p:nvPr/>
        </p:nvSpPr>
        <p:spPr>
          <a:xfrm>
            <a:off x="285840" y="571500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ss.   “Um  ser  Humano  que  Envelhece"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tângulo 3"/>
          <p:cNvSpPr/>
          <p:nvPr/>
        </p:nvSpPr>
        <p:spPr>
          <a:xfrm>
            <a:off x="214200" y="541332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"Os  homens  não  têm  muito  respeito  pelos  outros                                                     porque  têm  pouco  até por  sí  próprios."                                                                          (Leon Trots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5"/>
          <p:cNvSpPr/>
          <p:nvPr/>
        </p:nvSpPr>
        <p:spPr>
          <a:xfrm>
            <a:off x="214200" y="550080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Testamento  de  um  idoso  com  Alzheimer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(Lilian Alick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  <p:sndAc>
      <p:stSnd>
        <p:snd r:embed="rId2" name="Felicida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tângulo 3"/>
          <p:cNvSpPr/>
          <p:nvPr/>
        </p:nvSpPr>
        <p:spPr>
          <a:xfrm>
            <a:off x="214200" y="524844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"A  vida  é  mais  simples  do  que  a  gente  pensa;                                                         basta  aceitar  o  impossível,                                                                                              dispensar  o  indispensável  e  suportar  o  intolerável."                                                       ( Kathleen Norr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1"/>
          <p:cNvSpPr/>
          <p:nvPr/>
        </p:nvSpPr>
        <p:spPr>
          <a:xfrm>
            <a:off x="0" y="21510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O  Mal  de  Alzheimer,                                                                                                                              ou  Doença  de  Alzheimer  ou  simplesmente  Alzheimer                                                        é  a  forma  mais  comum  de  demência.                                                                                         Esta  doença  degenerativa,  até  o  momento  incurável   e  terminal                               foi  descrita   pela primeira  vez  em 1906  pelo  psiquiatra  alemão  Alois Alzheimer, de quem  herdou  o  nome.                                                                                                         Esta  doença  afeta  geralmente  pessoas  acima  dos  65 anos,</a:t>
            </a:r>
            <a:r>
              <a:rPr b="1" i="1" lang="pt-BR" sz="2000" spc="-1" strike="noStrike" baseline="30000">
                <a:solidFill>
                  <a:srgbClr val="ffffff"/>
                </a:solidFill>
                <a:latin typeface="Papyrus"/>
              </a:rPr>
              <a:t>                                              </a:t>
            </a: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embora  o  seu  diagnóstico  seja  possível   também                                                               em  pessoas   mais   novas   do   que  esta   id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tângulo 1"/>
          <p:cNvSpPr/>
          <p:nvPr/>
        </p:nvSpPr>
        <p:spPr>
          <a:xfrm>
            <a:off x="0" y="107460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Cada  paciente  de  alzheimer  sofre  a  doença  de  forma  única                                     mas  existem  pontos  em  comum,                                                                                                         por  exemplo  o  sintoma  primário  mais  comum    é  a  perda  de  memória.                                                                                                               Muitas  vezes  os  primeiros  sintomas                                                                                           são  confundidos  com  problemas  de  idade  ou  de  stress.                                         Quando  é  suspeitado  Alzheimer                                                                                                     o  paciente  é  submetido  a  uma  série  de  testes  cognitivos.                                              Com  o  avançar  da  doença  vão  aparecendo  novos  sintomas  como  confusão, irritabilidade  e  agressividade,  alterações  de  humor,  falhas  na  linguagem,           perda  de  memória  a  longo  prazo                                                                                                       e  o  paciente  começa  a  desligar-se  da realidade.                                                                                                                                                  As  suas  funções  motoras  começam  a  perder-se                                                                     e  o  paciente  acaba  por  morrer.                                                                                                 Antes  de  se  tornar  totalmente  aparente                                                                                      o  alzheimer   vai-se  desenvolvendo  por  um  período  indeterminado  de  tempo              e  pode  manter-se   invisível   durante  an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ixaDeTexto 3"/>
          <p:cNvSpPr/>
          <p:nvPr/>
        </p:nvSpPr>
        <p:spPr>
          <a:xfrm>
            <a:off x="214200" y="528624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Música:  Felicidade.  “Solo Violão.”  Lupicinio  Rodrig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ixaDeTexto 4"/>
          <p:cNvSpPr/>
          <p:nvPr/>
        </p:nvSpPr>
        <p:spPr>
          <a:xfrm>
            <a:off x="214200" y="614376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Papyrus"/>
              </a:rPr>
              <a:t>gilmargss@yahoo.com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214200" y="534204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Junto  com  meu  testamento,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no  qual   lego  a  meus  filhos  e  amigos   a  minha  vontade  de  viver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e  meu  amor   a  Deus  e  a  toda  a  criação,   faço  um   pedid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142920" y="5214960"/>
            <a:ext cx="88581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Papyrus"/>
              </a:rPr>
              <a:t>se,  por  ventura,  no  meu  cérebro  a  senilidade  penetrar  sorrateiramente,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Papyrus"/>
              </a:rPr>
              <a:t> a demência  se  infiltrar  inesperadamente  e  o  esquecimento,                                      a  falta  de  lucidez  e  a  confusão  se  instalarem,   por favor,                                     lembrem  que  eventualmente,  ainda  tenho  uma  vaga  idéia  de minha  identidade; 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4"/>
          <p:cNvSpPr/>
          <p:nvPr/>
        </p:nvSpPr>
        <p:spPr>
          <a:xfrm>
            <a:off x="214200" y="296712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3"/>
          <p:cNvSpPr/>
          <p:nvPr/>
        </p:nvSpPr>
        <p:spPr>
          <a:xfrm>
            <a:off x="214200" y="54291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gosto  de  ser  chamada  pelo  meu  nome,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quele  que  meus  pais  me  deram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3"/>
          <p:cNvSpPr/>
          <p:nvPr/>
        </p:nvSpPr>
        <p:spPr>
          <a:xfrm>
            <a:off x="214200" y="529272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posso  ainda  saber  onde  estou  e  com  quem  estou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tângulo 4"/>
          <p:cNvSpPr/>
          <p:nvPr/>
        </p:nvSpPr>
        <p:spPr>
          <a:xfrm>
            <a:off x="214200" y="592920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posso  estar  gostando  ou  não  de  onde  estou  e  com  quem  estou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tângulo 3"/>
          <p:cNvSpPr/>
          <p:nvPr/>
        </p:nvSpPr>
        <p:spPr>
          <a:xfrm>
            <a:off x="214200" y="555624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faço  ainda  questão  de  usar   aquele  tipo  de  sapato                                                     que  toda  a  minha  vida  usei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3"/>
          <p:cNvSpPr/>
          <p:nvPr/>
        </p:nvSpPr>
        <p:spPr>
          <a:xfrm>
            <a:off x="214200" y="555624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gosto  ainda  de  usar  a  roupa  ao  estilo  que  sempre  preferi;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 a  roupa  dos  outros  colocada  em  mim  me  entristec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2360" y="214200"/>
            <a:ext cx="8639280" cy="4857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051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127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tângulo 3"/>
          <p:cNvSpPr/>
          <p:nvPr/>
        </p:nvSpPr>
        <p:spPr>
          <a:xfrm>
            <a:off x="214200" y="536400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  falta  de  atenção  em  me  ajudar  na  higiene  pessoal  me  traz  ansiedad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4"/>
          <p:cNvSpPr/>
          <p:nvPr/>
        </p:nvSpPr>
        <p:spPr>
          <a:xfrm>
            <a:off x="214200" y="593568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pyrus"/>
              </a:rPr>
              <a:t>A  comida  de  um  estilo  que  não  conheço  não  me  apetece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2:21:41Z</dcterms:created>
  <dc:creator>Gilmar Schardosim</dc:creator>
  <dc:description/>
  <dc:language>en-US</dc:language>
  <cp:lastModifiedBy>manolo</cp:lastModifiedBy>
  <dcterms:modified xsi:type="dcterms:W3CDTF">2009-09-22T23:52:58Z</dcterms:modified>
  <cp:revision>24</cp:revision>
  <dc:subject/>
  <dc:title>Slide 1</dc:title>
</cp:coreProperties>
</file>