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EF8-92D4-455E-AEE8-15F1D78C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2BC-5A0D-40E9-B62B-5770FB5B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BD3-91C1-462E-9E81-A1F5C28F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B0E-4D06-4FBD-9520-37FD1B21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AD0-F4B5-485C-A214-C99EF645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D12-35F9-4A0F-B4CD-DD6FA25D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4D5-BD72-4785-AFB7-6603A1A0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252-3F7B-4213-A165-3F52B8A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B39-7DBE-4A0A-80AA-4AC8720E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0CC-EF9E-4774-BF50-14D3AB0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D3B-D830-4B1B-9266-E4486D8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46B-ECCF-4842-9BB2-36BFA6D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228-0DBB-4105-9EA9-8EC3FB5F38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665360" y="158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0"/>
          <p:cNvSpPr/>
          <p:nvPr/>
        </p:nvSpPr>
        <p:spPr>
          <a:xfrm>
            <a:off x="0" y="0"/>
            <a:ext cx="3308400" cy="10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912960" y="7400880"/>
            <a:ext cx="265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ÍODO DE INSCRI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638520" y="7400880"/>
            <a:ext cx="260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0/09 a 15/10/2010 (on-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000080" y="8048520"/>
            <a:ext cx="25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06/09 a 09/09/2010   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7881840"/>
            <a:ext cx="221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licitação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dução da tax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inscri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499760" y="9129600"/>
            <a:ext cx="396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ttp://www.fcm.unicamp.br/fcm/ensino/aprimor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1931400" y="1376280"/>
            <a:ext cx="295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c2532"/>
                </a:solidFill>
                <a:latin typeface="Arial Black"/>
              </a:rPr>
              <a:t>CURSOS DE ESPECIALIZAÇÃO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1632240" y="1992240"/>
            <a:ext cx="36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c2532"/>
                </a:solidFill>
                <a:latin typeface="Arial Black"/>
              </a:rPr>
              <a:t>APRIMORAMENTO NA ÁREA DA SAÚ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69"/>
          <p:cNvGrpSpPr/>
          <p:nvPr/>
        </p:nvGrpSpPr>
        <p:grpSpPr>
          <a:xfrm>
            <a:off x="1927080" y="3216240"/>
            <a:ext cx="2635200" cy="3527280"/>
            <a:chOff x="1927080" y="3216240"/>
            <a:chExt cx="2635200" cy="3527280"/>
          </a:xfrm>
        </p:grpSpPr>
        <p:sp>
          <p:nvSpPr>
            <p:cNvPr id="51" name="Rectangle 20"/>
            <p:cNvSpPr/>
            <p:nvPr/>
          </p:nvSpPr>
          <p:spPr>
            <a:xfrm>
              <a:off x="2401920" y="3216240"/>
              <a:ext cx="2160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8c2532"/>
                  </a:solidFill>
                  <a:latin typeface="Arial Black"/>
                </a:rPr>
                <a:t>FCM - UNICAMP - 2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1" descr=""/>
            <p:cNvPicPr/>
            <p:nvPr/>
          </p:nvPicPr>
          <p:blipFill>
            <a:blip r:embed="rId1"/>
            <a:srcRect l="0" t="4800" r="0" b="0"/>
            <a:stretch/>
          </p:blipFill>
          <p:spPr>
            <a:xfrm>
              <a:off x="2161800" y="3670560"/>
              <a:ext cx="1925280" cy="28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Freeform 22"/>
            <p:cNvSpPr/>
            <p:nvPr/>
          </p:nvSpPr>
          <p:spPr>
            <a:xfrm>
              <a:off x="1954080" y="3786120"/>
              <a:ext cx="968400" cy="149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2887200" y="4211640"/>
              <a:ext cx="1429920" cy="2531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1927080" y="3809160"/>
              <a:ext cx="968400" cy="1479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2868120" y="4165200"/>
              <a:ext cx="1429920" cy="254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66"/>
          <p:cNvGrpSpPr/>
          <p:nvPr/>
        </p:nvGrpSpPr>
        <p:grpSpPr>
          <a:xfrm>
            <a:off x="5391000" y="193680"/>
            <a:ext cx="1206360" cy="942480"/>
            <a:chOff x="5391000" y="193680"/>
            <a:chExt cx="1206360" cy="942480"/>
          </a:xfrm>
        </p:grpSpPr>
        <p:sp>
          <p:nvSpPr>
            <p:cNvPr id="58" name="Freeform 26"/>
            <p:cNvSpPr/>
            <p:nvPr/>
          </p:nvSpPr>
          <p:spPr>
            <a:xfrm>
              <a:off x="5391000" y="1087920"/>
              <a:ext cx="1206360" cy="482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7"/>
            <p:cNvSpPr/>
            <p:nvPr/>
          </p:nvSpPr>
          <p:spPr>
            <a:xfrm>
              <a:off x="5561640" y="356400"/>
              <a:ext cx="406440" cy="6991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5823000" y="746280"/>
              <a:ext cx="302400" cy="3092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5994000" y="372240"/>
              <a:ext cx="406800" cy="6829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6019560" y="340560"/>
              <a:ext cx="131760" cy="637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6019560" y="340560"/>
              <a:ext cx="131760" cy="637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6007680" y="276120"/>
              <a:ext cx="131760" cy="961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6007680" y="276120"/>
              <a:ext cx="131760" cy="961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6151320" y="404640"/>
              <a:ext cx="27000" cy="158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6151320" y="404640"/>
              <a:ext cx="27000" cy="342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5980320" y="503280"/>
              <a:ext cx="27000" cy="316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5980320" y="503280"/>
              <a:ext cx="27000" cy="316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6019560" y="193680"/>
              <a:ext cx="27360" cy="320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9"/>
            <p:cNvSpPr/>
            <p:nvPr/>
          </p:nvSpPr>
          <p:spPr>
            <a:xfrm>
              <a:off x="6019560" y="193680"/>
              <a:ext cx="39240" cy="320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0"/>
            <p:cNvSpPr/>
            <p:nvPr/>
          </p:nvSpPr>
          <p:spPr>
            <a:xfrm>
              <a:off x="5980320" y="244080"/>
              <a:ext cx="105480" cy="11196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1"/>
            <p:cNvSpPr/>
            <p:nvPr/>
          </p:nvSpPr>
          <p:spPr>
            <a:xfrm>
              <a:off x="5980320" y="244080"/>
              <a:ext cx="105480" cy="11196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2"/>
            <p:cNvSpPr/>
            <p:nvPr/>
          </p:nvSpPr>
          <p:spPr>
            <a:xfrm>
              <a:off x="5954760" y="209520"/>
              <a:ext cx="64440" cy="1306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3"/>
            <p:cNvSpPr/>
            <p:nvPr/>
          </p:nvSpPr>
          <p:spPr>
            <a:xfrm>
              <a:off x="5954760" y="209520"/>
              <a:ext cx="64440" cy="1306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4"/>
            <p:cNvSpPr/>
            <p:nvPr/>
          </p:nvSpPr>
          <p:spPr>
            <a:xfrm>
              <a:off x="5889600" y="209520"/>
              <a:ext cx="51480" cy="1306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5"/>
            <p:cNvSpPr/>
            <p:nvPr/>
          </p:nvSpPr>
          <p:spPr>
            <a:xfrm>
              <a:off x="5889600" y="209520"/>
              <a:ext cx="51480" cy="1306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6"/>
            <p:cNvSpPr/>
            <p:nvPr/>
          </p:nvSpPr>
          <p:spPr>
            <a:xfrm>
              <a:off x="5823000" y="225720"/>
              <a:ext cx="92160" cy="1303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7"/>
            <p:cNvSpPr/>
            <p:nvPr/>
          </p:nvSpPr>
          <p:spPr>
            <a:xfrm>
              <a:off x="5823000" y="225720"/>
              <a:ext cx="106200" cy="1303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8"/>
            <p:cNvSpPr/>
            <p:nvPr/>
          </p:nvSpPr>
          <p:spPr>
            <a:xfrm>
              <a:off x="5783760" y="276120"/>
              <a:ext cx="117720" cy="961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9"/>
            <p:cNvSpPr/>
            <p:nvPr/>
          </p:nvSpPr>
          <p:spPr>
            <a:xfrm>
              <a:off x="5783760" y="276120"/>
              <a:ext cx="117720" cy="961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0"/>
            <p:cNvSpPr/>
            <p:nvPr/>
          </p:nvSpPr>
          <p:spPr>
            <a:xfrm>
              <a:off x="5771880" y="324360"/>
              <a:ext cx="117720" cy="799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1"/>
            <p:cNvSpPr/>
            <p:nvPr/>
          </p:nvSpPr>
          <p:spPr>
            <a:xfrm>
              <a:off x="5771880" y="324360"/>
              <a:ext cx="117720" cy="799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2"/>
            <p:cNvSpPr/>
            <p:nvPr/>
          </p:nvSpPr>
          <p:spPr>
            <a:xfrm>
              <a:off x="5783760" y="404640"/>
              <a:ext cx="105480" cy="504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3"/>
            <p:cNvSpPr/>
            <p:nvPr/>
          </p:nvSpPr>
          <p:spPr>
            <a:xfrm>
              <a:off x="5783760" y="404640"/>
              <a:ext cx="105480" cy="504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4"/>
            <p:cNvSpPr/>
            <p:nvPr/>
          </p:nvSpPr>
          <p:spPr>
            <a:xfrm>
              <a:off x="5811120" y="420840"/>
              <a:ext cx="90360" cy="662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5"/>
            <p:cNvSpPr/>
            <p:nvPr/>
          </p:nvSpPr>
          <p:spPr>
            <a:xfrm>
              <a:off x="5811120" y="420840"/>
              <a:ext cx="90360" cy="662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6"/>
            <p:cNvSpPr/>
            <p:nvPr/>
          </p:nvSpPr>
          <p:spPr>
            <a:xfrm>
              <a:off x="5862600" y="455040"/>
              <a:ext cx="117720" cy="644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7"/>
            <p:cNvSpPr/>
            <p:nvPr/>
          </p:nvSpPr>
          <p:spPr>
            <a:xfrm>
              <a:off x="5862600" y="455040"/>
              <a:ext cx="117720" cy="644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8"/>
            <p:cNvSpPr/>
            <p:nvPr/>
          </p:nvSpPr>
          <p:spPr>
            <a:xfrm>
              <a:off x="5980320" y="455040"/>
              <a:ext cx="66600" cy="482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9"/>
            <p:cNvSpPr/>
            <p:nvPr/>
          </p:nvSpPr>
          <p:spPr>
            <a:xfrm>
              <a:off x="5980320" y="455040"/>
              <a:ext cx="66600" cy="482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0"/>
            <p:cNvSpPr/>
            <p:nvPr/>
          </p:nvSpPr>
          <p:spPr>
            <a:xfrm>
              <a:off x="6007680" y="404640"/>
              <a:ext cx="131760" cy="824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1"/>
            <p:cNvSpPr/>
            <p:nvPr/>
          </p:nvSpPr>
          <p:spPr>
            <a:xfrm>
              <a:off x="6007680" y="404640"/>
              <a:ext cx="131760" cy="824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62" descr=""/>
          <p:cNvPicPr/>
          <p:nvPr/>
        </p:nvPicPr>
        <p:blipFill>
          <a:blip r:embed="rId2"/>
          <a:stretch/>
        </p:blipFill>
        <p:spPr>
          <a:xfrm>
            <a:off x="501480" y="108000"/>
            <a:ext cx="1127160" cy="846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3"/>
          <p:cNvSpPr/>
          <p:nvPr/>
        </p:nvSpPr>
        <p:spPr>
          <a:xfrm>
            <a:off x="386640" y="103680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C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"/>
          <p:cNvSpPr/>
          <p:nvPr/>
        </p:nvSpPr>
        <p:spPr>
          <a:xfrm>
            <a:off x="2280960" y="696924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999999"/>
                </a:solidFill>
                <a:latin typeface="Arial Black"/>
              </a:rPr>
              <a:t>PROCESSO SELE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57400" y="1136520"/>
            <a:ext cx="4518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. Administração em Unidades de Alimentação Hospital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. Aprimoramento em Laboratório Clínic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. Aprimoramento em Terapia Nutricional para Nutricionis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. Aprimoramento em Lípid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. Atendimento à Saúde da Mulh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6. Atendimento ao Acidentado de Trabalh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7. Atendimento ao Paciente com Tuberculo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8. Atendimento ao Paciente Portador do Vírus HI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9. Ciências Sociais em Saú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0. Desenvolvimento Infantil: Linguagem e Surdez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1. Diagnóstico Microbiológico e Imunológico de Micoses Endêmicas e Oportunis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2. Enfermagem em Oncologia e Tratamento Antineoplásic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3. Física Médica Aplicada à Radioterap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4. Fisioterapia Aplicada à Ortopedia e Traumatolog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5. Fisioterapia em Neurologia Infant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6. Fisioterapia em Pediatr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7. Fisioterapia nas Disfunções Cárdio-Respiratóri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8. Fisioterapia em Unidade de Terapia Intensiv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19. Fonoaudiologia e Saúde Auditiv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0. Fonoaudiologia em Neurologia Infant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1. Fonoaudiologia na Área de Surde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2. Fonoaudiologia Pediátr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3. Genética Molecular e Citogenét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4. Hemoterap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5. Microbiologia e Parasitologia Clínica Aplicada à Atenção Primária à Saú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6. Microbiologia e Parasitologia Clínica Aplicada à Atenção Secundár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 Terciária à Saú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7. Nutrição em Doenças Crônicas em Atendimento Ambulator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8. Nutrição em Hematologia e Oncolog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29. Nutrição em Pediat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0. Nutrição Hospita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1. Nutrição no Sistema Digestó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2. Ouvidoria Hospita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3. Patologia Clí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4. Planejamento e Administração de Serviços de Saú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5. Práticas e Políticas Sociais na Área da Saúde e Reabilitaç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6. Psicologia Clínica em Neurologia Infa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7. Psicologia Clínica na Saúde Reprodutiva da Mul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8. Psicologia do Desenvolvimento e Deficiê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39. Psicologia do Desenvolvimento: Atendimento à Crianças e Adolesc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0. Psico-Oncolog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1. Psicopedagogia Aplicada à Neurologia Infa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2. Reabilitação em Atividades de Vida Diá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3. Reabilitação em Saúde Ocu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4. Saúde Ment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5. Serviço Social e Saúde 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6. Serviço Social em Incapacidades Neurológicas: Prevenção e Assistê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7. Serviço Social em Oncolog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8. Serviço Social em Pediat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49. Serviço Social, Família e Reabilitação na Área da Saú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0. Serviço Social, Saúde e Envelhecimen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1. Serviço Social, Saúde e Violê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2. Surdez: Desenvolvimento e Inclus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3. Terapia Ocupacional e Reabilitaç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4. Toxicologia Analít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55. Toxicologia para Enfermei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85000" y="200160"/>
            <a:ext cx="5845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SOS OFERECIDOS –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Os Cursos de Aprimoramento da FCM /UNICAMP são também Cursos de Especializ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conhecidos pelo Ministério da Educação, segundo a Resolução nº1, de 08 de junho de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35:59Z</dcterms:created>
  <dc:creator>poiani</dc:creator>
  <dc:description/>
  <dc:language>en-US</dc:language>
  <cp:lastModifiedBy>ceclima</cp:lastModifiedBy>
  <dcterms:modified xsi:type="dcterms:W3CDTF">2010-09-08T13:23:40Z</dcterms:modified>
  <cp:revision>8</cp:revision>
  <dc:subject/>
  <dc:title>Slide 1</dc:title>
</cp:coreProperties>
</file>