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7CACC-CD84-4D7B-B3F8-3C413840A4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73777-81AD-447E-8415-EC73722FFE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51CA6-F0B1-4AB0-A3FC-1DB08E3C6F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DEA1E-C038-40D6-B09A-11A30EE1FE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85555-6489-4D5F-8D8E-E34B573647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39AE9-B0B2-4396-A14C-6844EF3E5B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04F40-5CD9-4FDC-A8DC-BAC0821C32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FDFD6-B416-48A9-B0BE-6671F2AA8D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B02F2-AB9D-418F-8150-1417946829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A3706-F1D2-43C0-86CA-804B8733ED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8FC19-FC4F-4F20-A0B4-02D97CCAA1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9E358-7E2D-4315-9C1E-A655EA214F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7643E-CFBC-4D3C-8D09-4B709B01D4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62E-697D-4AE3-A9AA-539BDD3B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A11-0692-48F2-B111-3CC1AEC3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C23-6C74-4187-8A18-8E1EAD11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CB6-7834-4B07-A466-B651516C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892-5C02-4DD1-B056-53B8AAEE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1FB-332D-4C24-8B6E-B40B0A32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D5C-F7E6-418C-A551-93D6C204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5B4-FEC9-4992-B813-3BC1F40A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604-A054-472C-A4FA-A29C7E4B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085-8A4E-4FE0-A6CE-72A50832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22B-1415-42E6-9820-9951473A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1E1-8224-4445-8238-221F3D01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E39A96-CA05-4AE6-90CE-C77090945E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refito.com.br/app/atomedico/escolhedepto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3959280" y="3060720"/>
            <a:ext cx="1619280" cy="4140360"/>
          </a:xfrm>
          <a:custGeom>
            <a:avLst/>
            <a:gdLst>
              <a:gd name="textAreaLeft" fmla="*/ 360 w 1619280"/>
              <a:gd name="textAreaRight" fmla="*/ 1618920 w 1619280"/>
              <a:gd name="textAreaTop" fmla="*/ 360 h 4140360"/>
              <a:gd name="textAreaBottom" fmla="*/ 4140000 h 4140360"/>
            </a:gdLst>
            <a:ahLst/>
            <a:rect l="textAreaLeft" t="textAreaTop" r="textAreaRight" b="textAreaBottom"/>
            <a:pathLst>
              <a:path w="21600" h="55222">
                <a:moveTo>
                  <a:pt x="21" y="0"/>
                </a:moveTo>
                <a:arcTo wR="21" hR="21" stAng="16200000" swAng="-5400000"/>
                <a:lnTo>
                  <a:pt x="0" y="55201"/>
                </a:lnTo>
                <a:arcTo wR="21" hR="21" stAng="10800000" swAng="-5400000"/>
                <a:lnTo>
                  <a:pt x="21579" y="55222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33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619280" y="360360"/>
            <a:ext cx="2160720" cy="6840720"/>
          </a:xfrm>
          <a:custGeom>
            <a:avLst/>
            <a:gdLst>
              <a:gd name="textAreaLeft" fmla="*/ 360 w 2160720"/>
              <a:gd name="textAreaRight" fmla="*/ 2160360 w 2160720"/>
              <a:gd name="textAreaTop" fmla="*/ 360 h 6840720"/>
              <a:gd name="textAreaBottom" fmla="*/ 6840360 h 6840720"/>
            </a:gdLst>
            <a:ahLst/>
            <a:rect l="textAreaLeft" t="textAreaTop" r="textAreaRight" b="textAreaBottom"/>
            <a:pathLst>
              <a:path w="21600" h="68377">
                <a:moveTo>
                  <a:pt x="15" y="0"/>
                </a:moveTo>
                <a:arcTo wR="15" hR="15" stAng="16200000" swAng="-5400000"/>
                <a:lnTo>
                  <a:pt x="0" y="68362"/>
                </a:lnTo>
                <a:arcTo wR="15" hR="15" stAng="10800000" swAng="-5400000"/>
                <a:lnTo>
                  <a:pt x="21585" y="6837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33a3a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76360" y="1260360"/>
            <a:ext cx="899928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Tahoma"/>
              </a:rPr>
              <a:t>POR QUE VOCÊ VAI SER PREJUDICADO PELO ATO-MÉDICO, APROVADO EM OUTUBRO PELA CÂMARA DOS DEPUTADO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47640" y="1197000"/>
            <a:ext cx="8820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rá que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a formação acadêmica de um médico englobasse o conhecimento técnico e prático de todas as outras 11 profissões de nível superior da área da saúde, essas profissões existiriam e teriam sido regulamentadas pelo Presidente da Repúbl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"/>
          <p:cNvGrpSpPr/>
          <p:nvPr/>
        </p:nvGrpSpPr>
        <p:grpSpPr>
          <a:xfrm>
            <a:off x="4140360" y="2519280"/>
            <a:ext cx="5757480" cy="4857480"/>
            <a:chOff x="4140360" y="2519280"/>
            <a:chExt cx="5757480" cy="4857480"/>
          </a:xfrm>
        </p:grpSpPr>
        <p:pic>
          <p:nvPicPr>
            <p:cNvPr id="146" name="Picture 3" descr=""/>
            <p:cNvPicPr/>
            <p:nvPr/>
          </p:nvPicPr>
          <p:blipFill>
            <a:blip r:embed="rId1"/>
            <a:stretch/>
          </p:blipFill>
          <p:spPr>
            <a:xfrm>
              <a:off x="8279280" y="2519280"/>
              <a:ext cx="1079280" cy="14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4" descr=""/>
            <p:cNvPicPr/>
            <p:nvPr/>
          </p:nvPicPr>
          <p:blipFill>
            <a:blip r:embed="rId2"/>
            <a:stretch/>
          </p:blipFill>
          <p:spPr>
            <a:xfrm>
              <a:off x="7739640" y="4857480"/>
              <a:ext cx="1078920" cy="14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"/>
            <p:cNvPicPr/>
            <p:nvPr/>
          </p:nvPicPr>
          <p:blipFill>
            <a:blip r:embed="rId3"/>
            <a:stretch/>
          </p:blipFill>
          <p:spPr>
            <a:xfrm>
              <a:off x="5758560" y="2879280"/>
              <a:ext cx="1079280" cy="14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6" descr=""/>
            <p:cNvPicPr/>
            <p:nvPr/>
          </p:nvPicPr>
          <p:blipFill>
            <a:blip r:embed="rId4"/>
            <a:stretch/>
          </p:blipFill>
          <p:spPr>
            <a:xfrm>
              <a:off x="6849360" y="2879280"/>
              <a:ext cx="1069560" cy="14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"/>
            <p:cNvPicPr/>
            <p:nvPr/>
          </p:nvPicPr>
          <p:blipFill>
            <a:blip r:embed="rId5"/>
            <a:stretch/>
          </p:blipFill>
          <p:spPr>
            <a:xfrm>
              <a:off x="6658920" y="4138920"/>
              <a:ext cx="1078920" cy="14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8" descr=""/>
            <p:cNvPicPr/>
            <p:nvPr/>
          </p:nvPicPr>
          <p:blipFill>
            <a:blip r:embed="rId6"/>
            <a:stretch/>
          </p:blipFill>
          <p:spPr>
            <a:xfrm>
              <a:off x="6479280" y="5577840"/>
              <a:ext cx="1069920" cy="14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9" descr=""/>
            <p:cNvPicPr/>
            <p:nvPr/>
          </p:nvPicPr>
          <p:blipFill>
            <a:blip r:embed="rId7"/>
            <a:stretch/>
          </p:blipFill>
          <p:spPr>
            <a:xfrm>
              <a:off x="5219280" y="5398560"/>
              <a:ext cx="1079280" cy="14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0" descr=""/>
            <p:cNvPicPr/>
            <p:nvPr/>
          </p:nvPicPr>
          <p:blipFill>
            <a:blip r:embed="rId8"/>
            <a:stretch/>
          </p:blipFill>
          <p:spPr>
            <a:xfrm>
              <a:off x="8458560" y="5937840"/>
              <a:ext cx="1079280" cy="14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1" descr=""/>
            <p:cNvPicPr/>
            <p:nvPr/>
          </p:nvPicPr>
          <p:blipFill>
            <a:blip r:embed="rId9"/>
            <a:stretch/>
          </p:blipFill>
          <p:spPr>
            <a:xfrm>
              <a:off x="4858920" y="3778920"/>
              <a:ext cx="1069560" cy="14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2" descr=""/>
            <p:cNvPicPr/>
            <p:nvPr/>
          </p:nvPicPr>
          <p:blipFill>
            <a:blip r:embed="rId10"/>
            <a:stretch/>
          </p:blipFill>
          <p:spPr>
            <a:xfrm>
              <a:off x="4140360" y="5937840"/>
              <a:ext cx="1078920" cy="14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3" descr=""/>
            <p:cNvPicPr/>
            <p:nvPr/>
          </p:nvPicPr>
          <p:blipFill>
            <a:blip r:embed="rId11"/>
            <a:stretch/>
          </p:blipFill>
          <p:spPr>
            <a:xfrm>
              <a:off x="8818560" y="4318200"/>
              <a:ext cx="1079280" cy="143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14" descr=""/>
          <p:cNvPicPr/>
          <p:nvPr/>
        </p:nvPicPr>
        <p:blipFill>
          <a:blip r:embed="rId12"/>
          <a:stretch/>
        </p:blipFill>
        <p:spPr>
          <a:xfrm>
            <a:off x="720720" y="4019400"/>
            <a:ext cx="2281320" cy="2100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5"/>
          <p:cNvSpPr/>
          <p:nvPr/>
        </p:nvSpPr>
        <p:spPr>
          <a:xfrm>
            <a:off x="3600360" y="4319640"/>
            <a:ext cx="1440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8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3780000" y="4500720"/>
            <a:ext cx="539640" cy="1079280"/>
          </a:xfrm>
          <a:prstGeom prst="line">
            <a:avLst/>
          </a:prstGeom>
          <a:ln w="72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1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044720" y="1116000"/>
            <a:ext cx="8099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epois dessa explicação, tenho certeza que você, ao contrário dos deputados, achou este projeto de lei surreal e absur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1079640" y="2593800"/>
            <a:ext cx="7740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pesar de aprovado na Câmara, este projeto precisa voltar para o Senado Federal para ser aprovado definitivamente, pois foi proposto por um senador da repúbl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079640" y="4680000"/>
            <a:ext cx="1587240" cy="1825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2592360" y="5759280"/>
            <a:ext cx="5580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enador Geraldo Althof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700360" y="6048360"/>
            <a:ext cx="3419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éd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2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3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1"/>
          <p:cNvSpPr/>
          <p:nvPr/>
        </p:nvSpPr>
        <p:spPr>
          <a:xfrm>
            <a:off x="3600360" y="1440000"/>
            <a:ext cx="3600720" cy="360360"/>
          </a:xfrm>
          <a:prstGeom prst="roundRect">
            <a:avLst>
              <a:gd name="adj" fmla="val 44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684360" y="1332000"/>
            <a:ext cx="88200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O que você pode fazer, antes que seja tarde demais, é mandar e-mail ou telefonar para o senador em que votou para representar teus interesses no Senado Federal e manifestar o seu descontentamento com esse projeto de lei e deixar claro que não considera esta lei benéfica e util para os cidadãos brasilei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160720" y="4124160"/>
            <a:ext cx="6300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80099"/>
                </a:solidFill>
                <a:latin typeface="Arial"/>
              </a:rPr>
              <a:t>http://www.senado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20720" y="5759280"/>
            <a:ext cx="8820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lém de encaminhar este e-mail para seus familiares e amigos, para que tomem conhecimento deste projeto de le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020000" y="7078680"/>
            <a:ext cx="3419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500" spc="-1" strike="noStrike">
                <a:solidFill>
                  <a:srgbClr val="000000"/>
                </a:solidFill>
                <a:latin typeface="Arial"/>
              </a:rPr>
              <a:t>Gabriel Lavoura - fisioterapeu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5580000" y="38685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7020000" y="3959280"/>
            <a:ext cx="1388880" cy="979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1079640" y="3613320"/>
            <a:ext cx="3958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ulte o e-mail dos senadores 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9280" y="-248760"/>
            <a:ext cx="90691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577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cê também pode entrar no site do Conselho das profissões de Terapia Ocupacional  e Fisioterap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refito.com.br/app/atomedico/escolhedepto.ht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loque seu nome, e-mail e o estado em que reside enviando a carta elaborada pelo CREFITO aos senad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úde é um direito de todos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"/>
          <p:cNvSpPr/>
          <p:nvPr/>
        </p:nvSpPr>
        <p:spPr>
          <a:xfrm>
            <a:off x="5580000" y="2987640"/>
            <a:ext cx="2700360" cy="360360"/>
          </a:xfrm>
          <a:prstGeom prst="roundRect">
            <a:avLst>
              <a:gd name="adj" fmla="val 44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47640" y="936720"/>
            <a:ext cx="828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Essa semana (22/10/09) foi aprovado na Câmara dos Deputados, o Projeto de lei 7.703-A, conhecido por ato-méd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47640" y="2124000"/>
            <a:ext cx="936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Em teoria, apenas uma simples regulamentação da profissão de méd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680000" y="4319640"/>
            <a:ext cx="485928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a prática ela é um crime contra 4.000.000 (quatro milhões) de outros profissionais de saúde e uma ameaça a 191.000.000 (cento e noventa e um milhões) de brasileiros, incluindo voc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5720" y="4319640"/>
            <a:ext cx="3554640" cy="270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720720" y="2916360"/>
            <a:ext cx="845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 fosse simples assim, ela não levado 4 anos em discussão para ser aprovada e ter sido alterada incontáveis vezes. Não concord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34800" y="3971880"/>
            <a:ext cx="290520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576360" y="863640"/>
            <a:ext cx="88916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m, o problema desta, e de toda lei, é que ela não se limita ao que está escrito. Sempre cabem muitas interpretações, pois o que deixou de ser escrito, mas pode ser subentendido, é que é o probl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440000" y="2592360"/>
            <a:ext cx="113709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que você entenda do que estou falando, vou citar o artig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rto, deste projeto de le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3348000" y="4284720"/>
            <a:ext cx="7378200" cy="1977840"/>
            <a:chOff x="3348000" y="4284720"/>
            <a:chExt cx="7378200" cy="1977840"/>
          </a:xfrm>
        </p:grpSpPr>
        <p:sp>
          <p:nvSpPr>
            <p:cNvPr id="61" name="AutoShape 5"/>
            <p:cNvSpPr/>
            <p:nvPr/>
          </p:nvSpPr>
          <p:spPr>
            <a:xfrm>
              <a:off x="3348000" y="4284720"/>
              <a:ext cx="6478560" cy="1977840"/>
            </a:xfrm>
            <a:prstGeom prst="vertic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6"/>
            <p:cNvSpPr/>
            <p:nvPr/>
          </p:nvSpPr>
          <p:spPr>
            <a:xfrm>
              <a:off x="3887280" y="4715640"/>
              <a:ext cx="683892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Art. 4º</a:t>
              </a:r>
              <a:r>
                <a:rPr b="0" i="1" lang="pt-BR" sz="2200" spc="-1" strike="noStrike">
                  <a:solidFill>
                    <a:srgbClr val="000000"/>
                  </a:solidFill>
                  <a:latin typeface="Arial"/>
                </a:rPr>
                <a:t> São atividades privativas do médico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pt-BR" sz="2200" spc="-1" strike="noStrike">
                  <a:solidFill>
                    <a:srgbClr val="000000"/>
                  </a:solidFill>
                  <a:latin typeface="Arial"/>
                </a:rPr>
                <a:t>I – formulação do diagnóstico nosológico 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pt-BR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pt-BR" sz="2200" spc="-1" strike="noStrike">
                  <a:solidFill>
                    <a:srgbClr val="000000"/>
                  </a:solidFill>
                  <a:latin typeface="Arial"/>
                </a:rPr>
                <a:t>respectiva prescrição terapêutica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"/>
          <p:cNvSpPr/>
          <p:nvPr/>
        </p:nvSpPr>
        <p:spPr>
          <a:xfrm>
            <a:off x="5580000" y="2124000"/>
            <a:ext cx="1800" cy="14400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5040360" y="3419640"/>
            <a:ext cx="2340000" cy="360360"/>
          </a:xfrm>
          <a:prstGeom prst="roundRect">
            <a:avLst>
              <a:gd name="adj" fmla="val 44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539640" y="5400720"/>
            <a:ext cx="9180720" cy="1439640"/>
          </a:xfrm>
          <a:prstGeom prst="roundRect">
            <a:avLst>
              <a:gd name="adj" fmla="val 106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859280" y="1800360"/>
            <a:ext cx="1440000" cy="360360"/>
          </a:xfrm>
          <a:prstGeom prst="roundRect">
            <a:avLst>
              <a:gd name="adj" fmla="val 44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3959280" y="1440000"/>
            <a:ext cx="1260360" cy="360360"/>
          </a:xfrm>
          <a:prstGeom prst="roundRect">
            <a:avLst>
              <a:gd name="adj" fmla="val 44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20720" y="270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360" bIns="450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Kartika"/>
              </a:rPr>
              <a:t>Privativa: vem de privado, limitado à, exclusivo, proibido aos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720720" y="3427560"/>
            <a:ext cx="9360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360" bIns="450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Kartika"/>
              </a:rPr>
              <a:t>Nosologia: ramo da medicina que trata das enfermidades em geral e as class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411280" y="4211640"/>
            <a:ext cx="7740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360" bIns="450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Kartika"/>
              </a:rPr>
              <a:t>qualquer afecção (doença, dor, problema) que atinja qualquer parte do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60360" y="539640"/>
            <a:ext cx="7740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ou advogado, vamos interpretar somente as palavr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116000" y="1436760"/>
            <a:ext cx="86724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Art. 4º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São atividades privativas do méd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I – formulação do diagnóstico nosológico e respectiva prescrição terapêuti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12720" y="5614920"/>
            <a:ext cx="89996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Portanto, de acordo com esta lei, fica sendo atividade exclusiva do médico, fazer o diagnóstico e definir como vai ser feito o tratamento de qualquer tipo de problema que a pessoa tenh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4500720" y="1800360"/>
            <a:ext cx="1440" cy="900000"/>
          </a:xfrm>
          <a:custGeom>
            <a:avLst/>
            <a:gdLst>
              <a:gd name="textAreaLeft" fmla="*/ 0 w 1440"/>
              <a:gd name="textAreaRight" fmla="*/ 1800 w 144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1" h="2501">
                <a:moveTo>
                  <a:pt x="0" y="0"/>
                </a:moveTo>
                <a:lnTo>
                  <a:pt x="0" y="2500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3"/>
          <p:cNvSpPr/>
          <p:nvPr/>
        </p:nvSpPr>
        <p:spPr>
          <a:xfrm>
            <a:off x="6300720" y="3780000"/>
            <a:ext cx="1800" cy="539640"/>
          </a:xfrm>
          <a:custGeom>
            <a:avLst/>
            <a:gdLst>
              <a:gd name="textAreaLeft" fmla="*/ 0 w 1800"/>
              <a:gd name="textAreaRight" fmla="*/ 2160 w 18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" h="1501">
                <a:moveTo>
                  <a:pt x="0" y="0"/>
                </a:moveTo>
                <a:lnTo>
                  <a:pt x="0" y="1500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1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2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4859280" y="594036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755640" y="5940360"/>
            <a:ext cx="1079640" cy="144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720720" y="828720"/>
            <a:ext cx="84596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E se a pessoa tem um problema que não precisa ser resolvido por um médico. Como problema postural (fisioterapia), obesidade (nutricionista) ou um trauma de infância (psicólogo) por exemp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20720" y="2303640"/>
            <a:ext cx="77407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Ela terá que ir, obrigatoriamente, ao médico pois passará a ser exclusividade do médico diagnosticar doenças e dizer como será o trat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79640" y="4572000"/>
            <a:ext cx="234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RM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079640" y="5089680"/>
            <a:ext cx="2160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FERM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79640" y="5543640"/>
            <a:ext cx="216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UTR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417840" y="4416480"/>
            <a:ext cx="306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SIO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384720" y="4824360"/>
            <a:ext cx="3276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RAPIA OCUP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419640" y="5219640"/>
            <a:ext cx="3060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SIC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3419640" y="5580000"/>
            <a:ext cx="2160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I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6480000" y="4680000"/>
            <a:ext cx="28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480000" y="4319640"/>
            <a:ext cx="2519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NOAUD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443640" y="5111640"/>
            <a:ext cx="2519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DUCAÇÃO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443640" y="5508720"/>
            <a:ext cx="2700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RVIÇ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720720" y="3708360"/>
            <a:ext cx="7559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rando a autonomia profissional dos formados 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"/>
          <p:cNvPicPr/>
          <p:nvPr/>
        </p:nvPicPr>
        <p:blipFill>
          <a:blip r:embed="rId3"/>
          <a:stretch/>
        </p:blipFill>
        <p:spPr>
          <a:xfrm>
            <a:off x="1836720" y="594036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4"/>
          <a:stretch/>
        </p:blipFill>
        <p:spPr>
          <a:xfrm>
            <a:off x="2843280" y="5940360"/>
            <a:ext cx="107928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"/>
          <p:cNvPicPr/>
          <p:nvPr/>
        </p:nvPicPr>
        <p:blipFill>
          <a:blip r:embed="rId5"/>
          <a:stretch/>
        </p:blipFill>
        <p:spPr>
          <a:xfrm>
            <a:off x="3862440" y="5940360"/>
            <a:ext cx="1069920" cy="14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6"/>
          <a:stretch/>
        </p:blipFill>
        <p:spPr>
          <a:xfrm>
            <a:off x="5867280" y="594036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"/>
          <p:cNvPicPr/>
          <p:nvPr/>
        </p:nvPicPr>
        <p:blipFill>
          <a:blip r:embed="rId7"/>
          <a:stretch/>
        </p:blipFill>
        <p:spPr>
          <a:xfrm>
            <a:off x="6923160" y="5940360"/>
            <a:ext cx="10699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8"/>
          <a:stretch/>
        </p:blipFill>
        <p:spPr>
          <a:xfrm>
            <a:off x="7966080" y="5940360"/>
            <a:ext cx="106992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"/>
          <p:cNvPicPr/>
          <p:nvPr/>
        </p:nvPicPr>
        <p:blipFill>
          <a:blip r:embed="rId9"/>
          <a:stretch/>
        </p:blipFill>
        <p:spPr>
          <a:xfrm>
            <a:off x="8999640" y="5940360"/>
            <a:ext cx="107928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"/>
          <p:cNvPicPr/>
          <p:nvPr/>
        </p:nvPicPr>
        <p:blipFill>
          <a:blip r:embed="rId10"/>
          <a:stretch/>
        </p:blipFill>
        <p:spPr>
          <a:xfrm>
            <a:off x="8999640" y="4392720"/>
            <a:ext cx="107928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11"/>
          <a:stretch/>
        </p:blipFill>
        <p:spPr>
          <a:xfrm>
            <a:off x="8999640" y="2879640"/>
            <a:ext cx="107928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2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3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4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5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6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7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8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9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1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1"/>
          <p:cNvSpPr/>
          <p:nvPr/>
        </p:nvSpPr>
        <p:spPr>
          <a:xfrm>
            <a:off x="2160720" y="1979640"/>
            <a:ext cx="5040360" cy="1619280"/>
          </a:xfrm>
          <a:prstGeom prst="ellipse">
            <a:avLst/>
          </a:prstGeom>
          <a:solidFill>
            <a:srgbClr val="ff66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60360" y="720720"/>
            <a:ext cx="91803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 esse projeto de lei for aprovado no Senado, nenhum brasileiro poderá ir a um outro profissional de saúde sem passar num médico antes e depois do trat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340000" y="2340000"/>
            <a:ext cx="504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Te parece tão surreal essa hipótes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que tal projeto nunca seria aprovad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60360" y="4432320"/>
            <a:ext cx="828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Bom, os deputados não acharam e já aprovaram o proje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55640" y="5175360"/>
            <a:ext cx="845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Você pode estar se perguntando por que isso te atingiria, uma vez que não é um profissional da saú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619280" y="6480000"/>
            <a:ext cx="7920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BOM, ISSO VAI TE ATINGIR BEM NO BOL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7956720" y="2502000"/>
            <a:ext cx="2028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720720" y="1079640"/>
            <a:ext cx="71992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 voce é usuário de plano de saúde particular, sabe como é difícil conseguir marcar uma consulta médica  mesmo pagando caro no pl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260360" y="2859120"/>
            <a:ext cx="84600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magina então, o que vai acontecer quando todo brasileiro tiver que marcar uma consulta médica antes (e mais uma consulta depois) de fazer um tratamento com um profissional de saúde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808360" y="4500720"/>
            <a:ext cx="61196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magina quanto tempo você vai ter que esperar para conseguir marcar uma consulta méd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9640" y="5759280"/>
            <a:ext cx="70200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Tem dúvidas que seu plano de saúde vai precisar aumentar a mensalidade, para cobrir o aumento excessivo de consultas médic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7518240" y="539640"/>
            <a:ext cx="202104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7020000" y="5400720"/>
            <a:ext cx="1260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8280360" y="5400720"/>
            <a:ext cx="12603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720720" y="4140360"/>
            <a:ext cx="1979640" cy="15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2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"/>
          <p:cNvSpPr/>
          <p:nvPr/>
        </p:nvSpPr>
        <p:spPr>
          <a:xfrm>
            <a:off x="900000" y="3060720"/>
            <a:ext cx="8099640" cy="1260360"/>
          </a:xfrm>
          <a:prstGeom prst="roundRect">
            <a:avLst>
              <a:gd name="adj" fmla="val 16667"/>
            </a:avLst>
          </a:prstGeom>
          <a:solidFill>
            <a:srgbClr val="23ff2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647640" y="936720"/>
            <a:ext cx="8820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 você não tem plano de saúde privado e costuma pagar pelas consultas ou se o médico que você gosta não atende o plano que você tem, imagine o que vai acontecer quando a procura pelos serviços do seu médico triplicar ou quadruplic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82640" y="3236760"/>
            <a:ext cx="82803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ela lei da oferta e da procura,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quanto mais procurado um produto é, mais se cobra por e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692360" y="4613400"/>
            <a:ext cx="719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Tem dúvidas se o valor da consulta vai aument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91280" y="5400720"/>
            <a:ext cx="1260720" cy="1619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8352000" y="5580000"/>
            <a:ext cx="1260360" cy="16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5832360" y="5580000"/>
            <a:ext cx="1260720" cy="16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4572000" y="5400720"/>
            <a:ext cx="1260360" cy="16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5"/>
          <a:stretch/>
        </p:blipFill>
        <p:spPr>
          <a:xfrm>
            <a:off x="539640" y="5394240"/>
            <a:ext cx="1979640" cy="16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2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3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4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5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539640" y="720720"/>
            <a:ext cx="88203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ensando por outro ângulo, será mesmo que todo o médico sabe o suficiente para determinar como será realizado o tratamento de todos os outros profissionai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176720" y="212400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2195640"/>
            <a:ext cx="107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1079640" y="2195640"/>
            <a:ext cx="1079280" cy="143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2087640" y="2195640"/>
            <a:ext cx="1079280" cy="143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5"/>
          <a:stretch/>
        </p:blipFill>
        <p:spPr>
          <a:xfrm>
            <a:off x="3095640" y="2195640"/>
            <a:ext cx="1069920" cy="143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6"/>
          <a:stretch/>
        </p:blipFill>
        <p:spPr>
          <a:xfrm>
            <a:off x="5184720" y="2195640"/>
            <a:ext cx="1079640" cy="143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7"/>
          <a:stretch/>
        </p:blipFill>
        <p:spPr>
          <a:xfrm>
            <a:off x="6192720" y="2124000"/>
            <a:ext cx="106992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8"/>
          <a:stretch/>
        </p:blipFill>
        <p:spPr>
          <a:xfrm>
            <a:off x="7201080" y="2195640"/>
            <a:ext cx="1079280" cy="143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9"/>
          <a:stretch/>
        </p:blipFill>
        <p:spPr>
          <a:xfrm>
            <a:off x="8136000" y="2124000"/>
            <a:ext cx="107928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10"/>
          <a:stretch/>
        </p:blipFill>
        <p:spPr>
          <a:xfrm>
            <a:off x="9001080" y="2195640"/>
            <a:ext cx="107964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287280" y="4176720"/>
            <a:ext cx="95392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rá que todo médico sabe utilizar todos os equipamentos operados por outros profissionais, a ponto de fazer a prescrição terapêutica e determinar quanto tempo vai demorar o tratamento, conforme previsto no projeto de le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3"/>
          <p:cNvGrpSpPr/>
          <p:nvPr/>
        </p:nvGrpSpPr>
        <p:grpSpPr>
          <a:xfrm>
            <a:off x="503280" y="5400720"/>
            <a:ext cx="9034200" cy="1617480"/>
            <a:chOff x="503280" y="5400720"/>
            <a:chExt cx="9034200" cy="1617480"/>
          </a:xfrm>
        </p:grpSpPr>
        <p:pic>
          <p:nvPicPr>
            <p:cNvPr id="138" name="Picture 14" descr=""/>
            <p:cNvPicPr/>
            <p:nvPr/>
          </p:nvPicPr>
          <p:blipFill>
            <a:blip r:embed="rId11"/>
            <a:stretch/>
          </p:blipFill>
          <p:spPr>
            <a:xfrm>
              <a:off x="503280" y="5758560"/>
              <a:ext cx="138024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5" descr=""/>
            <p:cNvPicPr/>
            <p:nvPr/>
          </p:nvPicPr>
          <p:blipFill>
            <a:blip r:embed="rId12"/>
            <a:stretch/>
          </p:blipFill>
          <p:spPr>
            <a:xfrm>
              <a:off x="2410560" y="5495400"/>
              <a:ext cx="72036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6" descr=""/>
            <p:cNvPicPr/>
            <p:nvPr/>
          </p:nvPicPr>
          <p:blipFill>
            <a:blip r:embed="rId13"/>
            <a:stretch/>
          </p:blipFill>
          <p:spPr>
            <a:xfrm>
              <a:off x="3618360" y="5579640"/>
              <a:ext cx="127584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7" descr=""/>
            <p:cNvPicPr/>
            <p:nvPr/>
          </p:nvPicPr>
          <p:blipFill>
            <a:blip r:embed="rId14"/>
            <a:stretch/>
          </p:blipFill>
          <p:spPr>
            <a:xfrm>
              <a:off x="5002200" y="5579640"/>
              <a:ext cx="138060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8" descr=""/>
            <p:cNvPicPr/>
            <p:nvPr/>
          </p:nvPicPr>
          <p:blipFill>
            <a:blip r:embed="rId15"/>
            <a:stretch/>
          </p:blipFill>
          <p:spPr>
            <a:xfrm>
              <a:off x="6285960" y="5400720"/>
              <a:ext cx="1739160" cy="16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9" descr=""/>
            <p:cNvPicPr/>
            <p:nvPr/>
          </p:nvPicPr>
          <p:blipFill>
            <a:blip r:embed="rId16"/>
            <a:stretch/>
          </p:blipFill>
          <p:spPr>
            <a:xfrm>
              <a:off x="8157240" y="5579640"/>
              <a:ext cx="138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3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4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4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4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6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7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8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6:21:21Z</dcterms:created>
  <dc:creator>Cacau</dc:creator>
  <dc:description/>
  <dc:language>en-US</dc:language>
  <cp:lastModifiedBy>*</cp:lastModifiedBy>
  <dcterms:modified xsi:type="dcterms:W3CDTF">2009-11-01T20:40:34Z</dcterms:modified>
  <cp:revision>20</cp:revision>
  <dc:subject/>
  <dc:title>Slide 1</dc:title>
</cp:coreProperties>
</file>