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B598D-3B85-46E8-8244-43BA0EF67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1B008-DA82-4583-8F2C-B13F9C851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4B9FB-50F2-48FD-8135-ED2D26470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59475-0880-46CF-A3B3-421CDC77B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761C8-46AB-40FF-A92A-9578D0ECA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7DE58-0776-4D5B-A0AE-D7AE7B8ED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60273-D926-4007-BBFA-312B0CCC2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9056E-80D7-41DB-9B47-1F0A31221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5125F-21AC-4F98-89EF-821E8FBDF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2CBAA-D582-4118-A12D-222DA6B4B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75892-E041-4974-8FB5-E3B6987A3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110CD-10F0-46DD-9403-510877811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F7844-102B-40A6-AEA7-2E83D0C962DA}" type="slidenum">
              <a:rPr b="0" lang="pt-B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maounicamp@yahoo.com.br" TargetMode="External"/><Relationship Id="rId2" Type="http://schemas.openxmlformats.org/officeDocument/2006/relationships/package" Target="../embeddings/oleObject1.docx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99680" y="-214560"/>
            <a:ext cx="8929800" cy="214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pt-BR" sz="2800" spc="-1" strike="noStrike">
                <a:solidFill>
                  <a:srgbClr val="ff0000"/>
                </a:solidFill>
                <a:latin typeface="Comic Sans MS"/>
              </a:rPr>
              <a:t>A Prática da Terapia Ocupacional</a:t>
            </a:r>
            <a:br>
              <a:rPr sz="2800"/>
            </a:br>
            <a:r>
              <a:rPr b="1" lang="pt-BR" sz="2800" spc="-1" strike="noStrike">
                <a:solidFill>
                  <a:srgbClr val="ff0000"/>
                </a:solidFill>
                <a:latin typeface="Comic Sans MS"/>
              </a:rPr>
              <a:t>na Reabilitação do Membro Superior </a:t>
            </a:r>
            <a:br>
              <a:rPr sz="2800"/>
            </a:br>
            <a:r>
              <a:rPr b="1" lang="pt-BR" sz="2800" spc="-1" strike="noStrike">
                <a:solidFill>
                  <a:srgbClr val="ff0000"/>
                </a:solidFill>
                <a:latin typeface="Comic Sans MS"/>
              </a:rPr>
              <a:t>FCM 1230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128592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pt-BR" sz="1800" spc="-1" strike="noStrike">
                <a:solidFill>
                  <a:srgbClr val="000000"/>
                </a:solidFill>
                <a:latin typeface="Comic Sans MS"/>
              </a:rPr>
              <a:t>Curso de Especialização com carga horária de 1589hs de estágio supervisionado no Ambulatório de Reabilitação da Mão Cirurgia da Mão e Unidade de Órtese e Prótese do HC-UNICAMP, além de  diversas aulas teóricas e discussões clínicas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mic Sans MS"/>
              </a:rPr>
              <a:t>Inscrição: 01/11/10 a 28/01/11 – no site www.extecamp.unicamp.b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mic Sans MS"/>
              </a:rPr>
              <a:t>Entrevista: 08/02/11 – 14:00hs no Serviço de Fisioterapia e Terapia Ocupacional do Hospital de Clínicas da UNICAMP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mic Sans MS"/>
              </a:rPr>
              <a:t>Resultado: 09/02/1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mic Sans MS"/>
              </a:rPr>
              <a:t>Período de oferecimento: 22/02/11 a 20/02/1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mic Sans MS"/>
              </a:rPr>
              <a:t>Contato: </a:t>
            </a:r>
            <a:r>
              <a:rPr b="0" lang="pt-BR" sz="1800" spc="-1" strike="noStrike" u="sng">
                <a:solidFill>
                  <a:srgbClr val="0000ff"/>
                </a:solidFill>
                <a:uFillTx/>
                <a:latin typeface="Comic Sans MS"/>
                <a:hlinkClick r:id="rId1"/>
              </a:rPr>
              <a:t>maounicamp@yahoo.com.b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mic Sans MS"/>
              </a:rPr>
              <a:t>www.extecamp.unicamp.b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mic Sans MS"/>
              </a:rPr>
              <a:t>3521-4646 - Extecam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mic Sans MS"/>
              </a:rPr>
              <a:t>3521-7735 – Serviço de Fisioterapia e Terapia Ocupacion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mic Sans MS"/>
              </a:rPr>
              <a:t>8181-5444 – Cynara T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3" name="Object 5"/>
          <p:cNvGraphicFramePr/>
          <p:nvPr/>
        </p:nvGraphicFramePr>
        <p:xfrm>
          <a:off x="7439040" y="6146640"/>
          <a:ext cx="1704960" cy="7113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44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439040" y="6146640"/>
                    <a:ext cx="1704960" cy="71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" name="Object 6"/>
          <p:cNvGraphicFramePr/>
          <p:nvPr/>
        </p:nvGraphicFramePr>
        <p:xfrm>
          <a:off x="142920" y="0"/>
          <a:ext cx="1076400" cy="106992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42920" y="0"/>
                    <a:ext cx="1076400" cy="106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2T18:40:45Z</dcterms:created>
  <dc:creator>terapia da mao</dc:creator>
  <dc:description/>
  <dc:language>en-US</dc:language>
  <cp:lastModifiedBy>cecilia</cp:lastModifiedBy>
  <dcterms:modified xsi:type="dcterms:W3CDTF">2010-10-19T19:19:37Z</dcterms:modified>
  <cp:revision>11</cp:revision>
  <dc:subject/>
  <dc:title>CURSOS UNICAMP</dc:title>
</cp:coreProperties>
</file>