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23E2-0270-4DD2-ACFD-B2D4FE14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2041-3DB3-4809-A88A-5643991C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C490-9B90-45E9-A08C-97486436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D94-4294-4F71-9A0E-A4334FF6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0EEB-61E4-4E6A-A02C-ADC1B316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15F5-F0D5-4860-8A2D-2E4B5A65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7E52-DCFD-474A-8539-493717C0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5E67-039B-4D71-8E3E-5C7C560D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EBF6-971B-460B-A041-54FA65D7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C861-1DB8-42D8-9F03-034F29CD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6D9B-7124-4141-B9C1-26743E24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6B45-DB0C-4B16-B8BF-06FF3908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0F9F-5EC0-4806-B98D-8973E81C171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ursoseeventos.ufmg.br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3" descr="escrita 2.jpg"/>
          <p:cNvPicPr/>
          <p:nvPr/>
        </p:nvPicPr>
        <p:blipFill>
          <a:blip r:embed="rId1"/>
          <a:stretch/>
        </p:blipFill>
        <p:spPr>
          <a:xfrm rot="21126600">
            <a:off x="268200" y="1285920"/>
            <a:ext cx="5738760" cy="4303800"/>
          </a:xfrm>
          <a:prstGeom prst="rect">
            <a:avLst/>
          </a:prstGeom>
          <a:ln w="0">
            <a:noFill/>
          </a:ln>
        </p:spPr>
      </p:pic>
      <p:sp>
        <p:nvSpPr>
          <p:cNvPr id="42" name="CaixaDeTexto 4"/>
          <p:cNvSpPr/>
          <p:nvPr/>
        </p:nvSpPr>
        <p:spPr>
          <a:xfrm>
            <a:off x="0" y="4857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d0d0d"/>
                </a:solidFill>
                <a:latin typeface="Calibri"/>
              </a:rPr>
              <a:t>Data: 12/07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d0d0d"/>
                </a:solidFill>
                <a:latin typeface="Calibri"/>
              </a:rPr>
              <a:t>Horário: de 8:00 às 17: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d0d0d"/>
                </a:solidFill>
                <a:latin typeface="Calibri"/>
              </a:rPr>
              <a:t>Local: Escola de Educação Física, Fisioterapia e Terapia Ocupacional – UFMG</a:t>
            </a:r>
            <a:r>
              <a:rPr b="1" lang="pt-BR" sz="1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d0d0d"/>
                </a:solidFill>
                <a:latin typeface="Calibri"/>
              </a:rPr>
              <a:t>(Auditó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d0d0d"/>
                </a:solidFill>
                <a:latin typeface="Calibri"/>
              </a:rPr>
              <a:t>Investimento:</a:t>
            </a:r>
            <a:r>
              <a:rPr b="1" lang="pt-BR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Calibri"/>
              </a:rPr>
              <a:t>R$ 60,00 para estudantes / R$ 110,00 para profissio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tângulo 5"/>
          <p:cNvSpPr/>
          <p:nvPr/>
        </p:nvSpPr>
        <p:spPr>
          <a:xfrm>
            <a:off x="0" y="228600"/>
            <a:ext cx="9144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Comic Sans MS"/>
              </a:rPr>
              <a:t>CURSO: Estratégias para melhorar a escrita e a coordenação motora fina da crian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aixaDeTexto 6"/>
          <p:cNvSpPr/>
          <p:nvPr/>
        </p:nvSpPr>
        <p:spPr>
          <a:xfrm>
            <a:off x="0" y="63817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nscrições até o dia 08/07/10 no sit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pt-BR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www.cursoseeventos.ufmg.br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(ciência da saúde/terapia ocupac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tângulo 7"/>
          <p:cNvSpPr/>
          <p:nvPr/>
        </p:nvSpPr>
        <p:spPr>
          <a:xfrm>
            <a:off x="5643720" y="3857760"/>
            <a:ext cx="3357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urso com a Terapeuta Ocupacional americ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Impact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Impact"/>
              </a:rPr>
              <a:t>CLAIRE CUR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8" descr="simbolo_to.jpg"/>
          <p:cNvPicPr/>
          <p:nvPr/>
        </p:nvPicPr>
        <p:blipFill>
          <a:blip r:embed="rId3"/>
          <a:stretch/>
        </p:blipFill>
        <p:spPr>
          <a:xfrm>
            <a:off x="4591080" y="3451320"/>
            <a:ext cx="98280" cy="114120"/>
          </a:xfrm>
          <a:prstGeom prst="rect">
            <a:avLst/>
          </a:prstGeom>
          <a:ln w="0">
            <a:noFill/>
          </a:ln>
        </p:spPr>
      </p:pic>
      <p:pic>
        <p:nvPicPr>
          <p:cNvPr id="47" name="Imagem 9" descr="bandeira-canada.jpg"/>
          <p:cNvPicPr/>
          <p:nvPr/>
        </p:nvPicPr>
        <p:blipFill>
          <a:blip r:embed="rId4"/>
          <a:stretch/>
        </p:blipFill>
        <p:spPr>
          <a:xfrm>
            <a:off x="8286840" y="4524480"/>
            <a:ext cx="50004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02:55:20Z</dcterms:created>
  <dc:creator>Mariana</dc:creator>
  <dc:description/>
  <dc:language>en-US</dc:language>
  <cp:lastModifiedBy>Marcia</cp:lastModifiedBy>
  <dcterms:modified xsi:type="dcterms:W3CDTF">2010-06-27T20:00:16Z</dcterms:modified>
  <cp:revision>11</cp:revision>
  <dc:subject/>
  <dc:title>Slide 1</dc:title>
</cp:coreProperties>
</file>