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4033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F42-31EA-4A26-B047-5D3692A9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280" y="812520"/>
            <a:ext cx="1224108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2641320"/>
            <a:ext cx="122410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5506200"/>
            <a:ext cx="122410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D17-32B3-41AA-A30A-5D972F8F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812520"/>
            <a:ext cx="1224108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2641320"/>
            <a:ext cx="59734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51920" y="2641320"/>
            <a:ext cx="59734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5506200"/>
            <a:ext cx="59734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351920" y="5506200"/>
            <a:ext cx="59734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C17-502D-4040-B9FF-C3869A94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280" y="812520"/>
            <a:ext cx="1224108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2641320"/>
            <a:ext cx="39412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17840" y="2641320"/>
            <a:ext cx="39412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356760" y="2641320"/>
            <a:ext cx="39412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5506200"/>
            <a:ext cx="39412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17840" y="5506200"/>
            <a:ext cx="39412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356760" y="5506200"/>
            <a:ext cx="39412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D94-A780-4804-996F-D2540C00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9280" y="812520"/>
            <a:ext cx="1224108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2641320"/>
            <a:ext cx="12241080" cy="54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A61-95EF-4826-A82C-6F2229E6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9280" y="812520"/>
            <a:ext cx="1224108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2641320"/>
            <a:ext cx="12241080" cy="54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F19-D908-4399-913D-B881300B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9280" y="812520"/>
            <a:ext cx="1224108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2641320"/>
            <a:ext cx="5973480" cy="54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351920" y="2641320"/>
            <a:ext cx="5973480" cy="54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6B2-4DD8-4313-B952-EA999A07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812520"/>
            <a:ext cx="1224108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FF1-4FFD-4C7B-8BA4-152EA2D0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79280" y="812520"/>
            <a:ext cx="1224108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B62-A211-40CC-9A24-4A084928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812520"/>
            <a:ext cx="1224108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2641320"/>
            <a:ext cx="59734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51920" y="2641320"/>
            <a:ext cx="5973480" cy="54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5506200"/>
            <a:ext cx="59734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6AC-0534-4036-AB99-7291D51F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280" y="812520"/>
            <a:ext cx="1224108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2641320"/>
            <a:ext cx="5973480" cy="54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51920" y="2641320"/>
            <a:ext cx="59734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51920" y="5506200"/>
            <a:ext cx="59734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538-ED72-47D0-A905-AA1426E5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280" y="812520"/>
            <a:ext cx="1224108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2641320"/>
            <a:ext cx="59734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351920" y="2641320"/>
            <a:ext cx="59734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5506200"/>
            <a:ext cx="122410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ED2-9169-4D56-83A5-12CC7B0E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280" y="812520"/>
            <a:ext cx="1224108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2641320"/>
            <a:ext cx="12241080" cy="54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79640" y="8330760"/>
            <a:ext cx="2998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21200" y="8330760"/>
            <a:ext cx="4557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321920" y="8330760"/>
            <a:ext cx="2998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0F8F1C-BE0F-4782-AF85-2FD3E981A955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7640" cy="824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9080" y="108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800000"/>
                </a:solidFill>
                <a:latin typeface="Times New Roman"/>
              </a:rPr>
              <a:t>ÓRTE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929800" y="10065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Times New Roman"/>
              </a:rPr>
              <a:t>12 de Fevereiro de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0720" y="1230480"/>
            <a:ext cx="511344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Times New Roman"/>
              </a:rPr>
              <a:t>Ministrado pelas Terapeutas Ocupacion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Times New Roman"/>
              </a:rPr>
              <a:t>Ludmila Carrara Navar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erapeuta Ocupacional formada pela Puc-Campi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specialista em Queimaduras pela 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specialista em Terapia da Mão e Reabilitação do Membro Superior pela 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specialista em Órteses em Neuro-Ortopedia pela 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erapeuta Ocupacional do IOT.HC.FM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Times New Roman"/>
              </a:rPr>
              <a:t>Mariana Miranda Nicol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erapeuta Ocupacional formada pela São Cami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specialista em Queimaduras pela 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specialista em Terapia da Mão e Reabilitação do Membro Superior pela 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specialista em Órteses em Neuro-Ortopedia pela 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erapeuta Ocupacional do IOT.HC.FM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40360" y="1703520"/>
            <a:ext cx="705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CRON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9:00 – Apresentação da Ato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9:30 – Teoria sobre órt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10:30 – Como tirar o molde de uma órt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12:00 – Almo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14:00 - Workshop de Órtese: demonstração, confecção e contato com os mater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4859280"/>
            <a:ext cx="655344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Times New Roman"/>
              </a:rPr>
              <a:t>INSCRIÇÃ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Times New Roman"/>
              </a:rPr>
              <a:t>Sócio ATOESP =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Times New Roman"/>
              </a:rPr>
              <a:t>Outras Associações de Terapia Ocupacional = R$ 80,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006600"/>
                </a:solidFill>
                <a:latin typeface="Times New Roman"/>
              </a:rPr>
              <a:t>(ATODF, ATOGO, ATOMG, ATOESP, ATOERJ, ACTOEP, ATORGS, ATOBA, ATOPE, ATOAL, ACT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Times New Roman"/>
              </a:rPr>
              <a:t>Não sócio e outros profissionais = R$ 1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Times New Roman"/>
              </a:rPr>
              <a:t>Associação ATOESP + Cur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Times New Roman"/>
              </a:rPr>
              <a:t>Estudante = R$ 121,00 / Profissional = R$ 172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Times New Roman"/>
              </a:rPr>
              <a:t>Procedimento:preencher a ficha de inscrição enviar, junto com comprovante de depósito, para atoesp@atoesp.org.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1800" y="7559640"/>
            <a:ext cx="648000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Times New Roman"/>
                <a:ea typeface="Lucida Sans Unicode"/>
              </a:rPr>
              <a:t>  </a:t>
            </a:r>
            <a:r>
              <a:rPr b="1" lang="pt-BR" sz="2000" spc="-1" strike="noStrike">
                <a:solidFill>
                  <a:srgbClr val="006600"/>
                </a:solidFill>
                <a:latin typeface="Times New Roman"/>
                <a:ea typeface="Lucida Sans Unicode"/>
              </a:rPr>
              <a:t>Informações pelo e-mail: atoesp@atoesp.org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99"/>
                </a:solidFill>
                <a:latin typeface="Times New Roman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99"/>
                </a:solidFill>
                <a:latin typeface="Times New Roman"/>
              </a:rPr>
              <a:t>IOT - Instituto de Ortopedia e Traumatologia - HCFMU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99"/>
                </a:solidFill>
                <a:latin typeface="Times New Roman"/>
              </a:rPr>
              <a:t>Rua Dr. Ovídio Pires de Campos, 333 - Cerqueira César São Paulo – SP  05403-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80360" y="4859280"/>
            <a:ext cx="4257720" cy="24494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985240" y="5280120"/>
            <a:ext cx="307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Times New Roman"/>
              </a:rPr>
              <a:t>VOCÊ QUE AINDA NÃO É ASSOCIADO, APROVEITE E FAÇA SUA ASSOCIAÇÃO NA HORA E JÁ GANHE O DESCONTO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iente</cp:lastModifiedBy>
  <dcterms:modified xsi:type="dcterms:W3CDTF">2011-01-21T12:37:21Z</dcterms:modified>
  <cp:revision>9</cp:revision>
  <dc:subject/>
  <dc:title>PowerPoint Presentation</dc:title>
</cp:coreProperties>
</file>