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3.wmf" ContentType="image/x-wmf"/>
  <Override PartName="/ppt/media/image12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A120FD-52C2-42B4-8D4E-8276FE37B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53B6BA-9620-4768-B044-603039ADB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5093E8-8442-4A20-B383-C9EF071D6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8FFCDC-C6E8-42CA-B0A1-CDE08DE4F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E75850-2DBF-4E3B-8A78-FF0C50359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BBCB74-0D1A-4268-849C-83917F2EF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CAB432-C76A-4B8D-9837-E5D3ACD6B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D74B67-79F7-43CD-A065-D12E8B108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8287C0-9EAE-4C8B-972B-55D551DDE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D65401-398D-4EB8-BDFA-630D586C48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3F9409-9DDA-462B-95C1-F93DA8E40F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5F6-D917-483A-AF7F-9906A376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8D8-7183-4B03-8D0E-7459A6BA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6F7-3D4F-4218-8217-157331AF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E03-876A-438A-84C5-CEEF0A3E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1B5-F242-4D41-AC0A-469F4963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107-4E0C-4820-842C-EED0E53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8E1-28CC-49B5-9A8A-EFD45B5E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DAA-70AB-4197-BD7A-F3F425A1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4F6-F7CC-4AFA-970A-E0914705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48E-45AC-4F6B-814F-E5F80F5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152-04E8-4DD6-B33E-B8C36810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6F4-AF76-443F-B21C-11EB836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6086C0-B2FE-4044-823E-A6DAEFFE2B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image" Target="../media/image9.jpeg"/><Relationship Id="rId20" Type="http://schemas.openxmlformats.org/officeDocument/2006/relationships/image" Target="../media/image10.jpeg"/><Relationship Id="rId21" Type="http://schemas.openxmlformats.org/officeDocument/2006/relationships/image" Target="../media/image9.jpeg"/><Relationship Id="rId22" Type="http://schemas.openxmlformats.org/officeDocument/2006/relationships/image" Target="../media/image10.jpeg"/><Relationship Id="rId23" Type="http://schemas.openxmlformats.org/officeDocument/2006/relationships/image" Target="../media/image9.jpeg"/><Relationship Id="rId24" Type="http://schemas.openxmlformats.org/officeDocument/2006/relationships/image" Target="../media/image10.jpeg"/><Relationship Id="rId25" Type="http://schemas.openxmlformats.org/officeDocument/2006/relationships/image" Target="../media/image9.jpeg"/><Relationship Id="rId26" Type="http://schemas.openxmlformats.org/officeDocument/2006/relationships/image" Target="../media/image10.jpeg"/><Relationship Id="rId27" Type="http://schemas.openxmlformats.org/officeDocument/2006/relationships/image" Target="../media/image9.jpeg"/><Relationship Id="rId28" Type="http://schemas.openxmlformats.org/officeDocument/2006/relationships/image" Target="../media/image10.jpeg"/><Relationship Id="rId29" Type="http://schemas.openxmlformats.org/officeDocument/2006/relationships/image" Target="../media/image9.jpeg"/><Relationship Id="rId30" Type="http://schemas.openxmlformats.org/officeDocument/2006/relationships/image" Target="../media/image10.jpeg"/><Relationship Id="rId31" Type="http://schemas.openxmlformats.org/officeDocument/2006/relationships/image" Target="../media/image9.jpeg"/><Relationship Id="rId32" Type="http://schemas.openxmlformats.org/officeDocument/2006/relationships/image" Target="../media/image10.jpeg"/><Relationship Id="rId33" Type="http://schemas.openxmlformats.org/officeDocument/2006/relationships/image" Target="../media/image9.jpeg"/><Relationship Id="rId34" Type="http://schemas.openxmlformats.org/officeDocument/2006/relationships/image" Target="../media/image10.jpeg"/><Relationship Id="rId35" Type="http://schemas.openxmlformats.org/officeDocument/2006/relationships/image" Target="../media/image9.jpeg"/><Relationship Id="rId36" Type="http://schemas.openxmlformats.org/officeDocument/2006/relationships/image" Target="../media/image10.jpeg"/><Relationship Id="rId37" Type="http://schemas.openxmlformats.org/officeDocument/2006/relationships/image" Target="../media/image9.jpeg"/><Relationship Id="rId38" Type="http://schemas.openxmlformats.org/officeDocument/2006/relationships/image" Target="../media/image10.jpeg"/><Relationship Id="rId39" Type="http://schemas.openxmlformats.org/officeDocument/2006/relationships/image" Target="../media/image9.jpeg"/><Relationship Id="rId40" Type="http://schemas.openxmlformats.org/officeDocument/2006/relationships/image" Target="../media/image10.jpe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333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HOSPITAL DE CLÍNICAS UF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170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iste vacina para a influenza  saz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3640" y="3500280"/>
            <a:ext cx="3006720" cy="3006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41440" y="1557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SI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8200" y="2349360"/>
            <a:ext cx="56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É APLICADA ANU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FLUENZA PANDÊ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4000" y="2997360"/>
            <a:ext cx="4032000" cy="3709800"/>
            <a:chOff x="324000" y="2997360"/>
            <a:chExt cx="4032000" cy="37098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324000" y="2997360"/>
              <a:ext cx="40320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24000" y="2997360"/>
              <a:ext cx="4032000" cy="37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284720" y="2060640"/>
            <a:ext cx="4390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é o início de 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esma 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 todo o planeta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 maneira simultâ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 a capacida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ocar sérias conseqü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 conseqüências teria uma pandemia de qualquer influenz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84280"/>
            <a:ext cx="79930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nde núme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pessoas do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fort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ise econômi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réscimo e inclusive paradas nos setores de trabalho, escolas, empres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lotação dos serviços de saú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lo grande número de pa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35640" y="4797360"/>
            <a:ext cx="1566720" cy="1873440"/>
            <a:chOff x="5435640" y="4797360"/>
            <a:chExt cx="1566720" cy="1873440"/>
          </a:xfrm>
        </p:grpSpPr>
        <p:grpSp>
          <p:nvGrpSpPr>
            <p:cNvPr id="152" name=""/>
            <p:cNvGrpSpPr/>
            <p:nvPr/>
          </p:nvGrpSpPr>
          <p:grpSpPr>
            <a:xfrm>
              <a:off x="5477040" y="4797360"/>
              <a:ext cx="803160" cy="922320"/>
              <a:chOff x="5477040" y="4797360"/>
              <a:chExt cx="803160" cy="92232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7704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2"/>
              <a:srcRect l="74036" t="4503" r="0" b="-1694"/>
              <a:stretch/>
            </p:blipFill>
            <p:spPr>
              <a:xfrm>
                <a:off x="586728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6197760" y="4797360"/>
              <a:ext cx="804600" cy="922320"/>
              <a:chOff x="6197760" y="4797360"/>
              <a:chExt cx="804600" cy="922320"/>
            </a:xfrm>
          </p:grpSpPr>
          <p:pic>
            <p:nvPicPr>
              <p:cNvPr id="1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9776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4"/>
              <a:srcRect l="74036" t="4503" r="0" b="-1694"/>
              <a:stretch/>
            </p:blipFill>
            <p:spPr>
              <a:xfrm>
                <a:off x="6589800" y="4811760"/>
                <a:ext cx="41256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"/>
            <p:cNvGrpSpPr/>
            <p:nvPr/>
          </p:nvGrpSpPr>
          <p:grpSpPr>
            <a:xfrm>
              <a:off x="5435640" y="5705640"/>
              <a:ext cx="803160" cy="922320"/>
              <a:chOff x="5435640" y="5705640"/>
              <a:chExt cx="803160" cy="922320"/>
            </a:xfrm>
          </p:grpSpPr>
          <p:pic>
            <p:nvPicPr>
              <p:cNvPr id="1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5705640"/>
                <a:ext cx="41904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6"/>
              <a:srcRect l="74036" t="4503" r="0" b="-1694"/>
              <a:stretch/>
            </p:blipFill>
            <p:spPr>
              <a:xfrm>
                <a:off x="5826240" y="571968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" name=""/>
            <p:cNvGrpSpPr/>
            <p:nvPr/>
          </p:nvGrpSpPr>
          <p:grpSpPr>
            <a:xfrm>
              <a:off x="6176880" y="5746680"/>
              <a:ext cx="803520" cy="924120"/>
              <a:chOff x="6176880" y="5746680"/>
              <a:chExt cx="803520" cy="924120"/>
            </a:xfrm>
          </p:grpSpPr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176880" y="574668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8"/>
              <a:srcRect l="74036" t="4503" r="0" b="-1694"/>
              <a:stretch/>
            </p:blipFill>
            <p:spPr>
              <a:xfrm>
                <a:off x="6567480" y="5762520"/>
                <a:ext cx="41292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4" name=""/>
          <p:cNvGrpSpPr/>
          <p:nvPr/>
        </p:nvGrpSpPr>
        <p:grpSpPr>
          <a:xfrm>
            <a:off x="3708360" y="4797360"/>
            <a:ext cx="1567080" cy="1873440"/>
            <a:chOff x="3708360" y="4797360"/>
            <a:chExt cx="1567080" cy="1873440"/>
          </a:xfrm>
        </p:grpSpPr>
        <p:grpSp>
          <p:nvGrpSpPr>
            <p:cNvPr id="165" name=""/>
            <p:cNvGrpSpPr/>
            <p:nvPr/>
          </p:nvGrpSpPr>
          <p:grpSpPr>
            <a:xfrm>
              <a:off x="3749760" y="4797360"/>
              <a:ext cx="803160" cy="922320"/>
              <a:chOff x="3749760" y="4797360"/>
              <a:chExt cx="803160" cy="922320"/>
            </a:xfrm>
          </p:grpSpPr>
          <p:pic>
            <p:nvPicPr>
              <p:cNvPr id="1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74976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0"/>
              <a:srcRect l="74036" t="4503" r="0" b="-1694"/>
              <a:stretch/>
            </p:blipFill>
            <p:spPr>
              <a:xfrm>
                <a:off x="4140360" y="4811760"/>
                <a:ext cx="41256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"/>
            <p:cNvGrpSpPr/>
            <p:nvPr/>
          </p:nvGrpSpPr>
          <p:grpSpPr>
            <a:xfrm>
              <a:off x="4471920" y="4797360"/>
              <a:ext cx="803520" cy="922320"/>
              <a:chOff x="4471920" y="4797360"/>
              <a:chExt cx="803520" cy="922320"/>
            </a:xfrm>
          </p:grpSpPr>
          <p:pic>
            <p:nvPicPr>
              <p:cNvPr id="16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47192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12"/>
              <a:srcRect l="74036" t="4503" r="0" b="-1694"/>
              <a:stretch/>
            </p:blipFill>
            <p:spPr>
              <a:xfrm>
                <a:off x="486252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"/>
            <p:cNvGrpSpPr/>
            <p:nvPr/>
          </p:nvGrpSpPr>
          <p:grpSpPr>
            <a:xfrm>
              <a:off x="3708360" y="5705640"/>
              <a:ext cx="803160" cy="922320"/>
              <a:chOff x="3708360" y="5705640"/>
              <a:chExt cx="803160" cy="92232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5705640"/>
                <a:ext cx="41904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4"/>
              <a:srcRect l="74036" t="4503" r="0" b="-1694"/>
              <a:stretch/>
            </p:blipFill>
            <p:spPr>
              <a:xfrm>
                <a:off x="4098960" y="571968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"/>
            <p:cNvGrpSpPr/>
            <p:nvPr/>
          </p:nvGrpSpPr>
          <p:grpSpPr>
            <a:xfrm>
              <a:off x="4449600" y="5746680"/>
              <a:ext cx="804960" cy="924120"/>
              <a:chOff x="4449600" y="5746680"/>
              <a:chExt cx="804960" cy="92412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49600" y="5746680"/>
                <a:ext cx="41940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6"/>
              <a:srcRect l="74036" t="4503" r="0" b="-1694"/>
              <a:stretch/>
            </p:blipFill>
            <p:spPr>
              <a:xfrm>
                <a:off x="4842000" y="576252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7" name=""/>
          <p:cNvGrpSpPr/>
          <p:nvPr/>
        </p:nvGrpSpPr>
        <p:grpSpPr>
          <a:xfrm>
            <a:off x="2050920" y="4797360"/>
            <a:ext cx="1567080" cy="1873440"/>
            <a:chOff x="2050920" y="4797360"/>
            <a:chExt cx="1567080" cy="1873440"/>
          </a:xfrm>
        </p:grpSpPr>
        <p:grpSp>
          <p:nvGrpSpPr>
            <p:cNvPr id="178" name=""/>
            <p:cNvGrpSpPr/>
            <p:nvPr/>
          </p:nvGrpSpPr>
          <p:grpSpPr>
            <a:xfrm>
              <a:off x="2092320" y="4797360"/>
              <a:ext cx="803160" cy="922320"/>
              <a:chOff x="2092320" y="4797360"/>
              <a:chExt cx="803160" cy="922320"/>
            </a:xfrm>
          </p:grpSpPr>
          <p:pic>
            <p:nvPicPr>
              <p:cNvPr id="17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9232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18"/>
              <a:srcRect l="74036" t="4503" r="0" b="-1694"/>
              <a:stretch/>
            </p:blipFill>
            <p:spPr>
              <a:xfrm>
                <a:off x="2482920" y="4811760"/>
                <a:ext cx="41256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2813040" y="4797360"/>
              <a:ext cx="804960" cy="922320"/>
              <a:chOff x="2813040" y="4797360"/>
              <a:chExt cx="804960" cy="92232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81304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0"/>
              <a:srcRect l="74036" t="4503" r="0" b="-1694"/>
              <a:stretch/>
            </p:blipFill>
            <p:spPr>
              <a:xfrm>
                <a:off x="320508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"/>
            <p:cNvGrpSpPr/>
            <p:nvPr/>
          </p:nvGrpSpPr>
          <p:grpSpPr>
            <a:xfrm>
              <a:off x="2050920" y="5705640"/>
              <a:ext cx="803520" cy="922320"/>
              <a:chOff x="2050920" y="5705640"/>
              <a:chExt cx="803520" cy="922320"/>
            </a:xfrm>
          </p:grpSpPr>
          <p:pic>
            <p:nvPicPr>
              <p:cNvPr id="18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050920" y="5705640"/>
                <a:ext cx="41940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22"/>
              <a:srcRect l="74036" t="4503" r="0" b="-1694"/>
              <a:stretch/>
            </p:blipFill>
            <p:spPr>
              <a:xfrm>
                <a:off x="2441520" y="5719680"/>
                <a:ext cx="41292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" name=""/>
            <p:cNvGrpSpPr/>
            <p:nvPr/>
          </p:nvGrpSpPr>
          <p:grpSpPr>
            <a:xfrm>
              <a:off x="2792520" y="5746680"/>
              <a:ext cx="804600" cy="924120"/>
              <a:chOff x="2792520" y="5746680"/>
              <a:chExt cx="804600" cy="924120"/>
            </a:xfrm>
          </p:grpSpPr>
          <p:pic>
            <p:nvPicPr>
              <p:cNvPr id="18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92520" y="574668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24"/>
              <a:srcRect l="74036" t="4503" r="0" b="-1694"/>
              <a:stretch/>
            </p:blipFill>
            <p:spPr>
              <a:xfrm>
                <a:off x="3184560" y="576252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324000" y="4797360"/>
            <a:ext cx="1566720" cy="1873440"/>
            <a:chOff x="324000" y="4797360"/>
            <a:chExt cx="1566720" cy="1873440"/>
          </a:xfrm>
        </p:grpSpPr>
        <p:grpSp>
          <p:nvGrpSpPr>
            <p:cNvPr id="191" name=""/>
            <p:cNvGrpSpPr/>
            <p:nvPr/>
          </p:nvGrpSpPr>
          <p:grpSpPr>
            <a:xfrm>
              <a:off x="365040" y="4797360"/>
              <a:ext cx="803520" cy="922320"/>
              <a:chOff x="365040" y="4797360"/>
              <a:chExt cx="803520" cy="922320"/>
            </a:xfrm>
          </p:grpSpPr>
          <p:pic>
            <p:nvPicPr>
              <p:cNvPr id="19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6504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26"/>
              <a:srcRect l="74036" t="4503" r="0" b="-1694"/>
              <a:stretch/>
            </p:blipFill>
            <p:spPr>
              <a:xfrm>
                <a:off x="75564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"/>
            <p:cNvGrpSpPr/>
            <p:nvPr/>
          </p:nvGrpSpPr>
          <p:grpSpPr>
            <a:xfrm>
              <a:off x="1085760" y="4797360"/>
              <a:ext cx="804960" cy="922320"/>
              <a:chOff x="1085760" y="4797360"/>
              <a:chExt cx="804960" cy="922320"/>
            </a:xfrm>
          </p:grpSpPr>
          <p:pic>
            <p:nvPicPr>
              <p:cNvPr id="19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08576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" descr=""/>
              <p:cNvPicPr/>
              <p:nvPr/>
            </p:nvPicPr>
            <p:blipFill>
              <a:blip r:embed="rId28"/>
              <a:srcRect l="74036" t="4503" r="0" b="-1694"/>
              <a:stretch/>
            </p:blipFill>
            <p:spPr>
              <a:xfrm>
                <a:off x="147780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7" name=""/>
            <p:cNvGrpSpPr/>
            <p:nvPr/>
          </p:nvGrpSpPr>
          <p:grpSpPr>
            <a:xfrm>
              <a:off x="324000" y="5705640"/>
              <a:ext cx="803160" cy="922320"/>
              <a:chOff x="324000" y="5705640"/>
              <a:chExt cx="803160" cy="922320"/>
            </a:xfrm>
          </p:grpSpPr>
          <p:pic>
            <p:nvPicPr>
              <p:cNvPr id="198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4000" y="5705640"/>
                <a:ext cx="41904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30"/>
              <a:srcRect l="74036" t="4503" r="0" b="-1694"/>
              <a:stretch/>
            </p:blipFill>
            <p:spPr>
              <a:xfrm>
                <a:off x="714240" y="5719680"/>
                <a:ext cx="41292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0" name=""/>
            <p:cNvGrpSpPr/>
            <p:nvPr/>
          </p:nvGrpSpPr>
          <p:grpSpPr>
            <a:xfrm>
              <a:off x="1065240" y="5746680"/>
              <a:ext cx="804960" cy="924120"/>
              <a:chOff x="1065240" y="5746680"/>
              <a:chExt cx="804960" cy="9241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065240" y="574668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32"/>
              <a:srcRect l="74036" t="4503" r="0" b="-1694"/>
              <a:stretch/>
            </p:blipFill>
            <p:spPr>
              <a:xfrm>
                <a:off x="1457280" y="5762520"/>
                <a:ext cx="41292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3" name=""/>
          <p:cNvGrpSpPr/>
          <p:nvPr/>
        </p:nvGrpSpPr>
        <p:grpSpPr>
          <a:xfrm>
            <a:off x="7020000" y="4724280"/>
            <a:ext cx="1566720" cy="1873440"/>
            <a:chOff x="7020000" y="4724280"/>
            <a:chExt cx="1566720" cy="1873440"/>
          </a:xfrm>
        </p:grpSpPr>
        <p:grpSp>
          <p:nvGrpSpPr>
            <p:cNvPr id="204" name=""/>
            <p:cNvGrpSpPr/>
            <p:nvPr/>
          </p:nvGrpSpPr>
          <p:grpSpPr>
            <a:xfrm>
              <a:off x="7061040" y="4724280"/>
              <a:ext cx="803520" cy="922320"/>
              <a:chOff x="7061040" y="4724280"/>
              <a:chExt cx="803520" cy="922320"/>
            </a:xfrm>
          </p:grpSpPr>
          <p:pic>
            <p:nvPicPr>
              <p:cNvPr id="20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061040" y="4724280"/>
                <a:ext cx="41940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34"/>
              <a:srcRect l="74036" t="4503" r="0" b="-1694"/>
              <a:stretch/>
            </p:blipFill>
            <p:spPr>
              <a:xfrm>
                <a:off x="7451640" y="473868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7781760" y="4724280"/>
              <a:ext cx="804960" cy="922320"/>
              <a:chOff x="7781760" y="4724280"/>
              <a:chExt cx="804960" cy="922320"/>
            </a:xfrm>
          </p:grpSpPr>
          <p:pic>
            <p:nvPicPr>
              <p:cNvPr id="208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781760" y="4724280"/>
                <a:ext cx="41940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36"/>
              <a:srcRect l="74036" t="4503" r="0" b="-1694"/>
              <a:stretch/>
            </p:blipFill>
            <p:spPr>
              <a:xfrm>
                <a:off x="8174160" y="4738680"/>
                <a:ext cx="41256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"/>
            <p:cNvGrpSpPr/>
            <p:nvPr/>
          </p:nvGrpSpPr>
          <p:grpSpPr>
            <a:xfrm>
              <a:off x="7020000" y="5632560"/>
              <a:ext cx="803160" cy="922320"/>
              <a:chOff x="7020000" y="5632560"/>
              <a:chExt cx="803160" cy="922320"/>
            </a:xfrm>
          </p:grpSpPr>
          <p:pic>
            <p:nvPicPr>
              <p:cNvPr id="211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020000" y="5632560"/>
                <a:ext cx="41904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38"/>
              <a:srcRect l="74036" t="4503" r="0" b="-1694"/>
              <a:stretch/>
            </p:blipFill>
            <p:spPr>
              <a:xfrm>
                <a:off x="7410600" y="564660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3" name=""/>
            <p:cNvGrpSpPr/>
            <p:nvPr/>
          </p:nvGrpSpPr>
          <p:grpSpPr>
            <a:xfrm>
              <a:off x="7761240" y="5673600"/>
              <a:ext cx="803160" cy="924120"/>
              <a:chOff x="7761240" y="5673600"/>
              <a:chExt cx="803160" cy="92412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7761240" y="567360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40"/>
              <a:srcRect l="74036" t="4503" r="0" b="-1694"/>
              <a:stretch/>
            </p:blipFill>
            <p:spPr>
              <a:xfrm>
                <a:off x="8151840" y="568944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6" name=""/>
          <p:cNvSpPr/>
          <p:nvPr/>
        </p:nvSpPr>
        <p:spPr>
          <a:xfrm>
            <a:off x="324000" y="4581360"/>
            <a:ext cx="842472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5661000"/>
            <a:ext cx="633744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Arial"/>
              </a:rPr>
              <a:t>Houve pandemias de influenza an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00200"/>
            <a:ext cx="8229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15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I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26920" y="2708280"/>
            <a:ext cx="7561440" cy="2795760"/>
            <a:chOff x="826920" y="2708280"/>
            <a:chExt cx="7561440" cy="2795760"/>
          </a:xfrm>
        </p:grpSpPr>
        <p:sp>
          <p:nvSpPr>
            <p:cNvPr id="221" name=""/>
            <p:cNvSpPr/>
            <p:nvPr/>
          </p:nvSpPr>
          <p:spPr>
            <a:xfrm>
              <a:off x="826920" y="2708280"/>
              <a:ext cx="622440" cy="466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9360" y="2708280"/>
              <a:ext cx="1851120" cy="466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N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00480" y="2708280"/>
              <a:ext cx="2868480" cy="466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68960" y="2708280"/>
              <a:ext cx="2217960" cy="466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Mor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174840"/>
              <a:ext cx="6224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19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9360" y="3174840"/>
              <a:ext cx="18511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GRIPE Espanho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00480" y="3174840"/>
              <a:ext cx="28684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Vírus GRIPE tipo A (H1N1)</a:t>
              </a: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68960" y="3174840"/>
              <a:ext cx="221796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50 milhões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6920" y="3951360"/>
              <a:ext cx="622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195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9360" y="3951360"/>
              <a:ext cx="18511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RIPE Asi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00480" y="3951360"/>
              <a:ext cx="28684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Vírus da GRIPE tipo A (H2N2)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68960" y="3951360"/>
              <a:ext cx="22179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2 milhõ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6920" y="4726080"/>
              <a:ext cx="622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196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9360" y="4726080"/>
              <a:ext cx="18511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RIPE de Hong K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00480" y="4726080"/>
              <a:ext cx="28684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Vírus da GRIPE tipo A (H3N2)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68960" y="4726080"/>
              <a:ext cx="221796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1 milh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9360" y="2708280"/>
              <a:ext cx="1440" cy="466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9360" y="3174840"/>
              <a:ext cx="144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00480" y="2708280"/>
              <a:ext cx="1440" cy="466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0480" y="3174840"/>
              <a:ext cx="144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68960" y="2708280"/>
              <a:ext cx="1800" cy="466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68960" y="3174840"/>
              <a:ext cx="180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6920" y="3174840"/>
              <a:ext cx="756000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6920" y="3951360"/>
              <a:ext cx="7560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6920" y="4726080"/>
              <a:ext cx="7560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6920" y="2708280"/>
              <a:ext cx="1800" cy="2793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6920" y="2708280"/>
              <a:ext cx="1440" cy="2793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920" y="2708280"/>
              <a:ext cx="7560000" cy="1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6920" y="5502240"/>
              <a:ext cx="756000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836720" y="3913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20760" y="638172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1) Osterholm MT. “Preparing for the next pandemic” N Eng J Med 2005; 352 (18): 1839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940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IPE ESPANH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220680"/>
            <a:ext cx="8229600" cy="1251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3300"/>
                </a:solidFill>
                <a:latin typeface="Arial"/>
              </a:rPr>
              <a:t>Por que pode morrer tanta gente pela pandemia de INFLUENZ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916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rque nenhum ser humano ainda foi exposto a este ví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ão há imun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le se transmite facilmente  pela tosse e pelo espi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79640" y="3652920"/>
            <a:ext cx="4824360" cy="3062160"/>
            <a:chOff x="1979640" y="3652920"/>
            <a:chExt cx="4824360" cy="306216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1979640" y="3652920"/>
              <a:ext cx="4824360" cy="30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979640" y="3652920"/>
              <a:ext cx="4824360" cy="30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763640" y="3933720"/>
            <a:ext cx="187164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48000" y="4005360"/>
            <a:ext cx="28908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724280"/>
            <a:ext cx="28908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4149720"/>
            <a:ext cx="35856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48000" y="4869000"/>
            <a:ext cx="36036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4653000"/>
            <a:ext cx="43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3860640"/>
            <a:ext cx="358920" cy="50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IPE SUÍ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6560" y="189000"/>
            <a:ext cx="77043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cc0000"/>
                </a:solidFill>
                <a:latin typeface="Arial"/>
              </a:rPr>
              <a:t>INFLUEN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cc0000"/>
                </a:solidFill>
                <a:latin typeface="Arial"/>
              </a:rPr>
              <a:t>A (H1N1)</a:t>
            </a:r>
            <a:r>
              <a:rPr b="1" lang="en-GB" sz="7200" spc="-1" strike="noStrike">
                <a:solidFill>
                  <a:srgbClr val="cc0000"/>
                </a:solidFill>
                <a:latin typeface="Arial"/>
              </a:rPr>
              <a:t>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16412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632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AUSADA POR UM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VÍRUS NO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68360" y="2421000"/>
            <a:ext cx="468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nguém no mund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tem imun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Não se sabe qual vai ser o comportamento d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Ele pode sofrer mutações  que são imprevisíve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4002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É UMA DOENÇA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SPIRATÓRIA AGUD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995280" y="3357720"/>
            <a:ext cx="47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INFLUENZA</a:t>
            </a:r>
            <a:br>
              <a:rPr sz="32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  <a:ea typeface="Arial"/>
              </a:rPr>
              <a:t>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RESFRI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748320" cy="4681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20400000">
            <a:off x="5576400" y="1755720"/>
            <a:ext cx="425520" cy="1306440"/>
          </a:xfrm>
          <a:prstGeom prst="downArrow">
            <a:avLst>
              <a:gd name="adj1" fmla="val 26407"/>
              <a:gd name="adj2" fmla="val 7598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cc0000"/>
                </a:solidFill>
                <a:latin typeface="Arial"/>
              </a:rPr>
              <a:t>INFLUEN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BRE 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R DE GARG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L ESTAR G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ITO CANSA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R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R NAS ARTICU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30880" y="1341360"/>
            <a:ext cx="36306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4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 rot="20280000">
            <a:off x="324000" y="1916280"/>
            <a:ext cx="8424720" cy="3020040"/>
          </a:xfrm>
          <a:prstGeom prst="rect">
            <a:avLst/>
          </a:prstGeom>
          <a:solidFill>
            <a:srgbClr val="808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00ff"/>
                </a:solidFill>
                <a:latin typeface="Arial"/>
              </a:rPr>
              <a:t>INFLUENZ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00ff"/>
                </a:solidFill>
                <a:latin typeface="Arial"/>
              </a:rPr>
              <a:t>A (H1 N1)</a:t>
            </a:r>
            <a:r>
              <a:rPr b="1" lang="en-GB" sz="9600" spc="-1" strike="noStrike">
                <a:solidFill>
                  <a:srgbClr val="ff00ff"/>
                </a:solidFill>
                <a:latin typeface="Arial"/>
              </a:rPr>
              <a:t>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91496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NÃO EXISTE VAC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26560" y="3860640"/>
            <a:ext cx="7488360" cy="1368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OSSA ÚNICA PROTEÇÃO É A PREVEN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0720" y="2349360"/>
            <a:ext cx="485640" cy="1192320"/>
          </a:xfrm>
          <a:prstGeom prst="downArrow">
            <a:avLst>
              <a:gd name="adj1" fmla="val 50000"/>
              <a:gd name="adj2" fmla="val 613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059680" cy="1470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RANSMISSÃO DO VÍR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95280" y="278136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4005360"/>
            <a:ext cx="4249800" cy="1739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O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PIRATÓ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4508640"/>
            <a:ext cx="3227400" cy="1846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 SUPERFÍ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AM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77080" y="2060640"/>
            <a:ext cx="431640" cy="2305080"/>
          </a:xfrm>
          <a:prstGeom prst="downArrow">
            <a:avLst>
              <a:gd name="adj1" fmla="val 39222"/>
              <a:gd name="adj2" fmla="val 794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95640" y="2133720"/>
            <a:ext cx="720720" cy="1582560"/>
          </a:xfrm>
          <a:prstGeom prst="downArrow">
            <a:avLst>
              <a:gd name="adj1" fmla="val 50000"/>
              <a:gd name="adj2" fmla="val 548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03280" y="1725480"/>
            <a:ext cx="6337440" cy="4988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6280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S GERMES SAEM NAS GO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4869000"/>
            <a:ext cx="4392360" cy="16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 PODEM SER INAL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LAS OUTRAS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24000" y="333360"/>
            <a:ext cx="4608360" cy="26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NCUB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 a 5 dias apó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ato com o ví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 média 2 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24360" y="3499920"/>
            <a:ext cx="4681440" cy="29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TRANSMISS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 dia 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s sinto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é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0 di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pó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2276640"/>
            <a:ext cx="2448000" cy="158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132000" y="2706840"/>
            <a:ext cx="50328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32000" y="3141720"/>
            <a:ext cx="503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048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68360" y="549360"/>
            <a:ext cx="50328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3357720"/>
            <a:ext cx="50328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32520" y="784080"/>
            <a:ext cx="30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CANCE ATÉ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80360" y="3573360"/>
            <a:ext cx="115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í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Influ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4000" y="189000"/>
            <a:ext cx="8569080" cy="64087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HÁBITO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HIGIE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cc0000"/>
                </a:solidFill>
                <a:latin typeface="Arial"/>
              </a:rPr>
              <a:t>HIGIENE DAS MÃ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860800" cy="46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46320" y="189000"/>
            <a:ext cx="4946760" cy="6480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5805360"/>
            <a:ext cx="42494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260280"/>
            <a:ext cx="820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ABALHAMOS COM O INVISÍ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640000">
            <a:off x="4141800" y="3282480"/>
            <a:ext cx="122400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37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Álcool 70% glicerinado ou g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92000" y="836280"/>
            <a:ext cx="565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Mão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não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 visivelmente  suj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95280" y="4552920"/>
            <a:ext cx="8282160" cy="2046240"/>
            <a:chOff x="395280" y="4552920"/>
            <a:chExt cx="8282160" cy="2046240"/>
          </a:xfrm>
        </p:grpSpPr>
        <p:sp>
          <p:nvSpPr>
            <p:cNvPr id="311" name=""/>
            <p:cNvSpPr/>
            <p:nvPr/>
          </p:nvSpPr>
          <p:spPr>
            <a:xfrm>
              <a:off x="395280" y="5032440"/>
              <a:ext cx="8280360" cy="1565280"/>
            </a:xfrm>
            <a:prstGeom prst="rect">
              <a:avLst/>
            </a:prstGeom>
            <a:solidFill>
              <a:srgbClr val="ffe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- não colocar o álcool nas mãos molhadas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- não secar com papel toalha</a:t>
              </a:r>
              <a:br>
                <a:rPr sz="2400"/>
              </a:br>
              <a:r>
                <a:rPr b="1" lang="en-GB" sz="2400" spc="-1" strike="noStrike">
                  <a:solidFill>
                    <a:srgbClr val="cc0000"/>
                  </a:solidFill>
                  <a:latin typeface="Arial"/>
                </a:rPr>
                <a:t>            SEMPRE FRICCIONAR ATÉ SECAR</a:t>
              </a:r>
              <a:r>
                <a:rPr b="1" lang="en-GB" sz="24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5280" y="4552920"/>
              <a:ext cx="8280360" cy="479520"/>
            </a:xfrm>
            <a:prstGeom prst="rect">
              <a:avLst/>
            </a:prstGeom>
            <a:solidFill>
              <a:srgbClr val="e8e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MESMOS MOVIMENTOS DA LAVAGEM DAS MÃ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5280" y="4552920"/>
              <a:ext cx="8280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5280" y="6597720"/>
              <a:ext cx="8280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5280" y="4552920"/>
              <a:ext cx="1440" cy="20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75640" y="4552920"/>
              <a:ext cx="1800" cy="20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5280" y="5032440"/>
              <a:ext cx="8280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988320" y="1413000"/>
            <a:ext cx="2155680" cy="21556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771640" y="1347840"/>
            <a:ext cx="4176720" cy="3098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812000" y="2637000"/>
            <a:ext cx="358920" cy="712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21970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5884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TIQUETA 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DA TOSSE E DO ESPI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258920" y="1905120"/>
            <a:ext cx="626580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55160"/>
            <a:ext cx="84960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cc0000"/>
                </a:solidFill>
                <a:latin typeface="Arial"/>
              </a:rPr>
              <a:t>HC UFPR</a:t>
            </a:r>
            <a:br>
              <a:rPr sz="60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ITÊ DE INFLUENZA SU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198864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27 de a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EÇÃO DE ASSIST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ÇO DE EPIDEM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ECTOLOGIA CLÍNICA -  ADULTO E PEDIÁ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ÇO DE CONTROLE DE INFECÇÃO HOSPITA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916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6920" y="4811760"/>
            <a:ext cx="8260920" cy="176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HC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É HOSPITAL DE REFER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ESPIRRO OU TO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24000" y="614520"/>
            <a:ext cx="8496000" cy="56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cc0000"/>
                </a:solidFill>
                <a:latin typeface="Arial"/>
              </a:rPr>
              <a:t>CORI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462720" cy="50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121440" cy="6408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643640" y="4581360"/>
            <a:ext cx="40698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ÃO USAR 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MÃOS P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BRIR A BO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URANTE A TO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297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É OBRIGATÓRIO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O BLOQUEIO DOS G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689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BARREIRAS  PARA 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 TOSSE E ESPI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7080" y="2781360"/>
            <a:ext cx="2328120" cy="1068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NÇ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360" y="4869000"/>
            <a:ext cx="1989720" cy="1170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AL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2565360"/>
            <a:ext cx="2419560" cy="1068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IÊ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66920" y="4869000"/>
            <a:ext cx="3144960" cy="1068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UARDAN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841480" y="2205000"/>
            <a:ext cx="1084320" cy="432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4360" y="2205000"/>
            <a:ext cx="1440" cy="2376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24360" y="2205000"/>
            <a:ext cx="2592360" cy="302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2205000"/>
            <a:ext cx="1871640" cy="503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1280" y="2133720"/>
            <a:ext cx="216000" cy="1429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Arial"/>
              </a:rPr>
              <a:t>ENSINAR AS CRIANÇ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63640" y="1595520"/>
            <a:ext cx="583272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74160" cy="5072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ÁS VEZES CRIANÇAS FAZEM MELHOR QUE OS ADUL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6626160" cy="1469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DEPOIS QUE US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851280" y="4653000"/>
            <a:ext cx="4968720" cy="172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SCART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 LIXO CO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3900000">
            <a:off x="3582360" y="2970000"/>
            <a:ext cx="2185920" cy="655560"/>
          </a:xfrm>
          <a:custGeom>
            <a:avLst/>
            <a:gdLst>
              <a:gd name="textAreaLeft" fmla="*/ 273240 w 2185920"/>
              <a:gd name="textAreaRight" fmla="*/ 1912680 w 2185920"/>
              <a:gd name="textAreaTop" fmla="*/ 163800 h 655560"/>
              <a:gd name="textAreaBottom" fmla="*/ 491760 h 655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IXO É LIXO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ÃO É QUALQUER LU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415280" cy="269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OTINA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M ELABORAÇÃO </a:t>
            </a:r>
            <a:br>
              <a:rPr sz="4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A TODAS AS  ÁREAS ENVOLVIDA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6920" y="5084640"/>
            <a:ext cx="7016760" cy="720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EINAMENTO ESPEC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357720"/>
            <a:ext cx="576000" cy="136656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545080" cy="4910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cc0000"/>
                </a:solidFill>
                <a:latin typeface="Arial"/>
              </a:rPr>
              <a:t>ÀS VEZES, SE NÃO TEM JEITO..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1628640"/>
            <a:ext cx="64764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59640" y="6308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DC -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0577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"/>
          <p:cNvSpPr/>
          <p:nvPr/>
        </p:nvSpPr>
        <p:spPr>
          <a:xfrm>
            <a:off x="4500720" y="1125360"/>
            <a:ext cx="142560" cy="18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HIGIENE DAS MÃ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05816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NO HOSPITAL       MÁSC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472000" cy="48434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788000" y="836640"/>
            <a:ext cx="64764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cc0000"/>
                </a:solidFill>
                <a:latin typeface="Arial"/>
              </a:rPr>
              <a:t>MÁSCA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po cirúrgica, três ca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nca usar pendurada no pesco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pre substituída quando ficar úm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pre manuseada pelas t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581360"/>
            <a:ext cx="7848360" cy="1374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PIRADOR N 9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s situações que possam gerar aerossó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intubação endotraqueal, aspiração , ...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VITAR AGLOMERAÇÃO DE PESS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11280" y="1519200"/>
            <a:ext cx="770580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68360" y="6165720"/>
            <a:ext cx="1366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40000" y="476280"/>
            <a:ext cx="42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840000">
            <a:off x="6659280" y="4795920"/>
            <a:ext cx="1655640" cy="288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REJAR AMBI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44688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5640" y="398160"/>
            <a:ext cx="77756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EM </a:t>
            </a:r>
            <a:br>
              <a:rPr sz="8000"/>
            </a:b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         RESU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12920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24000" y="260280"/>
            <a:ext cx="3527280" cy="630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brir o nariz e boca, de preferência com lenço descartável, ao tossir ou espir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não tem lenço, utilizar a manga da blusa/ca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ar as mãos depois de tossir ou espir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 cumprimentar: com a mão ou com beijo, quando estiver do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 compartilhar copos, pratos, talheres, objetos pessoais, e/ou beber no copo de 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19640" y="260280"/>
            <a:ext cx="3600360" cy="619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 aglom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ter-se longe de pessoa com gr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ão tocar a boca, nariz e os ol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ão cuspir no ch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ter o ambiente higienizado, com ventilação externa, mas evitando formar correntes de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ão se automed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ar sempre os EPIs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932280" y="1989000"/>
            <a:ext cx="1339920" cy="27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07280" cy="165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RIPE 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empre deve ser comba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5280" y="2708280"/>
            <a:ext cx="8282160" cy="3670200"/>
            <a:chOff x="395280" y="2708280"/>
            <a:chExt cx="8282160" cy="3670200"/>
          </a:xfrm>
        </p:grpSpPr>
        <p:sp>
          <p:nvSpPr>
            <p:cNvPr id="62" name=""/>
            <p:cNvSpPr/>
            <p:nvPr/>
          </p:nvSpPr>
          <p:spPr>
            <a:xfrm>
              <a:off x="395280" y="2708280"/>
              <a:ext cx="2695680" cy="760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viá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90960" y="2708280"/>
              <a:ext cx="2755800" cy="760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Estacion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6760" y="2708280"/>
              <a:ext cx="2828880" cy="760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H1N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suí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3468600"/>
              <a:ext cx="26956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90960" y="3468600"/>
              <a:ext cx="275580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46760" y="3468600"/>
              <a:ext cx="2828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0960" y="2708280"/>
              <a:ext cx="1440" cy="366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46760" y="2708280"/>
              <a:ext cx="1440" cy="366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280" y="3468600"/>
              <a:ext cx="828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2708280"/>
              <a:ext cx="1440" cy="36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75640" y="2708280"/>
              <a:ext cx="1800" cy="36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280" y="2708280"/>
              <a:ext cx="8280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5280" y="6377040"/>
              <a:ext cx="8280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11280" y="4076640"/>
            <a:ext cx="2016000" cy="1717560"/>
            <a:chOff x="611280" y="4076640"/>
            <a:chExt cx="2016000" cy="17175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611280" y="4076640"/>
              <a:ext cx="201600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11280" y="4076640"/>
              <a:ext cx="201600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203640" y="3789360"/>
            <a:ext cx="2446200" cy="2271600"/>
            <a:chOff x="3203640" y="3789360"/>
            <a:chExt cx="2446200" cy="22716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3203640" y="3789360"/>
              <a:ext cx="24462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203640" y="3789360"/>
              <a:ext cx="2446200" cy="22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132000" y="2781360"/>
            <a:ext cx="266400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Z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208908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Arial"/>
              </a:rPr>
              <a:t>NO HOSPIT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ificar o paciente toss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le deve receber uma másc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 possível, colocá-lo em ambiente s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r prioridade ao seu at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entivar a etiqueta da tosse e higiene das mã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jar amb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356520" y="3933720"/>
            <a:ext cx="27874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4000" y="1484280"/>
            <a:ext cx="828036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DO PROFI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 ÁREA DE ATENDIMENTO ADMI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 UTILIZAR MÁSCARA CIRÚR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S MESES DE IN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 SEMPRE QUE ESTIVER ATEND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CIENTE TOSS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4360" y="260280"/>
            <a:ext cx="813564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Arial"/>
              </a:rPr>
              <a:t>CUIDE DA SUA SAÚ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087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flipV="1">
            <a:off x="179280" y="403200"/>
            <a:ext cx="8640720" cy="6122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24000" y="474480"/>
            <a:ext cx="8640720" cy="6051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60280"/>
            <a:ext cx="8280360" cy="612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404640"/>
            <a:ext cx="8280360" cy="612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692280"/>
            <a:ext cx="7920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000000"/>
                </a:solidFill>
                <a:latin typeface="Arial"/>
              </a:rPr>
              <a:t>Se envolva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000000"/>
                </a:solidFill>
                <a:latin typeface="Arial"/>
              </a:rPr>
              <a:t>você pode ser o diferencial entre a vida e a morte de um ser human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 mundo agradec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713800" cy="230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GRIPE = INFLUENZ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Que é a INFLUENZA SAZ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É uma doenç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rópria do ser humano 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 apresenta principalmente durante os meses de inverno ( sazonal ou estacional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46840" y="4529160"/>
            <a:ext cx="2297160" cy="2133720"/>
            <a:chOff x="6846840" y="4529160"/>
            <a:chExt cx="2297160" cy="21337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6846840" y="4529160"/>
              <a:ext cx="22971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846840" y="4529160"/>
              <a:ext cx="22971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1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076640"/>
            <a:ext cx="655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mitid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ndo o vírus da Influenza entra no organismo através dos olhos, nariz,  e/ou a 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997360"/>
            <a:ext cx="7344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u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ntom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ão similares aos do resfriado comum porém muito mais inten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24000" y="260280"/>
            <a:ext cx="8570880" cy="6102360"/>
            <a:chOff x="324000" y="260280"/>
            <a:chExt cx="8570880" cy="6102360"/>
          </a:xfrm>
        </p:grpSpPr>
        <p:sp>
          <p:nvSpPr>
            <p:cNvPr id="93" name=""/>
            <p:cNvSpPr/>
            <p:nvPr/>
          </p:nvSpPr>
          <p:spPr>
            <a:xfrm>
              <a:off x="324000" y="260280"/>
              <a:ext cx="2665440" cy="523800"/>
            </a:xfrm>
            <a:prstGeom prst="rect">
              <a:avLst/>
            </a:prstGeom>
            <a:solidFill>
              <a:srgbClr val="027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SINTO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9440" y="260280"/>
              <a:ext cx="2616120" cy="523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RESFRI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05560" y="260280"/>
              <a:ext cx="3287520" cy="523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INFLUEN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784080"/>
              <a:ext cx="2665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FE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9440" y="784080"/>
              <a:ext cx="261612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riança 39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dultos pouco freqü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05560" y="784080"/>
              <a:ext cx="3287520" cy="863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de elevar-se até  40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dura de 3 a 4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000" y="1647720"/>
              <a:ext cx="26654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DOR DE CABEÇ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9440" y="1647720"/>
              <a:ext cx="2616120" cy="862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Raras ve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05560" y="1647720"/>
              <a:ext cx="3287520" cy="862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ício súbito e inten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4000" y="2509920"/>
              <a:ext cx="2665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DORES MUSCUL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9440" y="2509920"/>
              <a:ext cx="2616120" cy="1038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 a moder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05560" y="2509920"/>
              <a:ext cx="3287520" cy="51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eralmente  inten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00" y="3027240"/>
              <a:ext cx="26654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CANSAÇO E DEBI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05560" y="3027240"/>
              <a:ext cx="3287520" cy="520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de durar de 2 a 3 sem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00" y="3548160"/>
              <a:ext cx="2665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DECA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89440" y="3548160"/>
              <a:ext cx="261612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05560" y="3548160"/>
              <a:ext cx="3287520" cy="914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ício súbito e inten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00" y="4462560"/>
              <a:ext cx="2665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CONGESTÃO NA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89440" y="4462560"/>
              <a:ext cx="2616120" cy="1377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reqü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05560" y="4462560"/>
              <a:ext cx="3287520" cy="1377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lgumas ve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00" y="4981680"/>
              <a:ext cx="26654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ARDOR E/OU DOR DE GARGA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00" y="5840280"/>
              <a:ext cx="26654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TO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89440" y="5840280"/>
              <a:ext cx="2616120" cy="520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 a mode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05560" y="5840280"/>
              <a:ext cx="3287520" cy="520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Quase semp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9440" y="260280"/>
              <a:ext cx="1440" cy="610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05560" y="260280"/>
              <a:ext cx="1440" cy="610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00" y="784080"/>
              <a:ext cx="856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000" y="1647720"/>
              <a:ext cx="856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000" y="2509920"/>
              <a:ext cx="8569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000" y="3027240"/>
              <a:ext cx="2665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5560" y="3027240"/>
              <a:ext cx="3287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000" y="3548160"/>
              <a:ext cx="8569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000" y="4462560"/>
              <a:ext cx="8569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00" y="4981680"/>
              <a:ext cx="266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000" y="5840280"/>
              <a:ext cx="856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00" y="260280"/>
              <a:ext cx="856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93080" y="260280"/>
              <a:ext cx="1800" cy="610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000" y="260280"/>
              <a:ext cx="1440" cy="610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000" y="6361200"/>
              <a:ext cx="8569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22400" y="4694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2781360"/>
            <a:ext cx="2304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3357720"/>
            <a:ext cx="2304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093080" y="4437000"/>
            <a:ext cx="1792080" cy="2160720"/>
            <a:chOff x="7093080" y="4437000"/>
            <a:chExt cx="1792080" cy="21607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7093080" y="4437000"/>
              <a:ext cx="1792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93080" y="4437000"/>
              <a:ext cx="179208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Quem pode ser mais afetado pela influenza sazonal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628640"/>
            <a:ext cx="7643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 a capacidade de afetar a todas as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smo assim são mais suscetíveis de sofrer complic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rianças menores de 5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ultos maiores de 65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essoas com doenças crônicas como: diabetes, doença do coração, dos pulmõ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élia Inês</dc:creator>
  <dc:description/>
  <dc:language>en-US</dc:language>
  <cp:lastModifiedBy>SCIH02</cp:lastModifiedBy>
  <cp:revision>0</cp:revision>
  <dc:subject/>
  <dc:title>GRIPE SUÍNA</dc:title>
</cp:coreProperties>
</file>