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38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33.wmf" ContentType="image/x-wmf"/>
  <Override PartName="/ppt/media/image12.jpeg" ContentType="image/jpeg"/>
  <Override PartName="/ppt/media/image6.jpeg" ContentType="image/jpeg"/>
  <Override PartName="/ppt/media/image27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D19270-8132-40E9-ABA9-9FE2B9CA4B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CAD1D3-D5B3-4006-A0AD-4C1777B002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86E58C-E903-48B8-9599-C90F449CFD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170FF2-E2D0-49AB-9A00-EA4DA5901B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4D7E0A0-3B04-415A-8B3A-DA919E92FE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4F4BE4-16CE-4A38-BD23-BE846B2172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DCCDE7-CB55-4F3D-BEC0-63FF0831CE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701929-8860-4166-AE30-59B24AABE2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21099E-BB0A-453D-9700-E7B2F0EA2E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084DE0-9BB9-4557-AE18-C97C105553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92CAA57-ED47-4B37-B2D5-26A5A259BC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1ADE-094F-4497-AA40-750A7528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C6BF-8B38-4FDA-BCE7-C11C1D57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AB14-770D-4533-8BAC-22F34DAAB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7A6F-C292-41A2-9C6B-8E7EC502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C739-EC88-4F98-B527-5137D31F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D57B-AC21-4A15-865F-5B787C53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D717-887A-4D5F-8053-73A07907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63A7-F1F5-4B37-B02F-E909A7C6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CB11-FEC3-42DC-9F38-C2AC182C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A5A9-5D1D-4959-9649-0B0EA194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9830-A49A-4BB7-A188-52DBEC86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D30D-4AF5-48CD-9D47-DE8ECEE7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ED828F-8731-4A11-B6A2-ABFFD19EFF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image" Target="../media/image9.jpeg"/><Relationship Id="rId14" Type="http://schemas.openxmlformats.org/officeDocument/2006/relationships/image" Target="../media/image10.jpeg"/><Relationship Id="rId15" Type="http://schemas.openxmlformats.org/officeDocument/2006/relationships/image" Target="../media/image9.jpeg"/><Relationship Id="rId16" Type="http://schemas.openxmlformats.org/officeDocument/2006/relationships/image" Target="../media/image10.jpeg"/><Relationship Id="rId17" Type="http://schemas.openxmlformats.org/officeDocument/2006/relationships/image" Target="../media/image9.jpeg"/><Relationship Id="rId18" Type="http://schemas.openxmlformats.org/officeDocument/2006/relationships/image" Target="../media/image10.jpeg"/><Relationship Id="rId19" Type="http://schemas.openxmlformats.org/officeDocument/2006/relationships/image" Target="../media/image9.jpeg"/><Relationship Id="rId20" Type="http://schemas.openxmlformats.org/officeDocument/2006/relationships/image" Target="../media/image10.jpeg"/><Relationship Id="rId21" Type="http://schemas.openxmlformats.org/officeDocument/2006/relationships/image" Target="../media/image9.jpeg"/><Relationship Id="rId22" Type="http://schemas.openxmlformats.org/officeDocument/2006/relationships/image" Target="../media/image10.jpeg"/><Relationship Id="rId23" Type="http://schemas.openxmlformats.org/officeDocument/2006/relationships/image" Target="../media/image9.jpeg"/><Relationship Id="rId24" Type="http://schemas.openxmlformats.org/officeDocument/2006/relationships/image" Target="../media/image10.jpeg"/><Relationship Id="rId25" Type="http://schemas.openxmlformats.org/officeDocument/2006/relationships/image" Target="../media/image9.jpeg"/><Relationship Id="rId26" Type="http://schemas.openxmlformats.org/officeDocument/2006/relationships/image" Target="../media/image10.jpeg"/><Relationship Id="rId27" Type="http://schemas.openxmlformats.org/officeDocument/2006/relationships/image" Target="../media/image9.jpeg"/><Relationship Id="rId28" Type="http://schemas.openxmlformats.org/officeDocument/2006/relationships/image" Target="../media/image10.jpeg"/><Relationship Id="rId29" Type="http://schemas.openxmlformats.org/officeDocument/2006/relationships/image" Target="../media/image9.jpeg"/><Relationship Id="rId30" Type="http://schemas.openxmlformats.org/officeDocument/2006/relationships/image" Target="../media/image10.jpeg"/><Relationship Id="rId31" Type="http://schemas.openxmlformats.org/officeDocument/2006/relationships/image" Target="../media/image9.jpeg"/><Relationship Id="rId32" Type="http://schemas.openxmlformats.org/officeDocument/2006/relationships/image" Target="../media/image10.jpeg"/><Relationship Id="rId33" Type="http://schemas.openxmlformats.org/officeDocument/2006/relationships/image" Target="../media/image9.jpeg"/><Relationship Id="rId34" Type="http://schemas.openxmlformats.org/officeDocument/2006/relationships/image" Target="../media/image10.jpeg"/><Relationship Id="rId35" Type="http://schemas.openxmlformats.org/officeDocument/2006/relationships/image" Target="../media/image9.jpeg"/><Relationship Id="rId36" Type="http://schemas.openxmlformats.org/officeDocument/2006/relationships/image" Target="../media/image10.jpeg"/><Relationship Id="rId37" Type="http://schemas.openxmlformats.org/officeDocument/2006/relationships/image" Target="../media/image9.jpeg"/><Relationship Id="rId38" Type="http://schemas.openxmlformats.org/officeDocument/2006/relationships/image" Target="../media/image10.jpeg"/><Relationship Id="rId39" Type="http://schemas.openxmlformats.org/officeDocument/2006/relationships/image" Target="../media/image9.jpeg"/><Relationship Id="rId40" Type="http://schemas.openxmlformats.org/officeDocument/2006/relationships/image" Target="../media/image10.jpeg"/><Relationship Id="rId41" Type="http://schemas.openxmlformats.org/officeDocument/2006/relationships/slideLayout" Target="../slideLayouts/slideLayout1.xml"/><Relationship Id="rId4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9280" y="33336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HOSPITAL DE CLÍNICAS UFP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993080" cy="5170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xiste vacina para a influenza  sazon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03640" y="3500280"/>
            <a:ext cx="3006720" cy="3006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141440" y="1557360"/>
            <a:ext cx="126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SI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8200" y="2349360"/>
            <a:ext cx="56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É APLICADA ANUAL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NFLUENZA PANDÊ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24000" y="2997360"/>
            <a:ext cx="4032000" cy="3709800"/>
            <a:chOff x="324000" y="2997360"/>
            <a:chExt cx="4032000" cy="370980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324000" y="2997360"/>
              <a:ext cx="40320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24000" y="2997360"/>
              <a:ext cx="4032000" cy="37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284720" y="2060640"/>
            <a:ext cx="4390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é o início de u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mesma influ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m todo o planeta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 maneira simultâ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 a capacidade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vocar sérias conseqüê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Que conseqüências teria uma pandemia de qualquer influenz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1484280"/>
            <a:ext cx="799308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just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ande númer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 pessoas do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ma fort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rise econômic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réscimo e inclusive paradas nos setores de trabalho, escolas, empresa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perlotação dos serviços de saú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elo grande número de pac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435640" y="4797360"/>
            <a:ext cx="1566720" cy="1873440"/>
            <a:chOff x="5435640" y="4797360"/>
            <a:chExt cx="1566720" cy="1873440"/>
          </a:xfrm>
        </p:grpSpPr>
        <p:grpSp>
          <p:nvGrpSpPr>
            <p:cNvPr id="152" name=""/>
            <p:cNvGrpSpPr/>
            <p:nvPr/>
          </p:nvGrpSpPr>
          <p:grpSpPr>
            <a:xfrm>
              <a:off x="5477040" y="4797360"/>
              <a:ext cx="803160" cy="922320"/>
              <a:chOff x="5477040" y="4797360"/>
              <a:chExt cx="803160" cy="922320"/>
            </a:xfrm>
          </p:grpSpPr>
          <p:pic>
            <p:nvPicPr>
              <p:cNvPr id="15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477040" y="4797360"/>
                <a:ext cx="419040" cy="88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" descr=""/>
              <p:cNvPicPr/>
              <p:nvPr/>
            </p:nvPicPr>
            <p:blipFill>
              <a:blip r:embed="rId2"/>
              <a:srcRect l="74036" t="4503" r="0" b="-1694"/>
              <a:stretch/>
            </p:blipFill>
            <p:spPr>
              <a:xfrm>
                <a:off x="5867280" y="4811760"/>
                <a:ext cx="412920" cy="907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5" name=""/>
            <p:cNvGrpSpPr/>
            <p:nvPr/>
          </p:nvGrpSpPr>
          <p:grpSpPr>
            <a:xfrm>
              <a:off x="6197760" y="4797360"/>
              <a:ext cx="804600" cy="922320"/>
              <a:chOff x="6197760" y="4797360"/>
              <a:chExt cx="804600" cy="922320"/>
            </a:xfrm>
          </p:grpSpPr>
          <p:pic>
            <p:nvPicPr>
              <p:cNvPr id="1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97760" y="4797360"/>
                <a:ext cx="419040" cy="88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" descr=""/>
              <p:cNvPicPr/>
              <p:nvPr/>
            </p:nvPicPr>
            <p:blipFill>
              <a:blip r:embed="rId4"/>
              <a:srcRect l="74036" t="4503" r="0" b="-1694"/>
              <a:stretch/>
            </p:blipFill>
            <p:spPr>
              <a:xfrm>
                <a:off x="6589800" y="4811760"/>
                <a:ext cx="412560" cy="907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8" name=""/>
            <p:cNvGrpSpPr/>
            <p:nvPr/>
          </p:nvGrpSpPr>
          <p:grpSpPr>
            <a:xfrm>
              <a:off x="5435640" y="5705640"/>
              <a:ext cx="803160" cy="922320"/>
              <a:chOff x="5435640" y="5705640"/>
              <a:chExt cx="803160" cy="922320"/>
            </a:xfrm>
          </p:grpSpPr>
          <p:pic>
            <p:nvPicPr>
              <p:cNvPr id="15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435640" y="5705640"/>
                <a:ext cx="419040" cy="88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6"/>
              <a:srcRect l="74036" t="4503" r="0" b="-1694"/>
              <a:stretch/>
            </p:blipFill>
            <p:spPr>
              <a:xfrm>
                <a:off x="5826240" y="5719680"/>
                <a:ext cx="412560" cy="90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1" name=""/>
            <p:cNvGrpSpPr/>
            <p:nvPr/>
          </p:nvGrpSpPr>
          <p:grpSpPr>
            <a:xfrm>
              <a:off x="6176880" y="5746680"/>
              <a:ext cx="803520" cy="924120"/>
              <a:chOff x="6176880" y="5746680"/>
              <a:chExt cx="803520" cy="924120"/>
            </a:xfrm>
          </p:grpSpPr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176880" y="5746680"/>
                <a:ext cx="419040" cy="88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" descr=""/>
              <p:cNvPicPr/>
              <p:nvPr/>
            </p:nvPicPr>
            <p:blipFill>
              <a:blip r:embed="rId8"/>
              <a:srcRect l="74036" t="4503" r="0" b="-1694"/>
              <a:stretch/>
            </p:blipFill>
            <p:spPr>
              <a:xfrm>
                <a:off x="6567480" y="5762520"/>
                <a:ext cx="412920" cy="90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64" name=""/>
          <p:cNvGrpSpPr/>
          <p:nvPr/>
        </p:nvGrpSpPr>
        <p:grpSpPr>
          <a:xfrm>
            <a:off x="3708360" y="4797360"/>
            <a:ext cx="1567080" cy="1873440"/>
            <a:chOff x="3708360" y="4797360"/>
            <a:chExt cx="1567080" cy="1873440"/>
          </a:xfrm>
        </p:grpSpPr>
        <p:grpSp>
          <p:nvGrpSpPr>
            <p:cNvPr id="165" name=""/>
            <p:cNvGrpSpPr/>
            <p:nvPr/>
          </p:nvGrpSpPr>
          <p:grpSpPr>
            <a:xfrm>
              <a:off x="3749760" y="4797360"/>
              <a:ext cx="803160" cy="922320"/>
              <a:chOff x="3749760" y="4797360"/>
              <a:chExt cx="803160" cy="922320"/>
            </a:xfrm>
          </p:grpSpPr>
          <p:pic>
            <p:nvPicPr>
              <p:cNvPr id="16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749760" y="4797360"/>
                <a:ext cx="419040" cy="88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" descr=""/>
              <p:cNvPicPr/>
              <p:nvPr/>
            </p:nvPicPr>
            <p:blipFill>
              <a:blip r:embed="rId10"/>
              <a:srcRect l="74036" t="4503" r="0" b="-1694"/>
              <a:stretch/>
            </p:blipFill>
            <p:spPr>
              <a:xfrm>
                <a:off x="4140360" y="4811760"/>
                <a:ext cx="412560" cy="907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8" name=""/>
            <p:cNvGrpSpPr/>
            <p:nvPr/>
          </p:nvGrpSpPr>
          <p:grpSpPr>
            <a:xfrm>
              <a:off x="4471920" y="4797360"/>
              <a:ext cx="803520" cy="922320"/>
              <a:chOff x="4471920" y="4797360"/>
              <a:chExt cx="803520" cy="922320"/>
            </a:xfrm>
          </p:grpSpPr>
          <p:pic>
            <p:nvPicPr>
              <p:cNvPr id="169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471920" y="4797360"/>
                <a:ext cx="419040" cy="88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" descr=""/>
              <p:cNvPicPr/>
              <p:nvPr/>
            </p:nvPicPr>
            <p:blipFill>
              <a:blip r:embed="rId12"/>
              <a:srcRect l="74036" t="4503" r="0" b="-1694"/>
              <a:stretch/>
            </p:blipFill>
            <p:spPr>
              <a:xfrm>
                <a:off x="4862520" y="4811760"/>
                <a:ext cx="412920" cy="907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1" name=""/>
            <p:cNvGrpSpPr/>
            <p:nvPr/>
          </p:nvGrpSpPr>
          <p:grpSpPr>
            <a:xfrm>
              <a:off x="3708360" y="5705640"/>
              <a:ext cx="803160" cy="922320"/>
              <a:chOff x="3708360" y="5705640"/>
              <a:chExt cx="803160" cy="922320"/>
            </a:xfrm>
          </p:grpSpPr>
          <p:pic>
            <p:nvPicPr>
              <p:cNvPr id="17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708360" y="5705640"/>
                <a:ext cx="419040" cy="88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4"/>
              <a:srcRect l="74036" t="4503" r="0" b="-1694"/>
              <a:stretch/>
            </p:blipFill>
            <p:spPr>
              <a:xfrm>
                <a:off x="4098960" y="5719680"/>
                <a:ext cx="412560" cy="90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4" name=""/>
            <p:cNvGrpSpPr/>
            <p:nvPr/>
          </p:nvGrpSpPr>
          <p:grpSpPr>
            <a:xfrm>
              <a:off x="4449600" y="5746680"/>
              <a:ext cx="804960" cy="924120"/>
              <a:chOff x="4449600" y="5746680"/>
              <a:chExt cx="804960" cy="924120"/>
            </a:xfrm>
          </p:grpSpPr>
          <p:pic>
            <p:nvPicPr>
              <p:cNvPr id="17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449600" y="5746680"/>
                <a:ext cx="419400" cy="88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" descr=""/>
              <p:cNvPicPr/>
              <p:nvPr/>
            </p:nvPicPr>
            <p:blipFill>
              <a:blip r:embed="rId16"/>
              <a:srcRect l="74036" t="4503" r="0" b="-1694"/>
              <a:stretch/>
            </p:blipFill>
            <p:spPr>
              <a:xfrm>
                <a:off x="4842000" y="5762520"/>
                <a:ext cx="412560" cy="90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77" name=""/>
          <p:cNvGrpSpPr/>
          <p:nvPr/>
        </p:nvGrpSpPr>
        <p:grpSpPr>
          <a:xfrm>
            <a:off x="2050920" y="4797360"/>
            <a:ext cx="1567080" cy="1873440"/>
            <a:chOff x="2050920" y="4797360"/>
            <a:chExt cx="1567080" cy="1873440"/>
          </a:xfrm>
        </p:grpSpPr>
        <p:grpSp>
          <p:nvGrpSpPr>
            <p:cNvPr id="178" name=""/>
            <p:cNvGrpSpPr/>
            <p:nvPr/>
          </p:nvGrpSpPr>
          <p:grpSpPr>
            <a:xfrm>
              <a:off x="2092320" y="4797360"/>
              <a:ext cx="803160" cy="922320"/>
              <a:chOff x="2092320" y="4797360"/>
              <a:chExt cx="803160" cy="922320"/>
            </a:xfrm>
          </p:grpSpPr>
          <p:pic>
            <p:nvPicPr>
              <p:cNvPr id="179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2092320" y="4797360"/>
                <a:ext cx="419040" cy="88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" descr=""/>
              <p:cNvPicPr/>
              <p:nvPr/>
            </p:nvPicPr>
            <p:blipFill>
              <a:blip r:embed="rId18"/>
              <a:srcRect l="74036" t="4503" r="0" b="-1694"/>
              <a:stretch/>
            </p:blipFill>
            <p:spPr>
              <a:xfrm>
                <a:off x="2482920" y="4811760"/>
                <a:ext cx="412560" cy="907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1" name=""/>
            <p:cNvGrpSpPr/>
            <p:nvPr/>
          </p:nvGrpSpPr>
          <p:grpSpPr>
            <a:xfrm>
              <a:off x="2813040" y="4797360"/>
              <a:ext cx="804960" cy="922320"/>
              <a:chOff x="2813040" y="4797360"/>
              <a:chExt cx="804960" cy="922320"/>
            </a:xfrm>
          </p:grpSpPr>
          <p:pic>
            <p:nvPicPr>
              <p:cNvPr id="182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2813040" y="4797360"/>
                <a:ext cx="419040" cy="88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20"/>
              <a:srcRect l="74036" t="4503" r="0" b="-1694"/>
              <a:stretch/>
            </p:blipFill>
            <p:spPr>
              <a:xfrm>
                <a:off x="3205080" y="4811760"/>
                <a:ext cx="412920" cy="907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4" name=""/>
            <p:cNvGrpSpPr/>
            <p:nvPr/>
          </p:nvGrpSpPr>
          <p:grpSpPr>
            <a:xfrm>
              <a:off x="2050920" y="5705640"/>
              <a:ext cx="803520" cy="922320"/>
              <a:chOff x="2050920" y="5705640"/>
              <a:chExt cx="803520" cy="922320"/>
            </a:xfrm>
          </p:grpSpPr>
          <p:pic>
            <p:nvPicPr>
              <p:cNvPr id="185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2050920" y="5705640"/>
                <a:ext cx="419400" cy="88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" descr=""/>
              <p:cNvPicPr/>
              <p:nvPr/>
            </p:nvPicPr>
            <p:blipFill>
              <a:blip r:embed="rId22"/>
              <a:srcRect l="74036" t="4503" r="0" b="-1694"/>
              <a:stretch/>
            </p:blipFill>
            <p:spPr>
              <a:xfrm>
                <a:off x="2441520" y="5719680"/>
                <a:ext cx="412920" cy="90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7" name=""/>
            <p:cNvGrpSpPr/>
            <p:nvPr/>
          </p:nvGrpSpPr>
          <p:grpSpPr>
            <a:xfrm>
              <a:off x="2792520" y="5746680"/>
              <a:ext cx="804600" cy="924120"/>
              <a:chOff x="2792520" y="5746680"/>
              <a:chExt cx="804600" cy="924120"/>
            </a:xfrm>
          </p:grpSpPr>
          <p:pic>
            <p:nvPicPr>
              <p:cNvPr id="188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2792520" y="5746680"/>
                <a:ext cx="419040" cy="88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" descr=""/>
              <p:cNvPicPr/>
              <p:nvPr/>
            </p:nvPicPr>
            <p:blipFill>
              <a:blip r:embed="rId24"/>
              <a:srcRect l="74036" t="4503" r="0" b="-1694"/>
              <a:stretch/>
            </p:blipFill>
            <p:spPr>
              <a:xfrm>
                <a:off x="3184560" y="5762520"/>
                <a:ext cx="412560" cy="90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90" name=""/>
          <p:cNvGrpSpPr/>
          <p:nvPr/>
        </p:nvGrpSpPr>
        <p:grpSpPr>
          <a:xfrm>
            <a:off x="324000" y="4797360"/>
            <a:ext cx="1566720" cy="1873440"/>
            <a:chOff x="324000" y="4797360"/>
            <a:chExt cx="1566720" cy="1873440"/>
          </a:xfrm>
        </p:grpSpPr>
        <p:grpSp>
          <p:nvGrpSpPr>
            <p:cNvPr id="191" name=""/>
            <p:cNvGrpSpPr/>
            <p:nvPr/>
          </p:nvGrpSpPr>
          <p:grpSpPr>
            <a:xfrm>
              <a:off x="365040" y="4797360"/>
              <a:ext cx="803520" cy="922320"/>
              <a:chOff x="365040" y="4797360"/>
              <a:chExt cx="803520" cy="922320"/>
            </a:xfrm>
          </p:grpSpPr>
          <p:pic>
            <p:nvPicPr>
              <p:cNvPr id="192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365040" y="4797360"/>
                <a:ext cx="419040" cy="88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3" name="" descr=""/>
              <p:cNvPicPr/>
              <p:nvPr/>
            </p:nvPicPr>
            <p:blipFill>
              <a:blip r:embed="rId26"/>
              <a:srcRect l="74036" t="4503" r="0" b="-1694"/>
              <a:stretch/>
            </p:blipFill>
            <p:spPr>
              <a:xfrm>
                <a:off x="755640" y="4811760"/>
                <a:ext cx="412920" cy="907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4" name=""/>
            <p:cNvGrpSpPr/>
            <p:nvPr/>
          </p:nvGrpSpPr>
          <p:grpSpPr>
            <a:xfrm>
              <a:off x="1085760" y="4797360"/>
              <a:ext cx="804960" cy="922320"/>
              <a:chOff x="1085760" y="4797360"/>
              <a:chExt cx="804960" cy="922320"/>
            </a:xfrm>
          </p:grpSpPr>
          <p:pic>
            <p:nvPicPr>
              <p:cNvPr id="195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1085760" y="4797360"/>
                <a:ext cx="419040" cy="88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6" name="" descr=""/>
              <p:cNvPicPr/>
              <p:nvPr/>
            </p:nvPicPr>
            <p:blipFill>
              <a:blip r:embed="rId28"/>
              <a:srcRect l="74036" t="4503" r="0" b="-1694"/>
              <a:stretch/>
            </p:blipFill>
            <p:spPr>
              <a:xfrm>
                <a:off x="1477800" y="4811760"/>
                <a:ext cx="412920" cy="907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7" name=""/>
            <p:cNvGrpSpPr/>
            <p:nvPr/>
          </p:nvGrpSpPr>
          <p:grpSpPr>
            <a:xfrm>
              <a:off x="324000" y="5705640"/>
              <a:ext cx="803160" cy="922320"/>
              <a:chOff x="324000" y="5705640"/>
              <a:chExt cx="803160" cy="922320"/>
            </a:xfrm>
          </p:grpSpPr>
          <p:pic>
            <p:nvPicPr>
              <p:cNvPr id="198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324000" y="5705640"/>
                <a:ext cx="419040" cy="88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9" name="" descr=""/>
              <p:cNvPicPr/>
              <p:nvPr/>
            </p:nvPicPr>
            <p:blipFill>
              <a:blip r:embed="rId30"/>
              <a:srcRect l="74036" t="4503" r="0" b="-1694"/>
              <a:stretch/>
            </p:blipFill>
            <p:spPr>
              <a:xfrm>
                <a:off x="714240" y="5719680"/>
                <a:ext cx="412920" cy="90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0" name=""/>
            <p:cNvGrpSpPr/>
            <p:nvPr/>
          </p:nvGrpSpPr>
          <p:grpSpPr>
            <a:xfrm>
              <a:off x="1065240" y="5746680"/>
              <a:ext cx="804960" cy="924120"/>
              <a:chOff x="1065240" y="5746680"/>
              <a:chExt cx="804960" cy="924120"/>
            </a:xfrm>
          </p:grpSpPr>
          <p:pic>
            <p:nvPicPr>
              <p:cNvPr id="201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1065240" y="5746680"/>
                <a:ext cx="419040" cy="88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2" name="" descr=""/>
              <p:cNvPicPr/>
              <p:nvPr/>
            </p:nvPicPr>
            <p:blipFill>
              <a:blip r:embed="rId32"/>
              <a:srcRect l="74036" t="4503" r="0" b="-1694"/>
              <a:stretch/>
            </p:blipFill>
            <p:spPr>
              <a:xfrm>
                <a:off x="1457280" y="5762520"/>
                <a:ext cx="412920" cy="90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03" name=""/>
          <p:cNvGrpSpPr/>
          <p:nvPr/>
        </p:nvGrpSpPr>
        <p:grpSpPr>
          <a:xfrm>
            <a:off x="7020000" y="4724280"/>
            <a:ext cx="1566720" cy="1873440"/>
            <a:chOff x="7020000" y="4724280"/>
            <a:chExt cx="1566720" cy="1873440"/>
          </a:xfrm>
        </p:grpSpPr>
        <p:grpSp>
          <p:nvGrpSpPr>
            <p:cNvPr id="204" name=""/>
            <p:cNvGrpSpPr/>
            <p:nvPr/>
          </p:nvGrpSpPr>
          <p:grpSpPr>
            <a:xfrm>
              <a:off x="7061040" y="4724280"/>
              <a:ext cx="803520" cy="922320"/>
              <a:chOff x="7061040" y="4724280"/>
              <a:chExt cx="803520" cy="922320"/>
            </a:xfrm>
          </p:grpSpPr>
          <p:pic>
            <p:nvPicPr>
              <p:cNvPr id="205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7061040" y="4724280"/>
                <a:ext cx="419400" cy="88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" name="" descr=""/>
              <p:cNvPicPr/>
              <p:nvPr/>
            </p:nvPicPr>
            <p:blipFill>
              <a:blip r:embed="rId34"/>
              <a:srcRect l="74036" t="4503" r="0" b="-1694"/>
              <a:stretch/>
            </p:blipFill>
            <p:spPr>
              <a:xfrm>
                <a:off x="7451640" y="4738680"/>
                <a:ext cx="412920" cy="907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7781760" y="4724280"/>
              <a:ext cx="804960" cy="922320"/>
              <a:chOff x="7781760" y="4724280"/>
              <a:chExt cx="804960" cy="922320"/>
            </a:xfrm>
          </p:grpSpPr>
          <p:pic>
            <p:nvPicPr>
              <p:cNvPr id="208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781760" y="4724280"/>
                <a:ext cx="419400" cy="88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9" name="" descr=""/>
              <p:cNvPicPr/>
              <p:nvPr/>
            </p:nvPicPr>
            <p:blipFill>
              <a:blip r:embed="rId36"/>
              <a:srcRect l="74036" t="4503" r="0" b="-1694"/>
              <a:stretch/>
            </p:blipFill>
            <p:spPr>
              <a:xfrm>
                <a:off x="8174160" y="4738680"/>
                <a:ext cx="412560" cy="907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0" name=""/>
            <p:cNvGrpSpPr/>
            <p:nvPr/>
          </p:nvGrpSpPr>
          <p:grpSpPr>
            <a:xfrm>
              <a:off x="7020000" y="5632560"/>
              <a:ext cx="803160" cy="922320"/>
              <a:chOff x="7020000" y="5632560"/>
              <a:chExt cx="803160" cy="922320"/>
            </a:xfrm>
          </p:grpSpPr>
          <p:pic>
            <p:nvPicPr>
              <p:cNvPr id="211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7020000" y="5632560"/>
                <a:ext cx="419040" cy="88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2" name="" descr=""/>
              <p:cNvPicPr/>
              <p:nvPr/>
            </p:nvPicPr>
            <p:blipFill>
              <a:blip r:embed="rId38"/>
              <a:srcRect l="74036" t="4503" r="0" b="-1694"/>
              <a:stretch/>
            </p:blipFill>
            <p:spPr>
              <a:xfrm>
                <a:off x="7410600" y="5646600"/>
                <a:ext cx="412560" cy="90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3" name=""/>
            <p:cNvGrpSpPr/>
            <p:nvPr/>
          </p:nvGrpSpPr>
          <p:grpSpPr>
            <a:xfrm>
              <a:off x="7761240" y="5673600"/>
              <a:ext cx="803160" cy="924120"/>
              <a:chOff x="7761240" y="5673600"/>
              <a:chExt cx="803160" cy="924120"/>
            </a:xfrm>
          </p:grpSpPr>
          <p:pic>
            <p:nvPicPr>
              <p:cNvPr id="214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7761240" y="5673600"/>
                <a:ext cx="419040" cy="88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5" name="" descr=""/>
              <p:cNvPicPr/>
              <p:nvPr/>
            </p:nvPicPr>
            <p:blipFill>
              <a:blip r:embed="rId40"/>
              <a:srcRect l="74036" t="4503" r="0" b="-1694"/>
              <a:stretch/>
            </p:blipFill>
            <p:spPr>
              <a:xfrm>
                <a:off x="8151840" y="5689440"/>
                <a:ext cx="412560" cy="90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6" name=""/>
          <p:cNvSpPr/>
          <p:nvPr/>
        </p:nvSpPr>
        <p:spPr>
          <a:xfrm>
            <a:off x="324000" y="4581360"/>
            <a:ext cx="842472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9640" y="5661000"/>
            <a:ext cx="633744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3300"/>
                </a:solidFill>
                <a:latin typeface="Arial"/>
              </a:rPr>
              <a:t>Houve pandemias de influenza an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600200"/>
            <a:ext cx="82296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spcBef>
                <a:spcPts val="15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Arial"/>
              </a:rPr>
              <a:t>SI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826920" y="2708280"/>
            <a:ext cx="7561440" cy="2795760"/>
            <a:chOff x="826920" y="2708280"/>
            <a:chExt cx="7561440" cy="2795760"/>
          </a:xfrm>
        </p:grpSpPr>
        <p:sp>
          <p:nvSpPr>
            <p:cNvPr id="221" name=""/>
            <p:cNvSpPr/>
            <p:nvPr/>
          </p:nvSpPr>
          <p:spPr>
            <a:xfrm>
              <a:off x="826920" y="2708280"/>
              <a:ext cx="622440" cy="466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A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49360" y="2708280"/>
              <a:ext cx="1851120" cy="466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No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00480" y="2708280"/>
              <a:ext cx="2868480" cy="466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Vir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68960" y="2708280"/>
              <a:ext cx="2217960" cy="466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Mor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26920" y="3174840"/>
              <a:ext cx="62244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333399"/>
                  </a:solidFill>
                  <a:latin typeface="Arial Narrow"/>
                  <a:ea typeface="Times New Roman"/>
                </a:rPr>
                <a:t>19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49360" y="3174840"/>
              <a:ext cx="185112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333399"/>
                  </a:solidFill>
                  <a:latin typeface="Arial Narrow"/>
                  <a:ea typeface="Times New Roman"/>
                </a:rPr>
                <a:t>GRIPE Espanho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00480" y="3174840"/>
              <a:ext cx="286848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333399"/>
                  </a:solidFill>
                  <a:latin typeface="Arial Narrow"/>
                  <a:ea typeface="Times New Roman"/>
                </a:rPr>
                <a:t>Vírus GRIPE tipo A (H1N1)</a:t>
              </a:r>
              <a:r>
                <a:rPr b="1" lang="en-GB" sz="1800" spc="-1" strike="noStrike">
                  <a:solidFill>
                    <a:srgbClr val="333399"/>
                  </a:solidFill>
                  <a:latin typeface="Arial Narrow"/>
                  <a:ea typeface="Times New Roman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68960" y="3174840"/>
              <a:ext cx="221796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333399"/>
                  </a:solidFill>
                  <a:latin typeface="Arial Narrow"/>
                  <a:ea typeface="Times New Roman"/>
                </a:rPr>
                <a:t>50 milhões[1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26920" y="3951360"/>
              <a:ext cx="62244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195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49360" y="3951360"/>
              <a:ext cx="185112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GRIPE Asiá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00480" y="3951360"/>
              <a:ext cx="28684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Vírus da GRIPE tipo A (H2N2)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68960" y="3951360"/>
              <a:ext cx="221796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2 milhõ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26920" y="4726080"/>
              <a:ext cx="6224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196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49360" y="4726080"/>
              <a:ext cx="185112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GRIPE de Hong Ko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300480" y="4726080"/>
              <a:ext cx="286848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Vírus da GRIPE tipo A (H3N2)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68960" y="4726080"/>
              <a:ext cx="221796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1 milh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49360" y="2708280"/>
              <a:ext cx="1440" cy="4665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49360" y="3174840"/>
              <a:ext cx="1440" cy="232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00480" y="2708280"/>
              <a:ext cx="1440" cy="4665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300480" y="3174840"/>
              <a:ext cx="1440" cy="232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68960" y="2708280"/>
              <a:ext cx="1800" cy="4665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68960" y="3174840"/>
              <a:ext cx="1800" cy="232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6920" y="3174840"/>
              <a:ext cx="7560000" cy="18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26920" y="3951360"/>
              <a:ext cx="7560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26920" y="4726080"/>
              <a:ext cx="7560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6920" y="2708280"/>
              <a:ext cx="1800" cy="27939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386920" y="2708280"/>
              <a:ext cx="1440" cy="27939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26920" y="2708280"/>
              <a:ext cx="7560000" cy="1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6920" y="5502240"/>
              <a:ext cx="7560000" cy="18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836720" y="39132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120760" y="6381720"/>
            <a:ext cx="52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1) Osterholm MT. “Preparing for the next pandemic” N Eng J Med 2005; 352 (18): 1839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064720" cy="49402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GRIPE ESPANHO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57200" y="220680"/>
            <a:ext cx="8229600" cy="1251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800" spc="-1" strike="noStrike">
                <a:solidFill>
                  <a:srgbClr val="003300"/>
                </a:solidFill>
                <a:latin typeface="Arial"/>
              </a:rPr>
              <a:t>Por que pode morrer tanta gente pela pandemia de INFLUENZA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0920" y="1916280"/>
            <a:ext cx="856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rque nenhum ser humano ainda foi exposto a este ví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ão há imun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le se transmite facilmente  pela tosse e pelo espir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979640" y="3652920"/>
            <a:ext cx="4824360" cy="3062160"/>
            <a:chOff x="1979640" y="3652920"/>
            <a:chExt cx="4824360" cy="3062160"/>
          </a:xfrm>
        </p:grpSpPr>
        <p:pic>
          <p:nvPicPr>
            <p:cNvPr id="257" name="" descr=""/>
            <p:cNvPicPr/>
            <p:nvPr/>
          </p:nvPicPr>
          <p:blipFill>
            <a:blip r:embed="rId1"/>
            <a:stretch/>
          </p:blipFill>
          <p:spPr>
            <a:xfrm>
              <a:off x="1979640" y="3652920"/>
              <a:ext cx="4824360" cy="30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1979640" y="3652920"/>
              <a:ext cx="4824360" cy="30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1763640" y="3933720"/>
            <a:ext cx="1871640" cy="201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48000" y="4005360"/>
            <a:ext cx="289080" cy="358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92360" y="4724280"/>
            <a:ext cx="289080" cy="358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4149720"/>
            <a:ext cx="358560" cy="501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48000" y="4869000"/>
            <a:ext cx="36036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48000" y="4653000"/>
            <a:ext cx="43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48000" y="3860640"/>
            <a:ext cx="358920" cy="501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11280" y="522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GRIPE SUÍ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826560" y="189000"/>
            <a:ext cx="77043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7200" spc="-1" strike="noStrike">
                <a:solidFill>
                  <a:srgbClr val="cc0000"/>
                </a:solidFill>
                <a:latin typeface="Arial"/>
              </a:rPr>
              <a:t>INFLUENZ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7200" spc="-1" strike="noStrike">
                <a:solidFill>
                  <a:srgbClr val="cc0000"/>
                </a:solidFill>
                <a:latin typeface="Arial"/>
              </a:rPr>
              <a:t>A (H1N1)</a:t>
            </a:r>
            <a:r>
              <a:rPr b="1" lang="en-GB" sz="7200" spc="-1" strike="noStrike">
                <a:solidFill>
                  <a:srgbClr val="cc0000"/>
                </a:solidFill>
                <a:latin typeface="Arial"/>
              </a:rPr>
              <a:t>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484360" y="2924280"/>
            <a:ext cx="4164120" cy="30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632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CAUSADA POR UM </a:t>
            </a:r>
            <a:br>
              <a:rPr sz="4400"/>
            </a:b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VÍRUS NO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68360" y="2421000"/>
            <a:ext cx="4680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inguém no mundo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tem imunida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Não se sabe qual vai ser o comportamento d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Ele pode sofrer mutações  que são imprevisívei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148360" y="2349360"/>
            <a:ext cx="3400200" cy="33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0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É UMA DOENÇA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RESPIRATÓRIA AGUDA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3995280" y="3357720"/>
            <a:ext cx="47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INFLUENZA</a:t>
            </a:r>
            <a:br>
              <a:rPr sz="3200"/>
            </a:br>
            <a:r>
              <a:rPr b="1" lang="en-GB" sz="4400" spc="-1" strike="noStrike">
                <a:solidFill>
                  <a:srgbClr val="cc0000"/>
                </a:solidFill>
                <a:latin typeface="Arial"/>
                <a:ea typeface="Arial"/>
              </a:rPr>
              <a:t>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RESFRI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3748320" cy="46814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20400000">
            <a:off x="5576400" y="1755720"/>
            <a:ext cx="425520" cy="1306440"/>
          </a:xfrm>
          <a:prstGeom prst="downArrow">
            <a:avLst>
              <a:gd name="adj1" fmla="val 26407"/>
              <a:gd name="adj2" fmla="val 7598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cc0000"/>
                </a:solidFill>
                <a:latin typeface="Arial"/>
              </a:rPr>
              <a:t>INFLUENZ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EBRE AL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R DE GARGA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L ESTAR GE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UITO CANSAÇ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R MUS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R NAS ARTICUL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5330880" y="1341360"/>
            <a:ext cx="363060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249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 rot="20280000">
            <a:off x="324000" y="1916280"/>
            <a:ext cx="8424720" cy="3020040"/>
          </a:xfrm>
          <a:prstGeom prst="rect">
            <a:avLst/>
          </a:prstGeom>
          <a:solidFill>
            <a:srgbClr val="80808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600" spc="-1" strike="noStrike">
                <a:solidFill>
                  <a:srgbClr val="ff00ff"/>
                </a:solidFill>
                <a:latin typeface="Arial"/>
              </a:rPr>
              <a:t>INFLUENZ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600" spc="-1" strike="noStrike">
                <a:solidFill>
                  <a:srgbClr val="ff00ff"/>
                </a:solidFill>
                <a:latin typeface="Arial"/>
              </a:rPr>
              <a:t>A (H1 N1)</a:t>
            </a:r>
            <a:r>
              <a:rPr b="1" lang="en-GB" sz="9600" spc="-1" strike="noStrike">
                <a:solidFill>
                  <a:srgbClr val="ff00ff"/>
                </a:solidFill>
                <a:latin typeface="Arial"/>
              </a:rPr>
              <a:t>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914960" cy="1440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NÃO EXISTE VACI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826560" y="3860640"/>
            <a:ext cx="7488360" cy="1368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OSSA ÚNICA PROTEÇÃO É A PREVEN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00720" y="2349360"/>
            <a:ext cx="485640" cy="1192320"/>
          </a:xfrm>
          <a:prstGeom prst="downArrow">
            <a:avLst>
              <a:gd name="adj1" fmla="val 50000"/>
              <a:gd name="adj2" fmla="val 613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059680" cy="1470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TRANSMISSÃO DO VÍR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395280" y="2781360"/>
            <a:ext cx="84247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4005360"/>
            <a:ext cx="4249800" cy="1739880"/>
          </a:xfrm>
          <a:prstGeom prst="rect">
            <a:avLst/>
          </a:prstGeom>
          <a:solidFill>
            <a:srgbClr val="ffff99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OTÍC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SPIRATÓR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651640" y="4508640"/>
            <a:ext cx="3227400" cy="1846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T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 SUPERFÍ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TAMIN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77080" y="2060640"/>
            <a:ext cx="431640" cy="2305080"/>
          </a:xfrm>
          <a:prstGeom prst="downArrow">
            <a:avLst>
              <a:gd name="adj1" fmla="val 39222"/>
              <a:gd name="adj2" fmla="val 794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195640" y="2133720"/>
            <a:ext cx="720720" cy="1582560"/>
          </a:xfrm>
          <a:prstGeom prst="downArrow">
            <a:avLst>
              <a:gd name="adj1" fmla="val 50000"/>
              <a:gd name="adj2" fmla="val 548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403280" y="1725480"/>
            <a:ext cx="6337440" cy="49881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62800" cy="16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S GERMES SAEM NAS GOTÍC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40360" y="4869000"/>
            <a:ext cx="4392360" cy="1655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 PODEM SER INAL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ELAS OUTRAS PESSO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924000" y="333360"/>
            <a:ext cx="4608360" cy="266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INCUB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 a 5 dias apó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tato com o ví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m média 2 d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924360" y="3499920"/>
            <a:ext cx="4681440" cy="292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TRANSMISSIBI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 dia a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s sinto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té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10 dia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pó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1280" y="2276640"/>
            <a:ext cx="2448000" cy="1584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EM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3132000" y="2706840"/>
            <a:ext cx="503280" cy="43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132000" y="3141720"/>
            <a:ext cx="50328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96000" cy="60487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468360" y="549360"/>
            <a:ext cx="503280" cy="33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643280" y="3357720"/>
            <a:ext cx="503280" cy="30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132520" y="784080"/>
            <a:ext cx="303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OTÍC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CANCE ATÉ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380360" y="3573360"/>
            <a:ext cx="1152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ír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a Influe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24000" y="189000"/>
            <a:ext cx="8569080" cy="64087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8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8000" spc="-1" strike="noStrike">
                <a:solidFill>
                  <a:srgbClr val="000000"/>
                </a:solidFill>
                <a:latin typeface="Arial"/>
              </a:rPr>
              <a:t>HÁBITOS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80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8000" spc="-1" strike="noStrike">
                <a:solidFill>
                  <a:srgbClr val="000000"/>
                </a:solidFill>
                <a:latin typeface="Arial"/>
              </a:rPr>
              <a:t>HIGIEN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cc0000"/>
                </a:solidFill>
                <a:latin typeface="Arial"/>
              </a:rPr>
              <a:t>HIGIENE DAS MÃ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5860800" cy="46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146320" y="189000"/>
            <a:ext cx="4946760" cy="6480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556000" y="5805360"/>
            <a:ext cx="42494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9640" y="260280"/>
            <a:ext cx="820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RABALHAMOS COM O INVISÍ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2640000">
            <a:off x="4141800" y="3282480"/>
            <a:ext cx="1224000" cy="432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137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Álcool 70% glicerinado ou g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692000" y="836280"/>
            <a:ext cx="565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Mãos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não</a:t>
            </a: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 visivelmente  suja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95280" y="4552920"/>
            <a:ext cx="8282160" cy="2046240"/>
            <a:chOff x="395280" y="4552920"/>
            <a:chExt cx="8282160" cy="2046240"/>
          </a:xfrm>
        </p:grpSpPr>
        <p:sp>
          <p:nvSpPr>
            <p:cNvPr id="311" name=""/>
            <p:cNvSpPr/>
            <p:nvPr/>
          </p:nvSpPr>
          <p:spPr>
            <a:xfrm>
              <a:off x="395280" y="5032440"/>
              <a:ext cx="8280360" cy="1565280"/>
            </a:xfrm>
            <a:prstGeom prst="rect">
              <a:avLst/>
            </a:prstGeom>
            <a:solidFill>
              <a:srgbClr val="ffe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1280" indent="-341280"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- não colocar o álcool nas mãos molhadas</a:t>
              </a:r>
              <a:br>
                <a:rPr sz="2400"/>
              </a:b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- não secar com papel toalha</a:t>
              </a:r>
              <a:br>
                <a:rPr sz="2400"/>
              </a:br>
              <a:r>
                <a:rPr b="1" lang="en-GB" sz="2400" spc="-1" strike="noStrike">
                  <a:solidFill>
                    <a:srgbClr val="cc0000"/>
                  </a:solidFill>
                  <a:latin typeface="Arial"/>
                </a:rPr>
                <a:t>            SEMPRE FRICCIONAR ATÉ SECAR</a:t>
              </a:r>
              <a:r>
                <a:rPr b="1" lang="en-GB" sz="2400" spc="-1" strike="noStrike">
                  <a:solidFill>
                    <a:srgbClr val="ff0066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95280" y="4552920"/>
              <a:ext cx="8280360" cy="479520"/>
            </a:xfrm>
            <a:prstGeom prst="rect">
              <a:avLst/>
            </a:prstGeom>
            <a:solidFill>
              <a:srgbClr val="e8e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ctr"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MESMOS MOVIMENTOS DA LAVAGEM DAS MÃ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95280" y="4552920"/>
              <a:ext cx="8280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95280" y="6597720"/>
              <a:ext cx="8280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5280" y="4552920"/>
              <a:ext cx="1440" cy="20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675640" y="4552920"/>
              <a:ext cx="1800" cy="20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5280" y="5032440"/>
              <a:ext cx="8280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6988320" y="1413000"/>
            <a:ext cx="2155680" cy="21556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2771640" y="1347840"/>
            <a:ext cx="4176720" cy="30988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7812000" y="2637000"/>
            <a:ext cx="358920" cy="7128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179280" y="1557360"/>
            <a:ext cx="219708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25884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Arial"/>
              </a:rPr>
              <a:t>ETIQUETA </a:t>
            </a:r>
            <a:br>
              <a:rPr sz="4400"/>
            </a:br>
            <a:r>
              <a:rPr b="1" lang="en-GB" sz="4400" spc="-1" strike="noStrike">
                <a:solidFill>
                  <a:srgbClr val="3333cc"/>
                </a:solidFill>
                <a:latin typeface="Arial"/>
              </a:rPr>
              <a:t>DA TOSSE E DO ESPIR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258920" y="1905120"/>
            <a:ext cx="6265800" cy="48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155160"/>
            <a:ext cx="84960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7200" spc="-1" strike="noStrike">
                <a:solidFill>
                  <a:srgbClr val="cc0000"/>
                </a:solidFill>
                <a:latin typeface="Arial"/>
              </a:rPr>
              <a:t>HC UFPR</a:t>
            </a:r>
            <a:br>
              <a:rPr sz="60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MITÊ DE INFLUENZA SUÍ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9280" y="1988640"/>
            <a:ext cx="8209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27 de ab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REÇÃO DE ASSISTÊ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RVIÇO DE EPIDEMIOLO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FECTOLOGIA CLÍNICA -  ADULTO E PEDIÁ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RVIÇO DE CONTROLE DE INFECÇÃO HOSPITA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916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6920" y="4811760"/>
            <a:ext cx="8260920" cy="17697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Arial"/>
              </a:rPr>
              <a:t>HC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É HOSPITAL DE REFERÊ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ESPIRRO OU TOS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28036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324000" y="614520"/>
            <a:ext cx="8496000" cy="56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cc0000"/>
                </a:solidFill>
                <a:latin typeface="Arial"/>
              </a:rPr>
              <a:t>CORIZ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462720" cy="509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121440" cy="64087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4643640" y="4581360"/>
            <a:ext cx="4069800" cy="20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ÃO USAR M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S MÃOS PA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BRIR A BO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URANTE A TO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360" y="3297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Arial"/>
              </a:rPr>
              <a:t>É OBRIGATÓRIO</a:t>
            </a:r>
            <a:br>
              <a:rPr sz="4400"/>
            </a:br>
            <a:r>
              <a:rPr b="1" lang="en-GB" sz="4400" spc="-1" strike="noStrike">
                <a:solidFill>
                  <a:srgbClr val="3333cc"/>
                </a:solidFill>
                <a:latin typeface="Arial"/>
              </a:rPr>
              <a:t>O BLOQUEIO DOS GER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68944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BARREIRAS  PARA </a:t>
            </a:r>
            <a:br>
              <a:rPr sz="4800"/>
            </a:b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A TOSSE E ESPIR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97080" y="2781360"/>
            <a:ext cx="2328120" cy="10688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ENÇ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 PA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732360" y="4869000"/>
            <a:ext cx="1989720" cy="11703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A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AL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156360" y="2565360"/>
            <a:ext cx="2419560" cy="10688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A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GIÊ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266920" y="4869000"/>
            <a:ext cx="3144960" cy="10688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UARDANA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 PA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2841480" y="2205000"/>
            <a:ext cx="1084320" cy="432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924360" y="2205000"/>
            <a:ext cx="1440" cy="23763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924360" y="2205000"/>
            <a:ext cx="2592360" cy="30243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924360" y="2205000"/>
            <a:ext cx="1871640" cy="503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51280" y="2133720"/>
            <a:ext cx="216000" cy="1429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3333cc"/>
                </a:solidFill>
                <a:latin typeface="Arial"/>
              </a:rPr>
              <a:t>ENSINAR AS CRIANÇ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1763640" y="1595520"/>
            <a:ext cx="5832720" cy="49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274160" cy="50720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ÁS VEZES CRIANÇAS FAZEM MELHOR QUE OS ADUL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6626160" cy="14698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DEPOIS QUE US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851280" y="4653000"/>
            <a:ext cx="4968720" cy="1728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SCART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NO LIXO COM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3900000">
            <a:off x="3582360" y="2970000"/>
            <a:ext cx="2185920" cy="655560"/>
          </a:xfrm>
          <a:custGeom>
            <a:avLst/>
            <a:gdLst>
              <a:gd name="textAreaLeft" fmla="*/ 273240 w 2185920"/>
              <a:gd name="textAreaRight" fmla="*/ 1912680 w 2185920"/>
              <a:gd name="textAreaTop" fmla="*/ 163800 h 655560"/>
              <a:gd name="textAreaBottom" fmla="*/ 491760 h 655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351640" cy="504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IXO É LIXO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ÃO É QUALQUER LUG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415280" cy="269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ROTINA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EM ELABORAÇÃO </a:t>
            </a:r>
            <a:br>
              <a:rPr sz="44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ARA TODAS AS  ÁREAS ENVOLVIDA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6920" y="5084640"/>
            <a:ext cx="7016760" cy="720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REINAMENTO ESPECÍF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357720"/>
            <a:ext cx="576000" cy="1366560"/>
          </a:xfrm>
          <a:prstGeom prst="downArrow">
            <a:avLst>
              <a:gd name="adj1" fmla="val 50000"/>
              <a:gd name="adj2" fmla="val 593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5545080" cy="491004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200" spc="-1" strike="noStrike">
                <a:solidFill>
                  <a:srgbClr val="cc0000"/>
                </a:solidFill>
                <a:latin typeface="Arial"/>
              </a:rPr>
              <a:t>ÀS VEZES, SE NÃO TEM JEITO..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164360" y="1628640"/>
            <a:ext cx="64764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659640" y="630864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DC -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605772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8" name=""/>
          <p:cNvSpPr/>
          <p:nvPr/>
        </p:nvSpPr>
        <p:spPr>
          <a:xfrm>
            <a:off x="4500720" y="1125360"/>
            <a:ext cx="142560" cy="180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HIGIENE DAS MÃ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058160" cy="49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Arial"/>
              </a:rPr>
              <a:t>NO HOSPITAL       MÁSCA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472000" cy="484344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4788000" y="836640"/>
            <a:ext cx="64764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cc0000"/>
                </a:solidFill>
                <a:latin typeface="Arial"/>
              </a:rPr>
              <a:t>MÁSCAR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ipo cirúrgica, três cam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unca usar pendurada no pescoç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mpre substituída quando ficar úmi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mpre manuseada pelas ti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4360" y="4581360"/>
            <a:ext cx="7848360" cy="1374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SPIRADOR N 95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as situações que possam gerar aerossó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intubação endotraqueal, aspiração , ...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EVITAR AGLOMERAÇÃO DE PESSO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611280" y="1519200"/>
            <a:ext cx="7705800" cy="51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40720" cy="6480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68360" y="6165720"/>
            <a:ext cx="13669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340000" y="476280"/>
            <a:ext cx="424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840000">
            <a:off x="6659280" y="4795920"/>
            <a:ext cx="1655640" cy="288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AREJAR AMBIEN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446880" cy="48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15640" y="398160"/>
            <a:ext cx="777564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8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8000" spc="-1" strike="noStrike">
                <a:solidFill>
                  <a:srgbClr val="000000"/>
                </a:solidFill>
                <a:latin typeface="Arial"/>
              </a:rPr>
              <a:t>EM </a:t>
            </a:r>
            <a:br>
              <a:rPr sz="8000"/>
            </a:br>
            <a:r>
              <a:rPr b="1" lang="en-GB" sz="8000" spc="-1" strike="noStrike">
                <a:solidFill>
                  <a:srgbClr val="000000"/>
                </a:solidFill>
                <a:latin typeface="Arial"/>
              </a:rPr>
              <a:t>           RESUM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0" y="2492280"/>
            <a:ext cx="4129200" cy="436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24000" y="260280"/>
            <a:ext cx="3527280" cy="630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brir o nariz e boca, de preferência com lenço descartável, ao tossir ou espir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 não tem lenço, utilizar a manga da blusa/cami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var as mãos depois de tossir ou espir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vitar cumprimentar: com a mão ou com beijo, quando estiver do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vitar compartilhar copos, pratos, talheres, objetos pessoais, e/ou beber no copo de ou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4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219640" y="260280"/>
            <a:ext cx="3600360" cy="619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vitar aglomer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nter-se longe de pessoa com gri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ão tocar a boca, nariz e os ol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ão cuspir no ch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nter o ambiente higienizado, com ventilação externa, mas evitando formar correntes de 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ão se automed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ar sempre os EPIs necess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3932280" y="1989000"/>
            <a:ext cx="1339920" cy="276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260280"/>
            <a:ext cx="8207280" cy="165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RIPE 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empre deve ser combat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95280" y="2708280"/>
            <a:ext cx="8282160" cy="3670200"/>
            <a:chOff x="395280" y="2708280"/>
            <a:chExt cx="8282160" cy="3670200"/>
          </a:xfrm>
        </p:grpSpPr>
        <p:sp>
          <p:nvSpPr>
            <p:cNvPr id="62" name=""/>
            <p:cNvSpPr/>
            <p:nvPr/>
          </p:nvSpPr>
          <p:spPr>
            <a:xfrm>
              <a:off x="395280" y="2708280"/>
              <a:ext cx="2695680" cy="760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Aviár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90960" y="2708280"/>
              <a:ext cx="2755800" cy="7603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Estacional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46760" y="2708280"/>
              <a:ext cx="2828880" cy="760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H1N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suí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3468600"/>
              <a:ext cx="2695680" cy="29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90960" y="3468600"/>
              <a:ext cx="2755800" cy="29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846760" y="3468600"/>
              <a:ext cx="2828880" cy="29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90960" y="2708280"/>
              <a:ext cx="1440" cy="366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46760" y="2708280"/>
              <a:ext cx="1440" cy="366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95280" y="3468600"/>
              <a:ext cx="8280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5280" y="2708280"/>
              <a:ext cx="1440" cy="366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675640" y="2708280"/>
              <a:ext cx="1800" cy="366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5280" y="2708280"/>
              <a:ext cx="82803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5280" y="6377040"/>
              <a:ext cx="82803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11280" y="4076640"/>
            <a:ext cx="2016000" cy="1717560"/>
            <a:chOff x="611280" y="4076640"/>
            <a:chExt cx="2016000" cy="171756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611280" y="4076640"/>
              <a:ext cx="2016000" cy="17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611280" y="4076640"/>
              <a:ext cx="2016000" cy="17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203640" y="3789360"/>
            <a:ext cx="2446200" cy="2271600"/>
            <a:chOff x="3203640" y="3789360"/>
            <a:chExt cx="2446200" cy="22716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3203640" y="3789360"/>
              <a:ext cx="2446200" cy="22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203640" y="3789360"/>
              <a:ext cx="2446200" cy="22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3132000" y="2781360"/>
            <a:ext cx="2664000" cy="4597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Z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443640" y="4076640"/>
            <a:ext cx="2089080" cy="15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ffff00"/>
                </a:solidFill>
                <a:latin typeface="Arial"/>
              </a:rPr>
              <a:t>NO HOSPIT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dentificar o paciente toss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le deve receber uma másc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 possível, colocá-lo em ambiente sepa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r prioridade ao seu atend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entivar a etiqueta da tosse e higiene das mã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ejar amb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6356520" y="3933720"/>
            <a:ext cx="278748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24000" y="1484280"/>
            <a:ext cx="8280360" cy="3168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DO PROFIS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A ÁREA DE ATENDIMENTO ADMIS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VE UTILIZAR MÁSCARA CIRÚR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S MESES DE INV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U SEMPRE QUE ESTIVER ATENDE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ACIENTE TOSS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4360" y="260280"/>
            <a:ext cx="8135640" cy="122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8000"/>
                </a:solidFill>
                <a:latin typeface="Arial"/>
              </a:rPr>
              <a:t>CUIDE DA SUA SAÚ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408720" cy="512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 flipV="1">
            <a:off x="179280" y="403200"/>
            <a:ext cx="8640720" cy="61228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324000" y="474480"/>
            <a:ext cx="8640720" cy="60512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4000" y="260280"/>
            <a:ext cx="8280360" cy="612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24000" y="404640"/>
            <a:ext cx="8280360" cy="612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11280" y="692280"/>
            <a:ext cx="792000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6000" spc="-1" strike="noStrike">
                <a:solidFill>
                  <a:srgbClr val="000000"/>
                </a:solidFill>
                <a:latin typeface="Arial"/>
              </a:rPr>
              <a:t>Se envolva,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6000" spc="-1" strike="noStrike">
                <a:solidFill>
                  <a:srgbClr val="000000"/>
                </a:solidFill>
                <a:latin typeface="Arial"/>
              </a:rPr>
              <a:t>você pode ser o diferencial entre a vida e a morte de um ser humano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O mundo agradec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472360" cy="48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8920" y="2130120"/>
            <a:ext cx="8713800" cy="230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Arial"/>
              </a:rPr>
              <a:t>GRIPE = INFLUENZ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Que é a INFLUENZA SAZON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É uma doenç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rópria do ser humano 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e apresenta principalmente durante os meses de inverno ( sazonal ou estacional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846840" y="4529160"/>
            <a:ext cx="2297160" cy="2133720"/>
            <a:chOff x="6846840" y="4529160"/>
            <a:chExt cx="2297160" cy="213372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6846840" y="4529160"/>
              <a:ext cx="229716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6846840" y="4529160"/>
              <a:ext cx="229716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6711840" y="4024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4076640"/>
            <a:ext cx="6553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É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nsmitid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ando o vírus da Influenza entra no organismo através dos olhos, nariz,  e/ou a b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2997360"/>
            <a:ext cx="734400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u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ntom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ão similares aos do resfriado comum porém muito mais inten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324000" y="260280"/>
            <a:ext cx="8570880" cy="6102360"/>
            <a:chOff x="324000" y="260280"/>
            <a:chExt cx="8570880" cy="6102360"/>
          </a:xfrm>
        </p:grpSpPr>
        <p:sp>
          <p:nvSpPr>
            <p:cNvPr id="93" name=""/>
            <p:cNvSpPr/>
            <p:nvPr/>
          </p:nvSpPr>
          <p:spPr>
            <a:xfrm>
              <a:off x="324000" y="260280"/>
              <a:ext cx="2665440" cy="523800"/>
            </a:xfrm>
            <a:prstGeom prst="rect">
              <a:avLst/>
            </a:prstGeom>
            <a:solidFill>
              <a:srgbClr val="027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SINTOM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89440" y="260280"/>
              <a:ext cx="2616120" cy="5238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RESFRI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05560" y="260280"/>
              <a:ext cx="3287520" cy="5238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INFLUENZ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4000" y="784080"/>
              <a:ext cx="26654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cc0000"/>
                  </a:solidFill>
                  <a:latin typeface="Arial Narrow"/>
                  <a:ea typeface="Times New Roman"/>
                </a:rPr>
                <a:t>FEB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89440" y="784080"/>
              <a:ext cx="2616120" cy="863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Criança 39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Adultos pouco freqü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05560" y="784080"/>
              <a:ext cx="3287520" cy="8636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Pode elevar-se até  40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dura de 3 a 4 d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4000" y="1647720"/>
              <a:ext cx="266544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cc0000"/>
                  </a:solidFill>
                  <a:latin typeface="Arial Narrow"/>
                  <a:ea typeface="Times New Roman"/>
                </a:rPr>
                <a:t>DOR DE CABEÇ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89440" y="1647720"/>
              <a:ext cx="2616120" cy="862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Raras vez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605560" y="1647720"/>
              <a:ext cx="3287520" cy="8622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Início súbito e inten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24000" y="2509920"/>
              <a:ext cx="26654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cc0000"/>
                  </a:solidFill>
                  <a:latin typeface="Arial Narrow"/>
                  <a:ea typeface="Times New Roman"/>
                </a:rPr>
                <a:t>DORES MUSCULA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89440" y="2509920"/>
              <a:ext cx="2616120" cy="1038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Leve a moder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05560" y="2509920"/>
              <a:ext cx="3287520" cy="5173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Geralmente  inten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4000" y="3027240"/>
              <a:ext cx="266544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cc0000"/>
                  </a:solidFill>
                  <a:latin typeface="Arial Narrow"/>
                  <a:ea typeface="Times New Roman"/>
                </a:rPr>
                <a:t>CANSAÇO E DEBILIDA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05560" y="3027240"/>
              <a:ext cx="3287520" cy="5209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Pode durar de 2 a 3 sema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00" y="3548160"/>
              <a:ext cx="26654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cc0000"/>
                  </a:solidFill>
                  <a:latin typeface="Arial Narrow"/>
                  <a:ea typeface="Times New Roman"/>
                </a:rPr>
                <a:t>DECAIM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89440" y="3548160"/>
              <a:ext cx="2616120" cy="914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Le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05560" y="3548160"/>
              <a:ext cx="3287520" cy="914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Início súbito e inten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00" y="4462560"/>
              <a:ext cx="26654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cc0000"/>
                  </a:solidFill>
                  <a:latin typeface="Arial Narrow"/>
                  <a:ea typeface="Times New Roman"/>
                </a:rPr>
                <a:t>CONGESTÃO NAS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89440" y="4462560"/>
              <a:ext cx="2616120" cy="1377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Freqü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605560" y="4462560"/>
              <a:ext cx="3287520" cy="1377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Algumas vez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4000" y="4981680"/>
              <a:ext cx="266544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cc0000"/>
                  </a:solidFill>
                  <a:latin typeface="Arial Narrow"/>
                  <a:ea typeface="Times New Roman"/>
                </a:rPr>
                <a:t>ARDOR E/OU DOR DE GARGAN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4000" y="5840280"/>
              <a:ext cx="266544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cc0000"/>
                  </a:solidFill>
                  <a:latin typeface="Arial Narrow"/>
                  <a:ea typeface="Times New Roman"/>
                </a:rPr>
                <a:t>TOS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89440" y="5840280"/>
              <a:ext cx="2616120" cy="520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Leve a moder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05560" y="5840280"/>
              <a:ext cx="3287520" cy="5209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Quase semp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89440" y="260280"/>
              <a:ext cx="1440" cy="610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605560" y="260280"/>
              <a:ext cx="1440" cy="610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4000" y="784080"/>
              <a:ext cx="85690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4000" y="1647720"/>
              <a:ext cx="85690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000" y="2509920"/>
              <a:ext cx="85690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4000" y="3027240"/>
              <a:ext cx="26654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05560" y="3027240"/>
              <a:ext cx="32875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4000" y="3548160"/>
              <a:ext cx="85690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4000" y="4462560"/>
              <a:ext cx="85690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4000" y="4981680"/>
              <a:ext cx="26654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4000" y="5840280"/>
              <a:ext cx="85690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4000" y="260280"/>
              <a:ext cx="85690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893080" y="260280"/>
              <a:ext cx="1800" cy="610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4000" y="260280"/>
              <a:ext cx="1440" cy="610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4000" y="6361200"/>
              <a:ext cx="85690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922400" y="46944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59280" y="2781360"/>
            <a:ext cx="2304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59280" y="3357720"/>
            <a:ext cx="2304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7093080" y="4437000"/>
            <a:ext cx="1792080" cy="2160720"/>
            <a:chOff x="7093080" y="4437000"/>
            <a:chExt cx="1792080" cy="216072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7093080" y="4437000"/>
              <a:ext cx="179208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7093080" y="4437000"/>
              <a:ext cx="1792080" cy="21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Quem pode ser mais afetado pela influenza sazonal?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1628640"/>
            <a:ext cx="7643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m a capacidade de afetar a todas as pesso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smo assim são mais suscetíveis de sofrer complica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rianças menores de 5 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dultos maiores de 65 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essoas com doenças crônicas como: diabetes, doença do coração, dos pulmões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élia Inês</dc:creator>
  <dc:description/>
  <dc:language>en-US</dc:language>
  <cp:lastModifiedBy>SCIH02</cp:lastModifiedBy>
  <cp:revision>0</cp:revision>
  <dc:subject/>
  <dc:title>GRIPE SUÍNA</dc:title>
</cp:coreProperties>
</file>