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ErnestoCortazar-LoveSpell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D6E7-63E3-44E2-80A3-580159F6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F49D-6FF6-4264-B369-97988191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8369-9645-4524-8E84-5996374A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D038-79A3-4DD7-807F-998BA085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35DA-6FDA-4287-A6AA-FAB3BFF7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C94D-0A47-4B7D-99EA-F8783182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BC5A-8964-48B4-92AF-171E7972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0F0-72A2-4950-BE83-763A5FF2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EF4C-7C41-4280-861F-89A04771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1456-1928-4189-88D1-B86D26A3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6A7D-02C4-4C6E-BE63-345FE504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C99-A8E3-4D53-B6C7-5C624D36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411E-0548-4A14-90E8-34E040360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ErnestoCortazar-LoveSpell.wav" TargetMode="External"/><Relationship Id="rId3" Type="http://schemas.microsoft.com/office/2007/relationships/media" Target="file:///tmp/home/.config/libreoffice/4/user/gallery/ErnestoCortazar-LoveSpell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ErnestoCortazar-LoveSpe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2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520" y="4572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Monotype Corsiva"/>
              </a:rPr>
              <a:t>O primeiro semestre se foi. Voand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20160" y="6453360"/>
            <a:ext cx="123840" cy="123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5" name="ErnestoCortazar-LoveSpe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11280" y="62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0"/>
            <a:ext cx="799308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</a:rPr>
              <a:t>Nada de desperdiçar tempo com pessoas que não se importam com você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</a:rPr>
              <a:t>Nunca cobre o amor de alguém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90000" y="5388120"/>
            <a:ext cx="31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Times New Roman"/>
              </a:rPr>
              <a:t>Amor é doação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38080" y="762120"/>
            <a:ext cx="75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Não esqueça também de se divertir, pois sorrir é necessário... Refaz a alm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7621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Cooperar um com o outr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38080" y="76212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Explorar, ir em frente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66680" y="68580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Descobrir, aprender, conhecer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9480" y="68580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Tudo é muito importante até mesmo a curiosidade, pois com ela nossos conhecimentos se desenvolvem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120" y="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Saiba que qualquer dificuldade e tristeza, suportaremos junto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Monotype Corsiva"/>
              </a:rPr>
              <a:t>Precisamos acreditar que podemos ir longe.                                                                                                                                                 Muito Longe!!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62120" y="212760"/>
            <a:ext cx="7848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Podemos voar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Decolar para o sucesso...só depende de nó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30492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Monotype Corsiva"/>
              </a:rPr>
              <a:t>Enfim, desejo a você que o resto do ano, tenha resultados extraordinário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6094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Monotype Corsiva"/>
              </a:rPr>
              <a:t>E agora é necessário enfrentar a outra meta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2120" y="6094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Que seus lindos sonhos sejam todos realizado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0880" y="304920"/>
            <a:ext cx="342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Para você e para todos que você am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66680" y="4581360"/>
            <a:ext cx="7086600" cy="15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ELIZ RESTO DO ANO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4572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Enfrentar todos os riscos que a vida nos preg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762120"/>
            <a:ext cx="876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Encarar com coragem os grandes desafio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95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6094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Vamos manter total lucidez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Façamos o caminho sempre juntos, pois podemos precisar de ajud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5335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Vamos vencer com êxito todas as provas que virã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9480" y="53341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Com muita calma e prudênci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8080" y="52578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Sempre atentos aos imprevisto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4:08:12Z</dcterms:created>
  <dc:creator>REGINA</dc:creator>
  <dc:description/>
  <dc:language>en-US</dc:language>
  <cp:lastModifiedBy>Pércio Branco</cp:lastModifiedBy>
  <dcterms:modified xsi:type="dcterms:W3CDTF">2008-08-04T19:36:42Z</dcterms:modified>
  <cp:revision>26</cp:revision>
  <dc:subject/>
  <dc:title>FELIZ 2006</dc:title>
</cp:coreProperties>
</file>