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ErnestoCortazar-LoveSpell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9CE3-2E8F-405E-8B03-E0CA52EB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8FCE-1066-44E6-96F6-BEA2AEC4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C0B8-C542-4DAF-9F16-6C75C544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0A76-C374-4605-BAE4-12FD8ADE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8605-B054-4E32-8C10-C226CEED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F348-D8CF-4966-A80D-971232A8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3E92-EEF7-410C-A3F2-71C8702B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C89D-358A-4400-AEEB-0AE1B621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BA63-AE23-485C-9C70-71534DC0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6536-0007-4C09-913C-E1601354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B2B0-B8EB-470A-8B02-39A2146B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5C07-739F-4EB1-BA95-09E4CD4E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C295-1826-41C2-9D30-C9382E4F0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ErnestoCortazar-LoveSpell.wav" TargetMode="External"/><Relationship Id="rId3" Type="http://schemas.microsoft.com/office/2007/relationships/media" Target="file:///tmp/home/.config/libreoffice/4/user/gallery/ErnestoCortazar-LoveSpell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ErnestoCortazar-LoveSpell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2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3520" y="4572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Monotype Corsiva"/>
              </a:rPr>
              <a:t>O primeiro semestre se foi. Voando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020160" y="6453360"/>
            <a:ext cx="123840" cy="123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5" name="ErnestoCortazar-LoveSpe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11280" y="62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0"/>
            <a:ext cx="799308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</a:rPr>
              <a:t>Nada de desperdiçar tempo com pessoas que não se importam com você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</a:rPr>
              <a:t>Nunca cobre o amor de alguém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90000" y="5388120"/>
            <a:ext cx="317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Times New Roman"/>
              </a:rPr>
              <a:t>Amor é doação</a:t>
            </a: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38080" y="762120"/>
            <a:ext cx="754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Não esqueça também de se divertir, pois sorrir é necessário... Refaz a alma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" y="7621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Cooperar um com o outr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38080" y="76212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Explorar, ir em frente..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66680" y="68580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Descobrir, aprender, conhecer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9480" y="685800"/>
            <a:ext cx="78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Tudo é muito importante até mesmo a curiosidade, pois com ela nossos conhecimentos se desenvolvem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2120" y="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Saiba que qualquer dificuldade e tristeza, suportaremos junto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Monotype Corsiva"/>
              </a:rPr>
              <a:t>Precisamos acreditar que podemos ir longe.                                                                                                                                                 Muito Longe!!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62120" y="212760"/>
            <a:ext cx="78483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Podemos voar..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Decolar para o sucesso...só depende de nó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5800" y="30492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Monotype Corsiva"/>
              </a:rPr>
              <a:t>Enfim, desejo a você que o resto do ano, tenha resultados extraordinário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6094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Monotype Corsiva"/>
              </a:rPr>
              <a:t>E agora é necessário enfrentar a outra meta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2120" y="6094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Que seus lindos sonhos sejam todos realizado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0880" y="304920"/>
            <a:ext cx="342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Monotype Corsiva"/>
              </a:rPr>
              <a:t>Para você e para todos que você am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66680" y="4581360"/>
            <a:ext cx="7086600" cy="153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ELIZ RESTO DO ANO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4572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Enfrentar todos os riscos que a vida nos prega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762120"/>
            <a:ext cx="876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Encarar com coragem os grandes desafio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95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" y="6094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Vamos manter total lucidez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Façamos o caminho sempre juntos, pois podemos precisar de ajuda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53352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Vamos vencer com êxito todas as provas que virã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9480" y="53341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Com muita calma e prudência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38080" y="52578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Sempre atentos aos imprevisto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4:08:12Z</dcterms:created>
  <dc:creator>REGINA</dc:creator>
  <dc:description/>
  <dc:language>en-US</dc:language>
  <cp:lastModifiedBy>Pércio Branco</cp:lastModifiedBy>
  <dcterms:modified xsi:type="dcterms:W3CDTF">2008-08-04T19:36:42Z</dcterms:modified>
  <cp:revision>26</cp:revision>
  <dc:subject/>
  <dc:title>FELIZ 2006</dc:title>
</cp:coreProperties>
</file>