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64D2-F63A-470B-9BCB-EEBE9CB709CD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C49B-7414-486E-894C-CB3B44DA9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encanaan Tenaga Kesehatan disusun secara berjenjang sebagai berik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Perencanaan Tenaga Kesehatan pada tingkat Fasilitas Pelayanan Kesehatan disusun oleh Fasilitas Pelayanan Kesehat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Perencanaan Tenaga Kesehatan pada tingkat kabupaten/kota disusun oleh Pemerintah Daerah kabupaten/kota berdasarkan usulan pimpinan Fasilitas Pelayanan Kesehatan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Perencanaan Tenaga Kesehatan pada tingkat provinsi disusun oleh Pemerintah Daerah provinsi yang merupak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ggabung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usulan Pemerintah Daerah kabupaten/kot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impinan Fasilitas Pelayanan Kesehat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ik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nsi; 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Perencanaan Tenaga Kesehata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a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tingkat nasional disusun oleh Kementerian Kesehata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yang merupakan penggabungan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rencanaan Tenaga Kesehatan tingkat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5. Perencanaan Tenaga Kesehatan digunakan sebagai dasar Pemerataan Tenaga Kesehat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87B6-10BD-43A9-AF96-F644421134DB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Pemerataan Tenaga Kesehatan dilaksanakan melalui redistribusi dan distribusi Tenaga Kesehat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1. Pemerintah Daer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us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melakukan redistribusi  dengan cara menempatkan kembali Tenaga Kesehatan dari daerah yang memiliki kelebihan Tenaga Kesehatan ke daerah yang kekurangan Tenaga Kesehatan di lingkungan ma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masing kabupaten/kota dan provin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2. Apabila dalam pelaksanaan redistribusi terdapat  kelebihan dan kekurangan Tenaga Kesehatan di lingkup kabupaten/kota, gubernur mengkoordinasikan pelaksanaan redistribusi antar kabupaten/ko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3. Apabila dalam pelaksanaan redistribusi terdapat  kelebihan dan kekurangan tenaga kesehatan di lingkup provinsi, Menteri Dalam Negeri dan Menteri Kesehatan mengkoordinasikan pelaksanaan redistribusi antar provins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bila pelaksanaan redistribusi belum dapat memenuhi kebutuhan Tenaga Kesehatan, Menteri Kesehatan melakukan distribusi pada daerah kekurangan Tenaga Kesehatan di seluruh wilayah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5. Redistribusi dan distribusi Tenaga Kesehatan harus dilakukan dengan memperhatikan ketersediaan sarana dan prasar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541D-9EA4-4B33-BCCB-30C4A17439DD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D4B3-B47A-4FCE-B591-EA8BA56C12AC}" type="slidenum">
              <a:rPr b="0" lang="id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tar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akang disusunnya Peraturan Bersama Menteri tentang Perencanaan dan Pemerataan Tenaga Kesehatan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Fasyankes Milik Pemda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Surat Edaran MenPAN &amp; RB nomor 6 tahun 2012 tentang Redistribusi dan Peningkatan Kualitas PNS Bidang Pelayanan Das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ekomendasi Rakor  Tingkat Menteri yang dipimpin oleh Menkokesra tanggal 15 Juli 2013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Penyusunan formasi &amp; analisis kebutuhan nakes di seluruh kec, kab, kota &amp; provins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Revitalisasi keputusan bersama tentang pengembangan nakes dengan mengikutsertakan Kemdagri, KemenPAN&amp;RB, Kemkes, Kemdikbud &amp; Kemke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Membentuk tim kecil lintas sektor untuk menindaklanjuti rekomendasi poin 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3.       Hasi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apat antar K/L di Kementerian PAN &amp; RB  tentang rencana aksi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quick win</a:t>
            </a:r>
            <a:r>
              <a:rPr b="0" i="1" lang="id-ID" sz="1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mana Kementerian Kesehatan mengusulkan  3 usulan indikator yait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 informasi tempat tidur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 R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layanan di RS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79480" indent="-365040" algn="just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susunnya payung hukum untuk pemerataan nakes di </a:t>
            </a:r>
            <a:r>
              <a:rPr b="0" lang="id-ID" sz="1200" spc="-1" strike="noStrike">
                <a:solidFill>
                  <a:srgbClr val="000000"/>
                </a:solidFill>
                <a:latin typeface="Calibri"/>
              </a:rPr>
              <a:t>layanan das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libri"/>
              </a:rPr>
              <a:t>Surat Edaran Mendagri Nomor 440/8135/2013 tentang Optimalisasi JKN dimana salah satu poinnya adalah distribusi &amp; redistribus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enaga kesehatan dalam rangka pemerataan tenaga kesehata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53F7-873D-4A79-A227-EE7F7E044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83F-D8F3-477B-B6DB-E0C655231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BFD-D912-48E6-BAA0-DAB54A4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368-2979-4495-9900-CA9A781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487-9FD0-4711-AD9C-4CBA66AD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0D9-9949-4CDA-86BA-AE915BA8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FECC-E521-41FB-89AA-6A4BDB54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28D-0A72-42B0-B135-60273074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021A-37A1-4813-A8D5-617F0C1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C3A6-F7D6-41CD-B472-DC79003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3CD4-1511-43CC-8C4A-D6823198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42E5-A51B-4794-9856-9631E12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14B0-15FC-4302-BC3C-8BCF217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454-2339-4945-AECA-94551B9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3291-D80D-49AB-BA8C-A187F94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875C-A4AD-41F7-AD6A-FD73EC5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CDC-689B-4607-AA61-21D61A1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5436-3A66-4A71-889C-FB5BACB6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AF4-F931-4815-9EA5-0009AA72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12F5-B507-4B36-B336-058E4E5A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0A12-C550-4B69-B700-CA2BA67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2BCA-5C05-4F6B-A45E-4978598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AB24-9280-4093-8986-F5DA046E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7D53-F77B-4D1C-B2A3-6257CE6E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777-E585-42CD-9FAE-90E3349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65BB-AB1E-4304-9DD5-4ACBDAE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DFA8-9AA1-4DBD-8D1A-F126D17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1B2B-C9C5-454F-9FF5-C8AEFC8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A869-F641-4CEA-892C-4DCE07D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FF56-24E7-4B47-891A-DED2705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36A2-F426-48BB-A772-0D5B9ACE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142F-5315-4DF2-89E8-70B5A051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2AB3-109C-4168-86BA-9FD8DE02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78B3-795C-4C70-8AC8-E263829C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835E-428D-4ACA-9E2B-5AB10070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321-C928-4BAD-B133-A1B571C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CCBC-58C6-469B-ABBB-3E25AA5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2ECF-0092-41A0-8449-989C27B0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B74DB-F012-4D0D-9EF2-365F09F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E553-97A4-437B-94BF-B3D4C3A3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D46B-9FF8-437B-81A7-6175FDC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4CBD-D376-4D2C-9B81-EC77AA0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4784-5E5A-447F-B606-9EC36435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69E7-64FF-4032-B452-149C474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4484-023D-4713-A0E2-41E55464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F6CF-7CE1-4309-AF72-4CB997FE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B56-A74B-4FF4-93AD-CDA45F6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A1361-9254-43EF-AEAB-48D82BB9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0341-9201-4E2A-B8FE-437EB5A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86D5-570E-4C31-90D8-86CCE10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8055-2EDA-4D71-8B0A-C7B8C04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732C-D021-4475-9594-4598EBF1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65A6-28D1-47B4-8BC1-A50F6AA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EEC8-1DB7-4FC6-8109-9A7AF80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3DDA-664A-4D99-940A-A38225C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D891-C7AC-4EBC-8A28-49F29A2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CF61-5DBB-4E96-8AA2-7ACE21A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D78-55CD-4CB3-AE13-34A7C8C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5C33-6EE5-4E78-8EA3-9AF6384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81D-6A64-4C6F-A7A9-1AC67B8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5F8-4DE3-41FB-B6CA-2214024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3EE-731B-43DD-9005-19314A8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875C-D1DE-4F6C-9818-7774AC6A7602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B49-CDA7-4BB3-B8C2-5260701B688A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caf2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af27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9759-641C-4CC1-BB1A-98C30A71509B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0EE9-70A7-4DD5-97A8-2B4AF6351281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e3d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4c6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4c6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d-ID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1FE-6823-4490-9844-7B4F89C35312}" type="slidenum">
              <a:rPr b="1" lang="id-ID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Peraturan Bersama </a:t>
            </a:r>
            <a:br>
              <a:rPr sz="2000"/>
            </a:b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Menteri Kesehatan, Menteri Dalam Negeri, dan</a:t>
            </a:r>
            <a:br>
              <a:rPr sz="1800"/>
            </a:br>
            <a:r>
              <a:rPr b="0" lang="id-ID" sz="2000" spc="-1" strike="noStrike">
                <a:solidFill>
                  <a:srgbClr val="3e3d2d"/>
                </a:solidFill>
                <a:latin typeface="Arial"/>
              </a:rPr>
              <a:t>Menteri Pendayagunaan  Aparatur  Negara dan Reformasi Birokrasi </a:t>
            </a:r>
            <a:br>
              <a:rPr sz="2000"/>
            </a:br>
            <a:br>
              <a:rPr sz="2000"/>
            </a:br>
            <a:r>
              <a:rPr b="0" lang="id-ID" sz="1800" spc="-1" strike="noStrike">
                <a:solidFill>
                  <a:srgbClr val="3e3d2d"/>
                </a:solidFill>
                <a:latin typeface="Arial"/>
              </a:rPr>
              <a:t>tentang</a:t>
            </a:r>
            <a:br>
              <a:rPr sz="1800"/>
            </a:br>
            <a:br>
              <a:rPr sz="1800"/>
            </a:br>
            <a:r>
              <a:rPr b="1" lang="id-ID" sz="2400" spc="-1" strike="noStrike">
                <a:solidFill>
                  <a:srgbClr val="3e3d2d"/>
                </a:solidFill>
                <a:latin typeface="Arial"/>
              </a:rPr>
              <a:t>PERENCANAAN DAN PEMERATAAN TENAGA KESEHATAN DI FASILITAS PELAYANAN KESEHATAN MILIK PEMERINTAH DAERAH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04040"/>
                </a:solidFill>
                <a:latin typeface="Arial"/>
              </a:rPr>
              <a:t>Ole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404040"/>
                </a:solidFill>
                <a:latin typeface="Arial"/>
              </a:rPr>
              <a:t>Kepala Pusat Perencanaan dan Pendaygunaan SDM Kesehat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404040"/>
                </a:solidFill>
                <a:latin typeface="Arial"/>
              </a:rPr>
              <a:t>Disampaikan pada Workshop Dalam Rangka Fasilitasi Penyusunan/Penerapan Norma, Standar, Prosedur, dan Kriteria (NSPK) Bidang Kesehatan dan So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404040"/>
                </a:solidFill>
                <a:latin typeface="Arial"/>
              </a:rPr>
              <a:t>Jakarta, 03 Juni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4206960" y="4648320"/>
            <a:ext cx="7650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aturan Bersama Menteri tentang Perencanaan dan Pemerataan Nakes di Fasyankes Milik Pem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KETENTUAN U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TENAG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KESEHAT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II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TUGAS DAN TANGGUNG JA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IV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LAPOR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BAB V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MBINAAN DAN PENGAWAS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2280" y="76320"/>
          <a:ext cx="8686800" cy="6683400"/>
        </p:xfrm>
        <a:graphic>
          <a:graphicData uri="http://schemas.openxmlformats.org/drawingml/2006/table">
            <a:tbl>
              <a:tblPr/>
              <a:tblGrid>
                <a:gridCol w="457200"/>
                <a:gridCol w="1135080"/>
                <a:gridCol w="709452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ang Ling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ang lingkup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turan Bersama Menteri ini meliputi tugas dan tanggung jawab Menteri Kesehatan, Menteri Dalam Negeri, Menteri PAN-RB, Gubernur, dan Bupati/Walikota dalam upaya </a:t>
                      </a:r>
                      <a:r>
                        <a:rPr b="1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enuhi kebutuh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21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gas dan Tanggung Jaw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ati/Walikot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koordinasikan dan memfasilitasi penyusunan Perencanaan Nakes di Fasyankes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Nakes Tk.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Pemerataan Nakes di Fasyankes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bernur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koordinasikan dan memfasilitasi penyusunan Perencanaan Nakes di Fasyankes milik Provi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Nakes Tk. Provin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Pemerataan Nakes di Fasyankes milik Prov dan antar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k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akukan upaya percepatan pemer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anan nakes nasional berdasarkan perencanaan nakes tk Prov dan Kab/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usun perencanaan pemerataan nakes tk prov dan kab/kota untuk diusulkan kepada BKN dan Kemenpan dan RB untuk alokasi forma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etapkan kebijakan mekanisme pencatatn dan pelaporan ttg perencanaan dan pemerata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52280" y="609480"/>
          <a:ext cx="8686800" cy="4884840"/>
        </p:xfrm>
        <a:graphic>
          <a:graphicData uri="http://schemas.openxmlformats.org/drawingml/2006/table">
            <a:tbl>
              <a:tblPr/>
              <a:tblGrid>
                <a:gridCol w="457200"/>
                <a:gridCol w="1135080"/>
                <a:gridCol w="709452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agr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orong gubernur dan/atau bupati/walikota untuk melakuk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arisasi dan penyusunan kebutuhan nakes, sarana dan prasarana di Fasyankes sbg bahan penyusunan perencanaan dan pemerataan nakes d wilayah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koordinasian dan fasilitasi penyusunan perencanaan dan pemerat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antauan dan evaluasi pelaksanaan perencanaan dan pemer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orong gubernur dan/atau bupati/walikota untuk melaporkan hasil Perencanaan dan Pemeataan Nak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PAN dan RB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fasilitasi usulan Perencanaan dan Pemerata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kan prioritas alokasi formasi Nakes di Fasyankes Pemda yang kekurangan atas usulan Pemda berdasarkan Perencanaan Nakes di Fasyankes milik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52280" y="457200"/>
          <a:ext cx="8686800" cy="5985000"/>
        </p:xfrm>
        <a:graphic>
          <a:graphicData uri="http://schemas.openxmlformats.org/drawingml/2006/table">
            <a:tbl>
              <a:tblPr/>
              <a:tblGrid>
                <a:gridCol w="533520"/>
                <a:gridCol w="1371600"/>
                <a:gridCol w="678168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1" lang="id-ID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 pelaporan dilakukan secara berjenja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ati/walikota meyampaikan laporan hasil pelaksanaan perencanaan dan pemeratan nakes di wilayahnya kepada Gubern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bernur meyampaikan laporan hasil pelaksanaan perencanaan dan pemeratan nakes tk. provinsi kepada Menkes dengan tembusan kepada Mendagri dan MenPAN dan 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oran memua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tersediaan jumlah, jenis nakes di fasyankes pem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cana kebutuhan nakes mengacu pada hasil AB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cana pemenuhan nakes melalui redistribu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kes, Mendagri, dan Men PAN &amp; RB membahas laporan Gubernur sekurang-kurangnya 1 (satu) kali dalam setah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inaan dan Pengawas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akukan deng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sialisasi kebijakan perencanaan dan pemerat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antauan dan evaluasi pelaksan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lakukan secara berkoordinasi antara Menkes, Mendagri, dan Men PAN dan 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65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n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dan AP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Rectangle 28"/>
          <p:cNvGrpSpPr/>
          <p:nvPr/>
        </p:nvGrpSpPr>
        <p:grpSpPr>
          <a:xfrm>
            <a:off x="2584440" y="2743200"/>
            <a:ext cx="4621320" cy="3292560"/>
            <a:chOff x="2584440" y="2743200"/>
            <a:chExt cx="4621320" cy="3292560"/>
          </a:xfrm>
        </p:grpSpPr>
        <p:pic>
          <p:nvPicPr>
            <p:cNvPr id="254" name="Rectangle 28" descr=""/>
            <p:cNvPicPr/>
            <p:nvPr/>
          </p:nvPicPr>
          <p:blipFill>
            <a:blip r:embed="rId1"/>
            <a:stretch/>
          </p:blipFill>
          <p:spPr>
            <a:xfrm>
              <a:off x="2584440" y="2743200"/>
              <a:ext cx="462132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590920" y="2749680"/>
              <a:ext cx="460836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4"/>
          <p:cNvSpPr/>
          <p:nvPr/>
        </p:nvSpPr>
        <p:spPr>
          <a:xfrm>
            <a:off x="3691080" y="203184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RENCAN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5"/>
          <p:cNvGrpSpPr/>
          <p:nvPr/>
        </p:nvGrpSpPr>
        <p:grpSpPr>
          <a:xfrm>
            <a:off x="2770200" y="2871720"/>
            <a:ext cx="4251240" cy="3091320"/>
            <a:chOff x="2770200" y="2871720"/>
            <a:chExt cx="4251240" cy="3091320"/>
          </a:xfrm>
        </p:grpSpPr>
        <p:sp>
          <p:nvSpPr>
            <p:cNvPr id="258" name="TextBox 5"/>
            <p:cNvSpPr/>
            <p:nvPr/>
          </p:nvSpPr>
          <p:spPr>
            <a:xfrm>
              <a:off x="2770200" y="5574960"/>
              <a:ext cx="143172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uskes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6"/>
            <p:cNvSpPr/>
            <p:nvPr/>
          </p:nvSpPr>
          <p:spPr>
            <a:xfrm>
              <a:off x="3197880" y="466920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emda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7"/>
            <p:cNvSpPr/>
            <p:nvPr/>
          </p:nvSpPr>
          <p:spPr>
            <a:xfrm>
              <a:off x="3197880" y="380376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Pemda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4029120" y="2871720"/>
              <a:ext cx="20574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Kem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2"/>
            <p:cNvSpPr/>
            <p:nvPr/>
          </p:nvSpPr>
          <p:spPr>
            <a:xfrm>
              <a:off x="4366800" y="5594760"/>
              <a:ext cx="154260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Up Arrow 13"/>
            <p:cNvSpPr/>
            <p:nvPr/>
          </p:nvSpPr>
          <p:spPr>
            <a:xfrm>
              <a:off x="3876840" y="51217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Up Arrow 14"/>
            <p:cNvSpPr/>
            <p:nvPr/>
          </p:nvSpPr>
          <p:spPr>
            <a:xfrm>
              <a:off x="4714920" y="42037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5"/>
            <p:cNvSpPr/>
            <p:nvPr/>
          </p:nvSpPr>
          <p:spPr>
            <a:xfrm>
              <a:off x="5439600" y="4669200"/>
              <a:ext cx="15818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Up Arrow 16"/>
            <p:cNvSpPr/>
            <p:nvPr/>
          </p:nvSpPr>
          <p:spPr>
            <a:xfrm>
              <a:off x="4726080" y="3328920"/>
              <a:ext cx="685800" cy="3801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4c600"/>
            </a:solidFill>
            <a:ln w="190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8"/>
            <p:cNvSpPr/>
            <p:nvPr/>
          </p:nvSpPr>
          <p:spPr>
            <a:xfrm>
              <a:off x="5430960" y="3793680"/>
              <a:ext cx="15818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956b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RS Vertik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9"/>
          <p:cNvGrpSpPr/>
          <p:nvPr/>
        </p:nvGrpSpPr>
        <p:grpSpPr>
          <a:xfrm>
            <a:off x="776160" y="2062080"/>
            <a:ext cx="1815120" cy="3012120"/>
            <a:chOff x="776160" y="2062080"/>
            <a:chExt cx="1815120" cy="3012120"/>
          </a:xfrm>
        </p:grpSpPr>
        <p:sp>
          <p:nvSpPr>
            <p:cNvPr id="269" name="TextBox 11"/>
            <p:cNvSpPr/>
            <p:nvPr/>
          </p:nvSpPr>
          <p:spPr>
            <a:xfrm>
              <a:off x="865440" y="2062080"/>
              <a:ext cx="1295640" cy="580680"/>
            </a:xfrm>
            <a:prstGeom prst="rect">
              <a:avLst/>
            </a:prstGeom>
            <a:solidFill>
              <a:srgbClr val="fea022"/>
            </a:solidFill>
            <a:ln w="26280">
              <a:solidFill>
                <a:srgbClr val="bb74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ffffff"/>
                  </a:solidFill>
                  <a:latin typeface="Arial"/>
                </a:rPr>
                <a:t>secara berjenja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Straight Arrow Connector 21"/>
            <p:cNvCxnSpPr/>
            <p:nvPr/>
          </p:nvCxnSpPr>
          <p:spPr>
            <a:xfrm>
              <a:off x="2137320" y="305604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  <p:sp>
          <p:nvSpPr>
            <p:cNvPr id="271" name="TextBox 22"/>
            <p:cNvSpPr/>
            <p:nvPr/>
          </p:nvSpPr>
          <p:spPr>
            <a:xfrm>
              <a:off x="812160" y="2869200"/>
              <a:ext cx="134892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Nas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23"/>
            <p:cNvSpPr/>
            <p:nvPr/>
          </p:nvSpPr>
          <p:spPr>
            <a:xfrm>
              <a:off x="794520" y="3865680"/>
              <a:ext cx="136656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Provin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4"/>
            <p:cNvSpPr/>
            <p:nvPr/>
          </p:nvSpPr>
          <p:spPr>
            <a:xfrm>
              <a:off x="776160" y="4736880"/>
              <a:ext cx="1371960" cy="337320"/>
            </a:xfrm>
            <a:prstGeom prst="rect">
              <a:avLst/>
            </a:prstGeom>
            <a:solidFill>
              <a:srgbClr val="ffffff"/>
            </a:solidFill>
            <a:ln w="262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Tk. Kab/Ko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Straight Arrow Connector 26"/>
            <p:cNvCxnSpPr/>
            <p:nvPr/>
          </p:nvCxnSpPr>
          <p:spPr>
            <a:xfrm>
              <a:off x="2137320" y="401472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  <p:cxnSp>
          <p:nvCxnSpPr>
            <p:cNvPr id="275" name="Straight Arrow Connector 27"/>
            <p:cNvCxnSpPr/>
            <p:nvPr/>
          </p:nvCxnSpPr>
          <p:spPr>
            <a:xfrm>
              <a:off x="2148120" y="4853880"/>
              <a:ext cx="443520" cy="1080"/>
            </a:xfrm>
            <a:prstGeom prst="straightConnector1">
              <a:avLst/>
            </a:prstGeom>
            <a:ln w="38160">
              <a:solidFill>
                <a:srgbClr val="94c600"/>
              </a:solidFill>
              <a:miter/>
              <a:tailEnd len="med" type="arrow" w="med"/>
            </a:ln>
          </p:spPr>
        </p:cxnSp>
      </p:grpSp>
      <p:sp>
        <p:nvSpPr>
          <p:cNvPr id="276" name="TextBox 36"/>
          <p:cNvSpPr/>
          <p:nvPr/>
        </p:nvSpPr>
        <p:spPr>
          <a:xfrm>
            <a:off x="3691080" y="69840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MERAT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5935680" y="1380960"/>
            <a:ext cx="990720" cy="58068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Arial"/>
              </a:rPr>
              <a:t>Dasar ac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Up Arrow 38"/>
          <p:cNvSpPr/>
          <p:nvPr/>
        </p:nvSpPr>
        <p:spPr>
          <a:xfrm>
            <a:off x="4548240" y="1444680"/>
            <a:ext cx="693720" cy="458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4"/>
          <p:cNvSpPr/>
          <p:nvPr/>
        </p:nvSpPr>
        <p:spPr>
          <a:xfrm>
            <a:off x="412920" y="1009800"/>
            <a:ext cx="220968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RENCAN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6"/>
          <p:cNvSpPr/>
          <p:nvPr/>
        </p:nvSpPr>
        <p:spPr>
          <a:xfrm>
            <a:off x="3917880" y="971640"/>
            <a:ext cx="2210040" cy="642600"/>
          </a:xfrm>
          <a:prstGeom prst="rect">
            <a:avLst/>
          </a:prstGeom>
          <a:solidFill>
            <a:srgbClr val="956b43"/>
          </a:solidFill>
          <a:ln w="26280">
            <a:solidFill>
              <a:srgbClr val="6c4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PEMERATAAN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3"/>
          <p:cNvGrpSpPr/>
          <p:nvPr/>
        </p:nvGrpSpPr>
        <p:grpSpPr>
          <a:xfrm>
            <a:off x="1538280" y="252360"/>
            <a:ext cx="2778120" cy="719280"/>
            <a:chOff x="1538280" y="252360"/>
            <a:chExt cx="2778120" cy="719280"/>
          </a:xfrm>
        </p:grpSpPr>
        <p:sp>
          <p:nvSpPr>
            <p:cNvPr id="282" name="Oval 34"/>
            <p:cNvSpPr/>
            <p:nvPr/>
          </p:nvSpPr>
          <p:spPr>
            <a:xfrm>
              <a:off x="1538280" y="252360"/>
              <a:ext cx="2778120" cy="719280"/>
            </a:xfrm>
            <a:prstGeom prst="ellipse">
              <a:avLst/>
            </a:prstGeom>
            <a:solidFill>
              <a:srgbClr val="fea022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35"/>
            <p:cNvSpPr/>
            <p:nvPr/>
          </p:nvSpPr>
          <p:spPr>
            <a:xfrm>
              <a:off x="1753200" y="272880"/>
              <a:ext cx="240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600" spc="-1" strike="noStrike">
                  <a:solidFill>
                    <a:srgbClr val="000000"/>
                  </a:solidFill>
                  <a:latin typeface="Arial"/>
                </a:rPr>
                <a:t>Kelebihan dan Kekurangan Nak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29"/>
          <p:cNvGrpSpPr/>
          <p:nvPr/>
        </p:nvGrpSpPr>
        <p:grpSpPr>
          <a:xfrm>
            <a:off x="987480" y="2852640"/>
            <a:ext cx="2822400" cy="2975040"/>
            <a:chOff x="987480" y="2852640"/>
            <a:chExt cx="2822400" cy="2975040"/>
          </a:xfrm>
        </p:grpSpPr>
        <p:pic>
          <p:nvPicPr>
            <p:cNvPr id="285" name="Rectangle 29" descr=""/>
            <p:cNvPicPr/>
            <p:nvPr/>
          </p:nvPicPr>
          <p:blipFill>
            <a:blip r:embed="rId1"/>
            <a:stretch/>
          </p:blipFill>
          <p:spPr>
            <a:xfrm>
              <a:off x="987480" y="2852640"/>
              <a:ext cx="28224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992160" y="2860560"/>
              <a:ext cx="281304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ight Arrow 32"/>
          <p:cNvSpPr/>
          <p:nvPr/>
        </p:nvSpPr>
        <p:spPr>
          <a:xfrm flipV="1">
            <a:off x="2697120" y="1103400"/>
            <a:ext cx="1106640" cy="457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94c600"/>
          </a:solidFill>
          <a:ln w="262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42"/>
          <p:cNvCxnSpPr/>
          <p:nvPr/>
        </p:nvCxnSpPr>
        <p:spPr>
          <a:xfrm flipH="1">
            <a:off x="3803400" y="1655280"/>
            <a:ext cx="1219680" cy="12121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289" name="Straight Arrow Connector 44"/>
          <p:cNvCxnSpPr/>
          <p:nvPr/>
        </p:nvCxnSpPr>
        <p:spPr>
          <a:xfrm>
            <a:off x="5016600" y="1684080"/>
            <a:ext cx="1271880" cy="11833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290" name="TextBox 31"/>
          <p:cNvSpPr/>
          <p:nvPr/>
        </p:nvSpPr>
        <p:spPr>
          <a:xfrm>
            <a:off x="1197000" y="2900520"/>
            <a:ext cx="2286000" cy="36828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Redistribusi N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6"/>
          <p:cNvSpPr/>
          <p:nvPr/>
        </p:nvSpPr>
        <p:spPr>
          <a:xfrm>
            <a:off x="2379600" y="2057400"/>
            <a:ext cx="1596960" cy="52020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lebihan N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3"/>
          <p:cNvSpPr/>
          <p:nvPr/>
        </p:nvSpPr>
        <p:spPr>
          <a:xfrm>
            <a:off x="6259680" y="2886120"/>
            <a:ext cx="2286000" cy="1191240"/>
          </a:xfrm>
          <a:prstGeom prst="rect">
            <a:avLst/>
          </a:prstGeom>
          <a:solidFill>
            <a:srgbClr val="ff6700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Arial"/>
              </a:rPr>
              <a:t>Distribusi pada daerah kekurangan Nakes di seluruh wilayah 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4313160" y="4227480"/>
            <a:ext cx="1595520" cy="73332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kur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Nakes setelah Redistribu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7"/>
          <p:cNvGrpSpPr/>
          <p:nvPr/>
        </p:nvGrpSpPr>
        <p:grpSpPr>
          <a:xfrm>
            <a:off x="1258920" y="3433680"/>
            <a:ext cx="2168640" cy="652680"/>
            <a:chOff x="1258920" y="3433680"/>
            <a:chExt cx="2168640" cy="652680"/>
          </a:xfrm>
        </p:grpSpPr>
        <p:sp>
          <p:nvSpPr>
            <p:cNvPr id="295" name="Rounded Rectangle 55"/>
            <p:cNvSpPr/>
            <p:nvPr/>
          </p:nvSpPr>
          <p:spPr>
            <a:xfrm>
              <a:off x="1258920" y="3475800"/>
              <a:ext cx="216864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56"/>
            <p:cNvSpPr/>
            <p:nvPr/>
          </p:nvSpPr>
          <p:spPr>
            <a:xfrm>
              <a:off x="1276920" y="343368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Fasyankes di Tk. Kab/Ko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1263600" y="4227480"/>
            <a:ext cx="2170080" cy="652320"/>
            <a:chOff x="1263600" y="4227480"/>
            <a:chExt cx="2170080" cy="652320"/>
          </a:xfrm>
        </p:grpSpPr>
        <p:sp>
          <p:nvSpPr>
            <p:cNvPr id="298" name="Rounded Rectangle 60"/>
            <p:cNvSpPr/>
            <p:nvPr/>
          </p:nvSpPr>
          <p:spPr>
            <a:xfrm>
              <a:off x="1263600" y="4269240"/>
              <a:ext cx="217008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61"/>
            <p:cNvSpPr/>
            <p:nvPr/>
          </p:nvSpPr>
          <p:spPr>
            <a:xfrm>
              <a:off x="1281600" y="4227480"/>
              <a:ext cx="20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Kab/Kota di Tk. Provin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2"/>
          <p:cNvGrpSpPr/>
          <p:nvPr/>
        </p:nvGrpSpPr>
        <p:grpSpPr>
          <a:xfrm>
            <a:off x="1292400" y="4965840"/>
            <a:ext cx="2170080" cy="652320"/>
            <a:chOff x="1292400" y="4965840"/>
            <a:chExt cx="2170080" cy="652320"/>
          </a:xfrm>
        </p:grpSpPr>
        <p:sp>
          <p:nvSpPr>
            <p:cNvPr id="301" name="Rounded Rectangle 63"/>
            <p:cNvSpPr/>
            <p:nvPr/>
          </p:nvSpPr>
          <p:spPr>
            <a:xfrm>
              <a:off x="1292400" y="5007600"/>
              <a:ext cx="2170080" cy="61056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2628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64"/>
            <p:cNvSpPr/>
            <p:nvPr/>
          </p:nvSpPr>
          <p:spPr>
            <a:xfrm>
              <a:off x="1310400" y="4965840"/>
              <a:ext cx="20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Antar Provinsi di Tk. Na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65"/>
          <p:cNvSpPr/>
          <p:nvPr/>
        </p:nvSpPr>
        <p:spPr>
          <a:xfrm>
            <a:off x="6288120" y="2000160"/>
            <a:ext cx="1595520" cy="520200"/>
          </a:xfrm>
          <a:prstGeom prst="rect">
            <a:avLst/>
          </a:prstGeom>
          <a:solidFill>
            <a:srgbClr val="ffd9a7"/>
          </a:solidFill>
          <a:ln w="2628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Kekuran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000000"/>
                </a:solidFill>
                <a:latin typeface="Arial"/>
              </a:rPr>
              <a:t>N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Straight Arrow Connector 68"/>
          <p:cNvCxnSpPr/>
          <p:nvPr/>
        </p:nvCxnSpPr>
        <p:spPr>
          <a:xfrm>
            <a:off x="3939840" y="3580920"/>
            <a:ext cx="2167560" cy="108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05" name="Left Brace 79"/>
          <p:cNvSpPr/>
          <p:nvPr/>
        </p:nvSpPr>
        <p:spPr>
          <a:xfrm rot="16200000">
            <a:off x="4722840" y="3201840"/>
            <a:ext cx="495360" cy="5826240"/>
          </a:xfrm>
          <a:custGeom>
            <a:avLst/>
            <a:gdLst>
              <a:gd name="textAreaLeft" fmla="*/ 316440 w 495360"/>
              <a:gd name="textAreaRight" fmla="*/ 495720 w 495360"/>
              <a:gd name="textAreaTop" fmla="*/ 12600 h 5826240"/>
              <a:gd name="textAreaBottom" fmla="*/ 5813640 h 582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0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TextBox 80"/>
          <p:cNvGrpSpPr/>
          <p:nvPr/>
        </p:nvGrpSpPr>
        <p:grpSpPr>
          <a:xfrm>
            <a:off x="1023840" y="6315120"/>
            <a:ext cx="7632720" cy="384120"/>
            <a:chOff x="1023840" y="6315120"/>
            <a:chExt cx="7632720" cy="384120"/>
          </a:xfrm>
        </p:grpSpPr>
        <p:pic>
          <p:nvPicPr>
            <p:cNvPr id="307" name="TextBox 80" descr=""/>
            <p:cNvPicPr/>
            <p:nvPr/>
          </p:nvPicPr>
          <p:blipFill>
            <a:blip r:embed="rId2"/>
            <a:stretch/>
          </p:blipFill>
          <p:spPr>
            <a:xfrm>
              <a:off x="1023840" y="6315120"/>
              <a:ext cx="76327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27080" y="6321600"/>
              <a:ext cx="76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800" spc="-1" strike="noStrike">
                  <a:solidFill>
                    <a:srgbClr val="000000"/>
                  </a:solidFill>
                  <a:latin typeface="Arial"/>
                </a:rPr>
                <a:t>Mempertimbangkan kesiapan sarana dan prasarana Fasyank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266560"/>
            <a:ext cx="31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6300"/>
                </a:solidFill>
                <a:latin typeface="Rockwell Extra Bold"/>
              </a:rPr>
              <a:t>TERIMA   </a:t>
            </a:r>
            <a:br>
              <a:rPr sz="3600"/>
            </a:br>
            <a:r>
              <a:rPr b="1" lang="en-US" sz="3600" spc="-1" strike="noStrike">
                <a:solidFill>
                  <a:srgbClr val="4a6300"/>
                </a:solidFill>
                <a:latin typeface="Rockwell Extra Bold"/>
              </a:rPr>
              <a:t>KASIH</a:t>
            </a:r>
            <a:endParaRPr b="0" lang="en-US" sz="3600" spc="-1" strike="noStrike">
              <a:solidFill>
                <a:srgbClr val="3e3d2d"/>
              </a:solidFill>
              <a:latin typeface="Arial"/>
            </a:endParaRPr>
          </a:p>
        </p:txBody>
      </p:sp>
      <p:pic>
        <p:nvPicPr>
          <p:cNvPr id="310" name="Picture 2" descr="F:\BlackBerry\pictures\IMG01329-20131108-1220.jpg"/>
          <p:cNvPicPr/>
          <p:nvPr/>
        </p:nvPicPr>
        <p:blipFill>
          <a:blip r:embed="rId1"/>
          <a:stretch/>
        </p:blipFill>
        <p:spPr>
          <a:xfrm>
            <a:off x="4670280" y="582480"/>
            <a:ext cx="424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ec67a"/>
          </a:solidFill>
          <a:ln w="28440">
            <a:solidFill>
              <a:srgbClr val="8f520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3e3d2d"/>
                </a:solidFill>
                <a:latin typeface="Arial"/>
              </a:rPr>
              <a:t>Sistematika Penyajian</a:t>
            </a:r>
            <a:endParaRPr b="0" lang="en-US" sz="40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dahul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Keadaan dan Kekurangan Tenaga Kesehatan (Nakes) di Fasilitas Pelayanan Kesehatan (Fasyankes) Milik Pemerintah Daerah (Pem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Latar Belakang Penyusunan PBM tentang Perencanaan dan Pemerataan Nakes di Fasyankes Milik Pem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Ringkasan Isi P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 fontScale="98000"/>
          </a:bodyPr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ada Januari 2014 telah dilaksanakan program Jaminan Kesehatan Nasional (JKN) yang harus didukung ketersediaan akses pelayanan kesehatan di seluruh Provinsi dan Kabupaten/Ko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eningkatan akses pelayanan kesehatan di daerah dipengaruhi oleh pemerataan jumlah, jenis, dan mutu N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Pada era desentralisasi, urusan kesehatan merupakan salah satu kewenangan yang dilimpahkan kepada Pem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Saat ini ketersediaan dan persebaran Nakes pada Fasyankes milik Pemda belum merata, untuk itu diperlukan upaya 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tenaga kesehatan pada fasilitas pelayanan kesehatan milik pemerintah daerah</a:t>
            </a: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 algn="just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ontent Placeholder 2"/>
          <p:cNvSpPr/>
          <p:nvPr/>
        </p:nvSpPr>
        <p:spPr>
          <a:xfrm>
            <a:off x="1523880" y="380880"/>
            <a:ext cx="73152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PENDAHUL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380880" y="38088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Content Placeholder 2"/>
          <p:cNvSpPr/>
          <p:nvPr/>
        </p:nvSpPr>
        <p:spPr>
          <a:xfrm>
            <a:off x="1523880" y="2438280"/>
            <a:ext cx="7315200" cy="13003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Keadaan dan Kekurangan Nakes di Fasyankes Milik Pem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380880" y="2438280"/>
            <a:ext cx="984240" cy="13003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5280" y="1268280"/>
          <a:ext cx="8424720" cy="4680000"/>
        </p:xfrm>
        <a:graphic>
          <a:graphicData uri="http://schemas.openxmlformats.org/drawingml/2006/table">
            <a:tbl>
              <a:tblPr/>
              <a:tblGrid>
                <a:gridCol w="739800"/>
                <a:gridCol w="3029040"/>
                <a:gridCol w="1477800"/>
                <a:gridCol w="1552680"/>
                <a:gridCol w="1625400"/>
              </a:tblGrid>
              <a:tr h="3351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Puskes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ad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ku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.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en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Farmasi &amp;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hatan Masyara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ga 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01240"/>
            <a:ext cx="8458200" cy="118908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Ke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da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an Kekurang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Tenaga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 Kesehatan 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i Puskesmas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4a6300"/>
                </a:solidFill>
                <a:latin typeface="Arial"/>
              </a:rPr>
              <a:t>Tahun 201</a:t>
            </a: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380880" y="60199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S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Data Keadaan Tenaga Kesehatan: Sekretariat BPPSDMK per Januari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1200" spc="-1" strike="noStrike">
                <a:solidFill>
                  <a:srgbClr val="000000"/>
                </a:solidFill>
                <a:latin typeface="Arial"/>
              </a:rPr>
              <a:t>Standar Tenaga: sesuai dengan pola minimal ketenagaan untuk puskesmas perawatan dan non peraw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82760" y="1447920"/>
          <a:ext cx="8204040" cy="4491000"/>
        </p:xfrm>
        <a:graphic>
          <a:graphicData uri="http://schemas.openxmlformats.org/drawingml/2006/table">
            <a:tbl>
              <a:tblPr/>
              <a:tblGrid>
                <a:gridCol w="666720"/>
                <a:gridCol w="3727440"/>
                <a:gridCol w="1828800"/>
                <a:gridCol w="1981080"/>
              </a:tblGrid>
              <a:tr h="6811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lah Puskesmas Yang Tidak Ada Tenaga Keseha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efffc1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m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efffc1"/>
                      </a:solidFill>
                    </a:lnL>
                    <a:lnR w="5760">
                      <a:solidFill>
                        <a:srgbClr val="efffc1"/>
                      </a:solidFill>
                    </a:lnR>
                    <a:lnT w="5760">
                      <a:solidFill>
                        <a:srgbClr val="efffc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U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2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  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Gi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sten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jana Farmasi/ Apot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ga Kesehatan Masyara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 lvl="1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itle 4"/>
          <p:cNvSpPr/>
          <p:nvPr/>
        </p:nvSpPr>
        <p:spPr>
          <a:xfrm>
            <a:off x="457200" y="459360"/>
            <a:ext cx="8310600" cy="82548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Jumlah Puskesmas Yang Tidak  Ada Tenaga Kesehatan</a:t>
            </a:r>
            <a:br>
              <a:rPr sz="2400"/>
            </a:b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sd 1 Januari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457200" y="1905120"/>
          <a:ext cx="8215200" cy="3882960"/>
        </p:xfrm>
        <a:graphic>
          <a:graphicData uri="http://schemas.openxmlformats.org/drawingml/2006/table">
            <a:tbl>
              <a:tblPr/>
              <a:tblGrid>
                <a:gridCol w="652320"/>
                <a:gridCol w="2743200"/>
                <a:gridCol w="1528920"/>
                <a:gridCol w="1506600"/>
                <a:gridCol w="1784160"/>
              </a:tblGrid>
              <a:tr h="284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s Tenaga Kese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lah Rumah Sa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ad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ku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ff44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er 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Umum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Gig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. Gig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awat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.08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6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teker 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f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zi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ri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mas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 Kesehatan 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id-ID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0160"/>
          </a:xfrm>
          <a:prstGeom prst="rect">
            <a:avLst/>
          </a:prstGeom>
          <a:solidFill>
            <a:srgbClr val="dff7ae"/>
          </a:solidFill>
          <a:ln w="26280">
            <a:solidFill>
              <a:srgbClr val="6b91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Keadaan Dan Kekurangan Tenaga Kesehatan </a:t>
            </a:r>
            <a:br>
              <a:rPr sz="2400"/>
            </a:br>
            <a:r>
              <a:rPr b="1" lang="id-ID" sz="2400" spc="-1" strike="noStrike">
                <a:solidFill>
                  <a:srgbClr val="4a6300"/>
                </a:solidFill>
                <a:latin typeface="Arial"/>
              </a:rPr>
              <a:t>di Rumah Sakit Pemerintah  Tahun 2014</a:t>
            </a:r>
            <a:endParaRPr b="0" lang="en-US" sz="2400" spc="-1" strike="noStrike">
              <a:solidFill>
                <a:srgbClr val="3e3d2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2280" y="1487520"/>
            <a:ext cx="8839440" cy="496872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 fontScale="98000"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asar penyusunan PBM tentang Perencanaan dan Pemerataan Nakes di Fasyankes Milik Pemd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SE MenPAN &amp; RB no. 6 tahun 2012 tentang Redistribusi dan Peningkatan Kualitas PNS Bidang Pelayanan Das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Rekomendasi Rakor  Tingkat Menteri yang dipimpin oleh Menkokesra tanggal 15 Juli 2013, yait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Penyusunan formasi &amp; analisis kebutuhan nak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Revitalisasi keputusan bersama tentang pengembangan nakes dengan mengikutsertakan Kemdagri, KemenPAN&amp;RB, Kemkes, Kemdikbud dan Kemke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Membentuk tim kecil lintas sektor untuk tindak lanj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sil rapat antar K/L di Kementerian PAN &amp; RB  tentang rencana aksi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quick win</a:t>
            </a:r>
            <a:r>
              <a:rPr b="0" i="1" lang="id-ID" sz="1700" spc="-1" strike="noStrike">
                <a:solidFill>
                  <a:srgbClr val="000000"/>
                </a:solidFill>
                <a:latin typeface="Arial"/>
              </a:rPr>
              <a:t>s. 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Indikator untuk Kemenk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stem informasi tempat tidur 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R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layanan di RS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46960" algn="just">
              <a:spcBef>
                <a:spcPts val="425"/>
              </a:spcBef>
              <a:buClr>
                <a:srgbClr val="000000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0000"/>
                </a:solidFill>
                <a:latin typeface="Arial"/>
              </a:rPr>
              <a:t>PBM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emerataan nakes di </a:t>
            </a:r>
            <a:r>
              <a:rPr b="1" lang="id-ID" sz="1700" spc="-1" strike="noStrike">
                <a:solidFill>
                  <a:srgbClr val="000000"/>
                </a:solidFill>
                <a:latin typeface="Arial"/>
              </a:rPr>
              <a:t>layanan das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d-ID" sz="1700" spc="-1" strike="noStrike">
                <a:solidFill>
                  <a:srgbClr val="000000"/>
                </a:solidFill>
                <a:latin typeface="Arial"/>
              </a:rPr>
              <a:t>  SE Mendagri no 440/8135/2013 tentang Optimalisasi JKN termasuk didalamnya adalah distribusi &amp; redistribus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enaga keseha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1219320" y="457200"/>
            <a:ext cx="77724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Latar Belakang Penyusunan PB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152280" y="45720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28440">
            <a:solidFill>
              <a:srgbClr val="8f5201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MUATAN MATER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gatur peran 3 (tiga) kementerian (Kemenkes, Kemendagri, dan Kemen PAN &amp; RB) dalam upaya </a:t>
            </a:r>
            <a:r>
              <a:rPr b="1" lang="id-ID" sz="2200" spc="-1" strike="noStrike">
                <a:solidFill>
                  <a:srgbClr val="000000"/>
                </a:solidFill>
                <a:latin typeface="Arial"/>
              </a:rPr>
              <a:t>perencanaan dan pemerataan Nakes di Fasyankes milik Pemda</a:t>
            </a: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ingkatkan peran gubernur dalam melakukan pemerataan Nakes melalui distribusi/redistribusi antar kabupaten di wilayah kerjany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6f95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Arial"/>
              </a:rPr>
              <a:t>Menegaskan peran bupati/walikota dalam  melakukan pemerataan tenaga kesehatan melalui distribusi/redistribusi di wilayah kerjanya serta peningkatan kesejahteraan serta keamanan Nakes di Fasyankes milik Pem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1219320" y="457200"/>
            <a:ext cx="777240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Arial"/>
              </a:rPr>
              <a:t>Ringkasan Isi PB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ontent Placeholder 2"/>
          <p:cNvSpPr/>
          <p:nvPr/>
        </p:nvSpPr>
        <p:spPr>
          <a:xfrm>
            <a:off x="152280" y="457200"/>
            <a:ext cx="984240" cy="762120"/>
          </a:xfrm>
          <a:prstGeom prst="rect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04:55:19Z</dcterms:created>
  <dc:creator>user</dc:creator>
  <dc:description/>
  <dc:language>en-US</dc:language>
  <cp:lastModifiedBy>user</cp:lastModifiedBy>
  <cp:lastPrinted>2014-06-02T08:56:14Z</cp:lastPrinted>
  <dcterms:modified xsi:type="dcterms:W3CDTF">2014-06-02T08:56:19Z</dcterms:modified>
  <cp:revision>116</cp:revision>
  <dc:subject/>
  <dc:title>Peraturan Bersama  Menteri Kesehatan, Menteri Pendayagunaan  Aparatur  Negara dan Reformasi Birokrasi dan Menteri Dalam Negeri  tentang Perencanaan dan Pemerataan Tenaga Kesehatan di Fasilitas Pelayanan Kesehatan Milik Pemerintah Daerah</dc:title>
</cp:coreProperties>
</file>