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F8E4-16B6-40AE-AADE-C9B321D0A92B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4BE1-3327-4A8B-AFFC-B3AC1BC4C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erencanaan Tenaga Kesehatan disusun secara berjenjang sebagai berik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1. Perencanaan Tenaga Kesehatan pada tingkat Fasilitas Pelayanan Kesehatan disusun oleh Fasilitas Pelayanan Kesehata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2. Perencanaan Tenaga Kesehatan pada tingkat kabupaten/kota disusun oleh Pemerintah Daerah kabupaten/kota berdasarkan usulan pimpinan Fasilitas Pelayanan Kesehatan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3. Perencanaan Tenaga Kesehatan pada tingkat provinsi disusun oleh Pemerintah Daerah provinsi yang merupaka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ggabungan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usulan Pemerintah Daerah kabupaten/kot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impinan Fasilitas Pelayanan Kesehata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ik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nsi; 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4. Perencanaan Tenaga Kesehata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a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tingkat nasional disusun oleh Kementerian Kesehata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yang merupakan penggabungan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erencanaan Tenaga Kesehatan tingkat provins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5. Perencanaan Tenaga Kesehatan digunakan sebagai dasar Pemerataan Tenaga Kesehat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1848-F5E3-49D5-A85C-66C003BF968C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emerataan Tenaga Kesehatan dilaksanakan melalui redistribusi dan distribusi Tenaga Kesehat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1. Pemerintah Daera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us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melakukan redistribusi  dengan cara menempatkan kembali Tenaga Kesehatan dari daerah yang memiliki kelebihan Tenaga Kesehatan ke daerah yang kekurangan Tenaga Kesehatan di lingkungan mas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masing kabupaten/kota dan provins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2. Apabila dalam pelaksanaan redistribusi terdapat  kelebihan dan kekurangan Tenaga Kesehatan di lingkup kabupaten/kota, gubernur mengkoordinasikan pelaksanaan redistribusi antar kabupaten/ko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3. Apabila dalam pelaksanaan redistribusi terdapat  kelebihan dan kekurangan tenaga kesehatan di lingkup provinsi, Menteri Dalam Negeri dan Menteri Kesehatan mengkoordinasikan pelaksanaan redistribusi antar provins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abila pelaksanaan redistribusi belum dapat memenuhi kebutuhan Tenaga Kesehatan, Menteri Kesehatan melakukan distribusi pada daerah kekurangan Tenaga Kesehatan di seluruh wilayah Indones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5. Redistribusi dan distribusi Tenaga Kesehatan harus dilakukan dengan memperhatikan ketersediaan sarana dan prasar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EA96-E89A-4BCE-BBF8-796BB759E632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3E9A-673F-47E9-874F-363C5AAE2EC2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tar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akang disusunnya Peraturan Bersama Menteri tentang Perencanaan dan Pemerataan Tenaga Kesehatan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Fasyankes Milik Pemda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Surat Edaran MenPAN &amp; RB nomor 6 tahun 2012 tentang Redistribusi dan Peningkatan Kualitas PNS Bidang Pelayanan Das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Calibri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Rekomendasi Rakor  Tingkat Menteri yang dipimpin oleh Menkokesra tanggal 15 Juli 2013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enyusunan formasi &amp; analisis kebutuhan nakes di seluruh kec, kab, kota &amp; provins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Revitalisasi keputusan bersama tentang pengembangan nakes dengan mengikutsertakan Kemdagri, KemenPAN&amp;RB, Kemkes, Kemdikbud &amp; Kemk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Membentuk tim kecil lintas sektor untuk menindaklanjuti rekomendasi poin b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3.       Hasil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rapat antar K/L di Kementerian PAN &amp; RB  tentang rencana aksi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quick win</a:t>
            </a: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mana Kementerian Kesehatan mengusulkan  3 usulan indikator yaitu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79480" indent="-365040" algn="just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stem informasi tempat tidur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R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on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79480" indent="-365040" algn="just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layanan di RS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79480" indent="-365040" algn="just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susunnya payung hukum untuk pemerataan nakes di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layanan das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Surat Edaran Mendagri Nomor 440/8135/2013 tentang Optimalisasi JKN dimana salah satu poinnya adalah distribusi &amp; redistribusi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tenaga kesehatan dalam rangka pemerataan tenaga kesehatan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B722-46FF-4BE6-98C8-60D362DB6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B21F-8C46-4DED-A14F-A634BF38E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D52-43E3-44C1-A01E-B3B2A683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31D-B2DB-44E9-8DD0-1AA0C29E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BA3-CD8C-4A8E-8854-B0BE8D0C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1DD-F1D4-4BAC-AAF9-D3156DBB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DB24-4618-43A0-920C-52AF958A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27D7-1460-47EA-A38A-25771554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8170-B469-4F93-8202-53D24C79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EBAB-DB27-405F-B47D-AEC364B1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5111-4F79-420B-AC9A-D0C1066A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1A21-D7D6-4BE5-A264-F6417E5C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CC56-AB18-4DA5-9EA2-567600DD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436-B6E8-449A-9E39-55C0CF07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CE9B-E604-431C-9F87-7C4BF940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206E-D627-4AE1-8A5A-265F6822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1210-6CAF-46FB-AF56-52D83DB6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F65B-DC5A-47DD-984D-5D9FD915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CCB0-77C4-4D8D-8B34-6519A6AF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89469-8B7F-4039-9876-11DA7DB0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74220-3864-40DF-8B43-C7E7DE31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9A364-67EE-4E6C-9486-6B69BB45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405E1-0D0A-49B6-B8B2-4D302225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32AF4-CD9E-4625-88F7-C4AC3D9F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459-2B4E-4378-A285-3B3C35A1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C8EC-FC39-4174-B897-9DD72F08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6D389-8D63-4B99-8194-F27EC7B3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2A82D-664A-4855-BCA5-7C262B7E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F4F71-CFF1-4BE3-B107-B8F24A11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0AEBC-0550-4998-B2D4-6FD37618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3CB22-D6BB-452B-8CF9-B7D3301B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F7B27-2B12-4DEB-A655-0C4634DC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10C84-2EB2-4F86-9700-4DBF034D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A5C51-EABD-4489-9A24-534D3DE8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187DC-12AB-4FD6-89FA-BA9F43BC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182-0BE9-40AF-979C-54CF4C8A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A86E0-80E9-42F4-A6A9-226DD99E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1D1C9-4B66-4B3D-968C-41F41540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59E13-FE14-4C4B-8C08-BDC4AF9A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85D5F-5BF6-416F-9AE3-0C581695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19035-E2A4-4F59-9B95-4A06B819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6C4C6-841D-4D7D-A8B2-D56CF3C7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D438F-1F3F-45FE-A605-9048FC18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154F9-2167-4851-81A2-21E695DB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240BB-DE47-4B0C-B8FB-74FA6768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D4EC5-8A82-4548-9EC9-7B6D36BC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9E7-DC2C-414A-BFC1-B0268673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454E0-E291-4261-963C-EA4851FC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4BC56-448E-4AD9-8D4E-66E3467D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5A7BA-8649-4842-9E14-AA252ECA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9DA4B-2592-4DEF-AEF8-4507B518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DE541-5388-49A7-A592-686D4D45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28197-0F10-4D29-8B73-97933AB1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50620-07EC-4A65-A3FD-E6A9FD81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663B9-0421-49CD-BFD6-8F4A5848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85F9E-127A-408C-AD5B-690A86FE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D0C2C-ADD7-4AA2-893D-AB417B63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971-8E69-48A9-AE9D-54F30545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3B0F7-3DB8-4959-A291-6D44F13D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F4F-7409-49CE-AFEF-5BAD6C06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716-4981-4E36-A900-75847EC2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01D-AE37-446A-B68E-DF0A7152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47FB-0EC5-493B-8725-1C804B0053EA}" type="slidenum">
              <a:rPr b="1" lang="id-ID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3e3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5322-3D80-4EE5-95E2-252F4FDEB226}" type="slidenum">
              <a:rPr b="1" lang="id-ID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3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caf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f2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59E9-C69F-4393-BDF0-25C669A3AA20}" type="slidenum">
              <a:rPr b="1" lang="id-ID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3e3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4AFA-949C-4E22-BE37-7B390F5222C6}" type="slidenum">
              <a:rPr b="1" lang="id-ID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3e3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C5EF-6BEE-4EF3-ACBA-745F1F74A89B}" type="slidenum">
              <a:rPr b="1" lang="id-ID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e3d2d"/>
                </a:solidFill>
                <a:latin typeface="Arial"/>
              </a:rPr>
              <a:t>Peraturan Bersama </a:t>
            </a:r>
            <a:br>
              <a:rPr sz="2000"/>
            </a:br>
            <a:r>
              <a:rPr b="0" lang="id-ID" sz="2000" spc="-1" strike="noStrike">
                <a:solidFill>
                  <a:srgbClr val="3e3d2d"/>
                </a:solidFill>
                <a:latin typeface="Arial"/>
              </a:rPr>
              <a:t>Menteri Kesehatan, Menteri Dalam Negeri, dan</a:t>
            </a:r>
            <a:br>
              <a:rPr sz="1800"/>
            </a:br>
            <a:r>
              <a:rPr b="0" lang="id-ID" sz="2000" spc="-1" strike="noStrike">
                <a:solidFill>
                  <a:srgbClr val="3e3d2d"/>
                </a:solidFill>
                <a:latin typeface="Arial"/>
              </a:rPr>
              <a:t>Menteri Pendayagunaan  Aparatur  Negara dan Reformasi Birokrasi </a:t>
            </a:r>
            <a:br>
              <a:rPr sz="2000"/>
            </a:br>
            <a:br>
              <a:rPr sz="2000"/>
            </a:br>
            <a:r>
              <a:rPr b="0" lang="id-ID" sz="1800" spc="-1" strike="noStrike">
                <a:solidFill>
                  <a:srgbClr val="3e3d2d"/>
                </a:solidFill>
                <a:latin typeface="Arial"/>
              </a:rPr>
              <a:t>tentang</a:t>
            </a:r>
            <a:br>
              <a:rPr sz="1800"/>
            </a:br>
            <a:br>
              <a:rPr sz="1800"/>
            </a:br>
            <a:r>
              <a:rPr b="1" lang="id-ID" sz="2400" spc="-1" strike="noStrike">
                <a:solidFill>
                  <a:srgbClr val="3e3d2d"/>
                </a:solidFill>
                <a:latin typeface="Arial"/>
              </a:rPr>
              <a:t>PERENCANAAN DAN PEMERATAAN TENAGA KESEHATAN DI FASILITAS PELAYANAN KESEHATAN MILIK PEMERINTAH DAERAH</a:t>
            </a:r>
            <a:endParaRPr b="0" lang="en-US" sz="24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09480" y="342900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404040"/>
                </a:solidFill>
                <a:latin typeface="Arial"/>
              </a:rPr>
              <a:t>Ole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404040"/>
                </a:solidFill>
                <a:latin typeface="Arial"/>
              </a:rPr>
              <a:t>Kepala Pusat Perencanaan dan Pendaygunaan SDM Kesehat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404040"/>
                </a:solidFill>
                <a:latin typeface="Arial"/>
              </a:rPr>
              <a:t>Disampaikan pada Workshop Dalam Rangka Fasilitasi Penyusunan/Penerapan Norma, Standar, Prosedur, dan Kriteria (NSPK) Bidang Kesehatan dan Sos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404040"/>
                </a:solidFill>
                <a:latin typeface="Arial"/>
              </a:rPr>
              <a:t>Jakarta, 03 Juni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4206960" y="4648320"/>
            <a:ext cx="7650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28440">
            <a:solidFill>
              <a:srgbClr val="8f5201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Peraturan Bersama Menteri tentang Perencanaan dan Pemerataan Nakes di Fasyankes Milik Pem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BAB I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KETENTUAN UM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BAB II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PERENCANAAN DAN PEMERATAAN TENAG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KESEHAT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BAB III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TUGAS DAN TANGGUNG JAW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BAB IV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PELAPOR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BAB V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PEMBINAAN DAN PENGAWAS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152280" y="76320"/>
          <a:ext cx="8686800" cy="6683400"/>
        </p:xfrm>
        <a:graphic>
          <a:graphicData uri="http://schemas.openxmlformats.org/drawingml/2006/table">
            <a:tbl>
              <a:tblPr/>
              <a:tblGrid>
                <a:gridCol w="457200"/>
                <a:gridCol w="1135080"/>
                <a:gridCol w="7094520"/>
              </a:tblGrid>
              <a:tr h="403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r>
                        <a:rPr b="1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ang Lingk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ang lingkup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aturan Bersama Menteri ini meliputi tugas dan tanggung jawab Menteri Kesehatan, Menteri Dalam Negeri, Menteri PAN-RB, Gubernur, dan Bupati/Walikota dalam upaya </a:t>
                      </a: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enuhi kebutuhan Nakes di Fasyankes milik Pem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5213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gas dan Tanggung Jaw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pati/Walikot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koordinasikan dan memfasilitasi penyusunan Perencanaan Nakes di Fasyankes Kab/K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usun Perencanaan Nakes Tk. Kab/K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akukan Pemerataan Nakes di Fasyankes Kab/K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bernur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koordinasikan dan memfasilitasi penyusunan Perencanaan Nakes di Fasyankes milik Provin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usun Perencanaan Nakes Tk. Provin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akukan Pemerataan Nakes di Fasyankes milik Prov dan antar Kab/K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k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akukan upaya percepatan pemerataan Nak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usun perencaanan nakes nasional berdasarkan perencanaan nakes tk Prov dan Kab/K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usun perencanaan pemerataan nakes tk prov dan kab/kota untuk diusulkan kepada BKN dan Kemenpan dan RB untuk alokasi forma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etapkan kebijakan mekanisme pencatatn dan pelaporan ttg perencanaan dan pemerataan nakes di Fasyankes milik Pem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152280" y="609480"/>
          <a:ext cx="8686800" cy="4884840"/>
        </p:xfrm>
        <a:graphic>
          <a:graphicData uri="http://schemas.openxmlformats.org/drawingml/2006/table">
            <a:tbl>
              <a:tblPr/>
              <a:tblGrid>
                <a:gridCol w="457200"/>
                <a:gridCol w="1135080"/>
                <a:gridCol w="7094520"/>
              </a:tblGrid>
              <a:tr h="403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r>
                        <a:rPr b="1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dagr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dorong gubernur dan/atau bupati/walikota untuk melakuka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arisasi dan penyusunan kebutuhan nakes, sarana dan prasarana di Fasyankes sbg bahan penyusunan perencanaan dan pemerataan nakes d wilayahn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koordinasian dan fasilitasi penyusunan perencanaan dan pemeratan Nak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antauan dan evaluasi pelaksanaan perencanaan dan pemerataan nak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lphaL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dorong gubernur dan/atau bupati/walikota untuk melaporkan hasil Perencanaan dan Pemeataan Nak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PAN dan RB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fasilitasi usulan Perencanaan dan Pemerataa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ikan prioritas alokasi formasi Nakes di Fasyankes Pemda yang kekurangan atas usulan Pemda berdasarkan Perencanaan Nakes di Fasyankes milik Pem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152280" y="457200"/>
          <a:ext cx="8686800" cy="5985000"/>
        </p:xfrm>
        <a:graphic>
          <a:graphicData uri="http://schemas.openxmlformats.org/drawingml/2006/table">
            <a:tbl>
              <a:tblPr/>
              <a:tblGrid>
                <a:gridCol w="533520"/>
                <a:gridCol w="1371600"/>
                <a:gridCol w="6781680"/>
              </a:tblGrid>
              <a:tr h="403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r>
                        <a:rPr b="1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apo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 pelaporan dilakukan secara berjenj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pati/walikota meyampaikan laporan hasil pelaksanaan perencanaan dan pemeratan nakes di wilayahnya kepada Gubern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bernur meyampaikan laporan hasil pelaksanaan perencanaan dan pemeratan nakes tk. provinsi kepada Menkes dengan tembusan kepada Mendagri dan MenPAN dan 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poran memuat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tersediaan jumlah, jenis nakes di fasyankes pem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cana kebutuhan nakes mengacu pada hasil AB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cana pemenuhan nakes melalui redistribu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kes, Mendagri, dan Men PAN &amp; RB membahas laporan Gubernur sekurang-kurangnya 1 (satu) kali dalam setah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binaan dan Pengawasa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lakukan denga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sialisasi kebijakan perencanaan dan pemerata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antauan dan evaluasi pelaksana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lakukan secara berkoordinasi antara Menkes, Mendagri, dan Men PAN dan 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65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ana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BN dan AP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Rectangle 28"/>
          <p:cNvGrpSpPr/>
          <p:nvPr/>
        </p:nvGrpSpPr>
        <p:grpSpPr>
          <a:xfrm>
            <a:off x="2584440" y="2743200"/>
            <a:ext cx="4621320" cy="3292560"/>
            <a:chOff x="2584440" y="2743200"/>
            <a:chExt cx="4621320" cy="3292560"/>
          </a:xfrm>
        </p:grpSpPr>
        <p:pic>
          <p:nvPicPr>
            <p:cNvPr id="254" name="Rectangle 28" descr=""/>
            <p:cNvPicPr/>
            <p:nvPr/>
          </p:nvPicPr>
          <p:blipFill>
            <a:blip r:embed="rId1"/>
            <a:stretch/>
          </p:blipFill>
          <p:spPr>
            <a:xfrm>
              <a:off x="2584440" y="2743200"/>
              <a:ext cx="4621320" cy="329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590920" y="2749680"/>
              <a:ext cx="460836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Box 4"/>
          <p:cNvSpPr/>
          <p:nvPr/>
        </p:nvSpPr>
        <p:spPr>
          <a:xfrm>
            <a:off x="3691080" y="2031840"/>
            <a:ext cx="2209680" cy="642600"/>
          </a:xfrm>
          <a:prstGeom prst="rect">
            <a:avLst/>
          </a:prstGeom>
          <a:solidFill>
            <a:srgbClr val="956b43"/>
          </a:solidFill>
          <a:ln w="26280">
            <a:solidFill>
              <a:srgbClr val="6c4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rial"/>
              </a:rPr>
              <a:t>PERENCANAAN N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25"/>
          <p:cNvGrpSpPr/>
          <p:nvPr/>
        </p:nvGrpSpPr>
        <p:grpSpPr>
          <a:xfrm>
            <a:off x="2770200" y="2871720"/>
            <a:ext cx="4251240" cy="3091320"/>
            <a:chOff x="2770200" y="2871720"/>
            <a:chExt cx="4251240" cy="3091320"/>
          </a:xfrm>
        </p:grpSpPr>
        <p:sp>
          <p:nvSpPr>
            <p:cNvPr id="258" name="TextBox 5"/>
            <p:cNvSpPr/>
            <p:nvPr/>
          </p:nvSpPr>
          <p:spPr>
            <a:xfrm>
              <a:off x="2770200" y="5574960"/>
              <a:ext cx="143172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956b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Puskesm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6"/>
            <p:cNvSpPr/>
            <p:nvPr/>
          </p:nvSpPr>
          <p:spPr>
            <a:xfrm>
              <a:off x="3197880" y="4669200"/>
              <a:ext cx="205740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956b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Pemda Kab/Ko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7"/>
            <p:cNvSpPr/>
            <p:nvPr/>
          </p:nvSpPr>
          <p:spPr>
            <a:xfrm>
              <a:off x="3197880" y="3803760"/>
              <a:ext cx="205740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956b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Pemda Provin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0"/>
            <p:cNvSpPr/>
            <p:nvPr/>
          </p:nvSpPr>
          <p:spPr>
            <a:xfrm>
              <a:off x="4029120" y="2871720"/>
              <a:ext cx="205740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956b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Kemk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12"/>
            <p:cNvSpPr/>
            <p:nvPr/>
          </p:nvSpPr>
          <p:spPr>
            <a:xfrm>
              <a:off x="4366800" y="5594760"/>
              <a:ext cx="154260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956b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RS Kab/Ko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Up Arrow 13"/>
            <p:cNvSpPr/>
            <p:nvPr/>
          </p:nvSpPr>
          <p:spPr>
            <a:xfrm>
              <a:off x="3876840" y="5121720"/>
              <a:ext cx="685800" cy="3801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94c600"/>
            </a:solidFill>
            <a:ln w="1908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Up Arrow 14"/>
            <p:cNvSpPr/>
            <p:nvPr/>
          </p:nvSpPr>
          <p:spPr>
            <a:xfrm>
              <a:off x="4714920" y="4203720"/>
              <a:ext cx="685800" cy="3801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94c600"/>
            </a:solidFill>
            <a:ln w="1908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15"/>
            <p:cNvSpPr/>
            <p:nvPr/>
          </p:nvSpPr>
          <p:spPr>
            <a:xfrm>
              <a:off x="5439600" y="4669200"/>
              <a:ext cx="158184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956b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RS Provin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Up Arrow 16"/>
            <p:cNvSpPr/>
            <p:nvPr/>
          </p:nvSpPr>
          <p:spPr>
            <a:xfrm>
              <a:off x="4726080" y="3328920"/>
              <a:ext cx="685800" cy="3801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94c600"/>
            </a:solidFill>
            <a:ln w="1908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8"/>
            <p:cNvSpPr/>
            <p:nvPr/>
          </p:nvSpPr>
          <p:spPr>
            <a:xfrm>
              <a:off x="5430960" y="3793680"/>
              <a:ext cx="158184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956b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RS Vertik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39"/>
          <p:cNvGrpSpPr/>
          <p:nvPr/>
        </p:nvGrpSpPr>
        <p:grpSpPr>
          <a:xfrm>
            <a:off x="776160" y="2062080"/>
            <a:ext cx="1815120" cy="3012120"/>
            <a:chOff x="776160" y="2062080"/>
            <a:chExt cx="1815120" cy="3012120"/>
          </a:xfrm>
        </p:grpSpPr>
        <p:sp>
          <p:nvSpPr>
            <p:cNvPr id="269" name="TextBox 11"/>
            <p:cNvSpPr/>
            <p:nvPr/>
          </p:nvSpPr>
          <p:spPr>
            <a:xfrm>
              <a:off x="865440" y="2062080"/>
              <a:ext cx="1295640" cy="580680"/>
            </a:xfrm>
            <a:prstGeom prst="rect">
              <a:avLst/>
            </a:prstGeom>
            <a:solidFill>
              <a:srgbClr val="fea022"/>
            </a:solidFill>
            <a:ln w="26280">
              <a:solidFill>
                <a:srgbClr val="bb74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ffffff"/>
                  </a:solidFill>
                  <a:latin typeface="Arial"/>
                </a:rPr>
                <a:t>secara berjenja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0" name="Straight Arrow Connector 21"/>
            <p:cNvCxnSpPr/>
            <p:nvPr/>
          </p:nvCxnSpPr>
          <p:spPr>
            <a:xfrm>
              <a:off x="2137320" y="3056040"/>
              <a:ext cx="443520" cy="1080"/>
            </a:xfrm>
            <a:prstGeom prst="straightConnector1">
              <a:avLst/>
            </a:prstGeom>
            <a:ln w="38160">
              <a:solidFill>
                <a:srgbClr val="94c600"/>
              </a:solidFill>
              <a:miter/>
              <a:tailEnd len="med" type="arrow" w="med"/>
            </a:ln>
          </p:spPr>
        </p:cxnSp>
        <p:sp>
          <p:nvSpPr>
            <p:cNvPr id="271" name="TextBox 22"/>
            <p:cNvSpPr/>
            <p:nvPr/>
          </p:nvSpPr>
          <p:spPr>
            <a:xfrm>
              <a:off x="812160" y="2869200"/>
              <a:ext cx="1348920" cy="337320"/>
            </a:xfrm>
            <a:prstGeom prst="rect">
              <a:avLst/>
            </a:prstGeom>
            <a:solidFill>
              <a:srgbClr val="ffffff"/>
            </a:solidFill>
            <a:ln w="26280">
              <a:solidFill>
                <a:srgbClr val="ff6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000000"/>
                  </a:solidFill>
                  <a:latin typeface="Arial"/>
                </a:rPr>
                <a:t>Tk. Nas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23"/>
            <p:cNvSpPr/>
            <p:nvPr/>
          </p:nvSpPr>
          <p:spPr>
            <a:xfrm>
              <a:off x="794520" y="3865680"/>
              <a:ext cx="1366560" cy="337320"/>
            </a:xfrm>
            <a:prstGeom prst="rect">
              <a:avLst/>
            </a:prstGeom>
            <a:solidFill>
              <a:srgbClr val="ffffff"/>
            </a:solidFill>
            <a:ln w="26280">
              <a:solidFill>
                <a:srgbClr val="ff6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000000"/>
                  </a:solidFill>
                  <a:latin typeface="Arial"/>
                </a:rPr>
                <a:t>Tk. Provin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24"/>
            <p:cNvSpPr/>
            <p:nvPr/>
          </p:nvSpPr>
          <p:spPr>
            <a:xfrm>
              <a:off x="776160" y="4736880"/>
              <a:ext cx="1371960" cy="337320"/>
            </a:xfrm>
            <a:prstGeom prst="rect">
              <a:avLst/>
            </a:prstGeom>
            <a:solidFill>
              <a:srgbClr val="ffffff"/>
            </a:solidFill>
            <a:ln w="26280">
              <a:solidFill>
                <a:srgbClr val="ff6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000000"/>
                  </a:solidFill>
                  <a:latin typeface="Arial"/>
                </a:rPr>
                <a:t>Tk. Kab/Ko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4" name="Straight Arrow Connector 26"/>
            <p:cNvCxnSpPr/>
            <p:nvPr/>
          </p:nvCxnSpPr>
          <p:spPr>
            <a:xfrm>
              <a:off x="2137320" y="4014720"/>
              <a:ext cx="443520" cy="1080"/>
            </a:xfrm>
            <a:prstGeom prst="straightConnector1">
              <a:avLst/>
            </a:prstGeom>
            <a:ln w="38160">
              <a:solidFill>
                <a:srgbClr val="94c600"/>
              </a:solidFill>
              <a:miter/>
              <a:tailEnd len="med" type="arrow" w="med"/>
            </a:ln>
          </p:spPr>
        </p:cxnSp>
        <p:cxnSp>
          <p:nvCxnSpPr>
            <p:cNvPr id="275" name="Straight Arrow Connector 27"/>
            <p:cNvCxnSpPr/>
            <p:nvPr/>
          </p:nvCxnSpPr>
          <p:spPr>
            <a:xfrm>
              <a:off x="2148120" y="4853880"/>
              <a:ext cx="443520" cy="1080"/>
            </a:xfrm>
            <a:prstGeom prst="straightConnector1">
              <a:avLst/>
            </a:prstGeom>
            <a:ln w="38160">
              <a:solidFill>
                <a:srgbClr val="94c600"/>
              </a:solidFill>
              <a:miter/>
              <a:tailEnd len="med" type="arrow" w="med"/>
            </a:ln>
          </p:spPr>
        </p:cxnSp>
      </p:grpSp>
      <p:sp>
        <p:nvSpPr>
          <p:cNvPr id="276" name="TextBox 36"/>
          <p:cNvSpPr/>
          <p:nvPr/>
        </p:nvSpPr>
        <p:spPr>
          <a:xfrm>
            <a:off x="3691080" y="698400"/>
            <a:ext cx="2209680" cy="642600"/>
          </a:xfrm>
          <a:prstGeom prst="rect">
            <a:avLst/>
          </a:prstGeom>
          <a:solidFill>
            <a:srgbClr val="956b43"/>
          </a:solidFill>
          <a:ln w="26280">
            <a:solidFill>
              <a:srgbClr val="6c4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rial"/>
              </a:rPr>
              <a:t>PEMERATAAN N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7"/>
          <p:cNvSpPr/>
          <p:nvPr/>
        </p:nvSpPr>
        <p:spPr>
          <a:xfrm>
            <a:off x="5935680" y="1380960"/>
            <a:ext cx="990720" cy="580680"/>
          </a:xfrm>
          <a:prstGeom prst="rect">
            <a:avLst/>
          </a:prstGeom>
          <a:solidFill>
            <a:srgbClr val="ff6700"/>
          </a:solidFill>
          <a:ln w="26280">
            <a:solidFill>
              <a:srgbClr val="bc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Arial"/>
              </a:rPr>
              <a:t>Dasar acu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Up Arrow 38"/>
          <p:cNvSpPr/>
          <p:nvPr/>
        </p:nvSpPr>
        <p:spPr>
          <a:xfrm>
            <a:off x="4548240" y="1444680"/>
            <a:ext cx="693720" cy="458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6700"/>
          </a:solidFill>
          <a:ln w="26280">
            <a:solidFill>
              <a:srgbClr val="bc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4"/>
          <p:cNvSpPr/>
          <p:nvPr/>
        </p:nvSpPr>
        <p:spPr>
          <a:xfrm>
            <a:off x="412920" y="1009800"/>
            <a:ext cx="2209680" cy="642600"/>
          </a:xfrm>
          <a:prstGeom prst="rect">
            <a:avLst/>
          </a:prstGeom>
          <a:solidFill>
            <a:srgbClr val="956b43"/>
          </a:solidFill>
          <a:ln w="26280">
            <a:solidFill>
              <a:srgbClr val="6c4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rial"/>
              </a:rPr>
              <a:t>PERENCANAAN N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6"/>
          <p:cNvSpPr/>
          <p:nvPr/>
        </p:nvSpPr>
        <p:spPr>
          <a:xfrm>
            <a:off x="3917880" y="971640"/>
            <a:ext cx="2210040" cy="642600"/>
          </a:xfrm>
          <a:prstGeom prst="rect">
            <a:avLst/>
          </a:prstGeom>
          <a:solidFill>
            <a:srgbClr val="956b43"/>
          </a:solidFill>
          <a:ln w="26280">
            <a:solidFill>
              <a:srgbClr val="6c4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rial"/>
              </a:rPr>
              <a:t>PEMERATAAN N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33"/>
          <p:cNvGrpSpPr/>
          <p:nvPr/>
        </p:nvGrpSpPr>
        <p:grpSpPr>
          <a:xfrm>
            <a:off x="1538280" y="252360"/>
            <a:ext cx="2778120" cy="719280"/>
            <a:chOff x="1538280" y="252360"/>
            <a:chExt cx="2778120" cy="719280"/>
          </a:xfrm>
        </p:grpSpPr>
        <p:sp>
          <p:nvSpPr>
            <p:cNvPr id="282" name="Oval 34"/>
            <p:cNvSpPr/>
            <p:nvPr/>
          </p:nvSpPr>
          <p:spPr>
            <a:xfrm>
              <a:off x="1538280" y="252360"/>
              <a:ext cx="2778120" cy="719280"/>
            </a:xfrm>
            <a:prstGeom prst="ellipse">
              <a:avLst/>
            </a:prstGeom>
            <a:solidFill>
              <a:srgbClr val="fea022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35"/>
            <p:cNvSpPr/>
            <p:nvPr/>
          </p:nvSpPr>
          <p:spPr>
            <a:xfrm>
              <a:off x="1753200" y="272880"/>
              <a:ext cx="2404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000000"/>
                  </a:solidFill>
                  <a:latin typeface="Arial"/>
                </a:rPr>
                <a:t>Kelebihan dan Kekurangan Nak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Rectangle 29"/>
          <p:cNvGrpSpPr/>
          <p:nvPr/>
        </p:nvGrpSpPr>
        <p:grpSpPr>
          <a:xfrm>
            <a:off x="987480" y="2852640"/>
            <a:ext cx="2822400" cy="2975040"/>
            <a:chOff x="987480" y="2852640"/>
            <a:chExt cx="2822400" cy="2975040"/>
          </a:xfrm>
        </p:grpSpPr>
        <p:pic>
          <p:nvPicPr>
            <p:cNvPr id="285" name="Rectangle 29" descr=""/>
            <p:cNvPicPr/>
            <p:nvPr/>
          </p:nvPicPr>
          <p:blipFill>
            <a:blip r:embed="rId1"/>
            <a:stretch/>
          </p:blipFill>
          <p:spPr>
            <a:xfrm>
              <a:off x="987480" y="2852640"/>
              <a:ext cx="2822400" cy="29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992160" y="2860560"/>
              <a:ext cx="2813040" cy="29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Right Arrow 32"/>
          <p:cNvSpPr/>
          <p:nvPr/>
        </p:nvSpPr>
        <p:spPr>
          <a:xfrm flipV="1">
            <a:off x="2697120" y="1103400"/>
            <a:ext cx="1106640" cy="457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94c600"/>
          </a:solidFill>
          <a:ln w="2628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Straight Arrow Connector 42"/>
          <p:cNvCxnSpPr/>
          <p:nvPr/>
        </p:nvCxnSpPr>
        <p:spPr>
          <a:xfrm flipH="1">
            <a:off x="3803400" y="1655280"/>
            <a:ext cx="1219680" cy="12121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289" name="Straight Arrow Connector 44"/>
          <p:cNvCxnSpPr/>
          <p:nvPr/>
        </p:nvCxnSpPr>
        <p:spPr>
          <a:xfrm>
            <a:off x="5016600" y="1684080"/>
            <a:ext cx="1271880" cy="11833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290" name="TextBox 31"/>
          <p:cNvSpPr/>
          <p:nvPr/>
        </p:nvSpPr>
        <p:spPr>
          <a:xfrm>
            <a:off x="1197000" y="2900520"/>
            <a:ext cx="2286000" cy="368280"/>
          </a:xfrm>
          <a:prstGeom prst="rect">
            <a:avLst/>
          </a:prstGeom>
          <a:solidFill>
            <a:srgbClr val="ff6700"/>
          </a:solidFill>
          <a:ln w="26280">
            <a:solidFill>
              <a:srgbClr val="bc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rial"/>
              </a:rPr>
              <a:t>Redistribusi N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6"/>
          <p:cNvSpPr/>
          <p:nvPr/>
        </p:nvSpPr>
        <p:spPr>
          <a:xfrm>
            <a:off x="2379600" y="2057400"/>
            <a:ext cx="1596960" cy="520200"/>
          </a:xfrm>
          <a:prstGeom prst="rect">
            <a:avLst/>
          </a:prstGeom>
          <a:solidFill>
            <a:srgbClr val="ffd9a7"/>
          </a:solidFill>
          <a:ln w="26280">
            <a:solidFill>
              <a:srgbClr val="bc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Arial"/>
              </a:rPr>
              <a:t>Kelebihan N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3"/>
          <p:cNvSpPr/>
          <p:nvPr/>
        </p:nvSpPr>
        <p:spPr>
          <a:xfrm>
            <a:off x="6259680" y="2886120"/>
            <a:ext cx="2286000" cy="1191240"/>
          </a:xfrm>
          <a:prstGeom prst="rect">
            <a:avLst/>
          </a:prstGeom>
          <a:solidFill>
            <a:srgbClr val="ff6700"/>
          </a:solidFill>
          <a:ln w="26280">
            <a:solidFill>
              <a:srgbClr val="bc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rial"/>
              </a:rPr>
              <a:t>Distribusi pada daerah kekurangan Nakes di seluruh wilayah 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4313160" y="4227480"/>
            <a:ext cx="1595520" cy="733320"/>
          </a:xfrm>
          <a:prstGeom prst="rect">
            <a:avLst/>
          </a:prstGeom>
          <a:solidFill>
            <a:srgbClr val="ffd9a7"/>
          </a:solidFill>
          <a:ln w="26280">
            <a:solidFill>
              <a:srgbClr val="bc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Arial"/>
              </a:rPr>
              <a:t>Kekuran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Arial"/>
              </a:rPr>
              <a:t>Nakes setelah Redistribu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7"/>
          <p:cNvGrpSpPr/>
          <p:nvPr/>
        </p:nvGrpSpPr>
        <p:grpSpPr>
          <a:xfrm>
            <a:off x="1258920" y="3433680"/>
            <a:ext cx="2168640" cy="652680"/>
            <a:chOff x="1258920" y="3433680"/>
            <a:chExt cx="2168640" cy="652680"/>
          </a:xfrm>
        </p:grpSpPr>
        <p:sp>
          <p:nvSpPr>
            <p:cNvPr id="295" name="Rounded Rectangle 55"/>
            <p:cNvSpPr/>
            <p:nvPr/>
          </p:nvSpPr>
          <p:spPr>
            <a:xfrm>
              <a:off x="1258920" y="3475800"/>
              <a:ext cx="2168640" cy="610560"/>
            </a:xfrm>
            <a:prstGeom prst="roundRect">
              <a:avLst>
                <a:gd name="adj" fmla="val 16667"/>
              </a:avLst>
            </a:prstGeom>
            <a:solidFill>
              <a:srgbClr val="94c600"/>
            </a:solidFill>
            <a:ln w="2628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56"/>
            <p:cNvSpPr/>
            <p:nvPr/>
          </p:nvSpPr>
          <p:spPr>
            <a:xfrm>
              <a:off x="1276920" y="3433680"/>
              <a:ext cx="20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Antar Fasyankes di Tk. Kab/Ko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59"/>
          <p:cNvGrpSpPr/>
          <p:nvPr/>
        </p:nvGrpSpPr>
        <p:grpSpPr>
          <a:xfrm>
            <a:off x="1263600" y="4227480"/>
            <a:ext cx="2170080" cy="652320"/>
            <a:chOff x="1263600" y="4227480"/>
            <a:chExt cx="2170080" cy="652320"/>
          </a:xfrm>
        </p:grpSpPr>
        <p:sp>
          <p:nvSpPr>
            <p:cNvPr id="298" name="Rounded Rectangle 60"/>
            <p:cNvSpPr/>
            <p:nvPr/>
          </p:nvSpPr>
          <p:spPr>
            <a:xfrm>
              <a:off x="1263600" y="4269240"/>
              <a:ext cx="2170080" cy="610560"/>
            </a:xfrm>
            <a:prstGeom prst="roundRect">
              <a:avLst>
                <a:gd name="adj" fmla="val 16667"/>
              </a:avLst>
            </a:prstGeom>
            <a:solidFill>
              <a:srgbClr val="94c600"/>
            </a:solidFill>
            <a:ln w="2628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61"/>
            <p:cNvSpPr/>
            <p:nvPr/>
          </p:nvSpPr>
          <p:spPr>
            <a:xfrm>
              <a:off x="1281600" y="4227480"/>
              <a:ext cx="201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Antar Kab/Kota di Tk. Provin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62"/>
          <p:cNvGrpSpPr/>
          <p:nvPr/>
        </p:nvGrpSpPr>
        <p:grpSpPr>
          <a:xfrm>
            <a:off x="1292400" y="4965840"/>
            <a:ext cx="2170080" cy="652320"/>
            <a:chOff x="1292400" y="4965840"/>
            <a:chExt cx="2170080" cy="652320"/>
          </a:xfrm>
        </p:grpSpPr>
        <p:sp>
          <p:nvSpPr>
            <p:cNvPr id="301" name="Rounded Rectangle 63"/>
            <p:cNvSpPr/>
            <p:nvPr/>
          </p:nvSpPr>
          <p:spPr>
            <a:xfrm>
              <a:off x="1292400" y="5007600"/>
              <a:ext cx="2170080" cy="610560"/>
            </a:xfrm>
            <a:prstGeom prst="roundRect">
              <a:avLst>
                <a:gd name="adj" fmla="val 16667"/>
              </a:avLst>
            </a:prstGeom>
            <a:solidFill>
              <a:srgbClr val="94c600"/>
            </a:solidFill>
            <a:ln w="2628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64"/>
            <p:cNvSpPr/>
            <p:nvPr/>
          </p:nvSpPr>
          <p:spPr>
            <a:xfrm>
              <a:off x="1310400" y="4965840"/>
              <a:ext cx="201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Antar Provinsi di Tk. Nas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Box 65"/>
          <p:cNvSpPr/>
          <p:nvPr/>
        </p:nvSpPr>
        <p:spPr>
          <a:xfrm>
            <a:off x="6288120" y="2000160"/>
            <a:ext cx="1595520" cy="520200"/>
          </a:xfrm>
          <a:prstGeom prst="rect">
            <a:avLst/>
          </a:prstGeom>
          <a:solidFill>
            <a:srgbClr val="ffd9a7"/>
          </a:solidFill>
          <a:ln w="26280">
            <a:solidFill>
              <a:srgbClr val="bc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Arial"/>
              </a:rPr>
              <a:t>Kekuran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Arial"/>
              </a:rPr>
              <a:t>N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Straight Arrow Connector 68"/>
          <p:cNvCxnSpPr/>
          <p:nvPr/>
        </p:nvCxnSpPr>
        <p:spPr>
          <a:xfrm>
            <a:off x="3939840" y="3580920"/>
            <a:ext cx="2167560" cy="108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05" name="Left Brace 79"/>
          <p:cNvSpPr/>
          <p:nvPr/>
        </p:nvSpPr>
        <p:spPr>
          <a:xfrm rot="16200000">
            <a:off x="4722840" y="3201840"/>
            <a:ext cx="495360" cy="5826240"/>
          </a:xfrm>
          <a:custGeom>
            <a:avLst/>
            <a:gdLst>
              <a:gd name="textAreaLeft" fmla="*/ 316440 w 495360"/>
              <a:gd name="textAreaRight" fmla="*/ 495720 w 495360"/>
              <a:gd name="textAreaTop" fmla="*/ 12600 h 5826240"/>
              <a:gd name="textAreaBottom" fmla="*/ 5813640 h 582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"/>
                  <a:pt x="10800" y="153"/>
                </a:cubicBezTo>
                <a:lnTo>
                  <a:pt x="10800" y="10647"/>
                </a:lnTo>
                <a:cubicBezTo>
                  <a:pt x="10800" y="10724"/>
                  <a:pt x="5400" y="10800"/>
                  <a:pt x="0" y="10800"/>
                </a:cubicBezTo>
                <a:cubicBezTo>
                  <a:pt x="5400" y="10800"/>
                  <a:pt x="10800" y="10877"/>
                  <a:pt x="10800" y="10953"/>
                </a:cubicBezTo>
                <a:lnTo>
                  <a:pt x="10800" y="21447"/>
                </a:lnTo>
                <a:cubicBezTo>
                  <a:pt x="10800" y="2152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09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TextBox 80"/>
          <p:cNvGrpSpPr/>
          <p:nvPr/>
        </p:nvGrpSpPr>
        <p:grpSpPr>
          <a:xfrm>
            <a:off x="1023840" y="6315120"/>
            <a:ext cx="7632720" cy="384120"/>
            <a:chOff x="1023840" y="6315120"/>
            <a:chExt cx="7632720" cy="384120"/>
          </a:xfrm>
        </p:grpSpPr>
        <p:pic>
          <p:nvPicPr>
            <p:cNvPr id="307" name="TextBox 80" descr=""/>
            <p:cNvPicPr/>
            <p:nvPr/>
          </p:nvPicPr>
          <p:blipFill>
            <a:blip r:embed="rId2"/>
            <a:stretch/>
          </p:blipFill>
          <p:spPr>
            <a:xfrm>
              <a:off x="1023840" y="6315120"/>
              <a:ext cx="76327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027080" y="6321600"/>
              <a:ext cx="76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800" spc="-1" strike="noStrike">
                  <a:solidFill>
                    <a:srgbClr val="000000"/>
                  </a:solidFill>
                  <a:latin typeface="Arial"/>
                </a:rPr>
                <a:t>Mempertimbangkan kesiapan sarana dan prasarana Fasyank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266560"/>
            <a:ext cx="31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a6300"/>
                </a:solidFill>
                <a:latin typeface="Rockwell Extra Bold"/>
              </a:rPr>
              <a:t>TERIMA   </a:t>
            </a:r>
            <a:br>
              <a:rPr sz="3600"/>
            </a:br>
            <a:r>
              <a:rPr b="1" lang="en-US" sz="3600" spc="-1" strike="noStrike">
                <a:solidFill>
                  <a:srgbClr val="4a6300"/>
                </a:solidFill>
                <a:latin typeface="Rockwell Extra Bold"/>
              </a:rPr>
              <a:t>KASIH</a:t>
            </a:r>
            <a:endParaRPr b="0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pic>
        <p:nvPicPr>
          <p:cNvPr id="310" name="Picture 2" descr="F:\BlackBerry\pictures\IMG01329-20131108-1220.jpg"/>
          <p:cNvPicPr/>
          <p:nvPr/>
        </p:nvPicPr>
        <p:blipFill>
          <a:blip r:embed="rId1"/>
          <a:stretch/>
        </p:blipFill>
        <p:spPr>
          <a:xfrm>
            <a:off x="4670280" y="582480"/>
            <a:ext cx="424044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solidFill>
            <a:srgbClr val="fec67a"/>
          </a:solidFill>
          <a:ln w="28440">
            <a:solidFill>
              <a:srgbClr val="8f520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3e3d2d"/>
                </a:solidFill>
                <a:latin typeface="Arial"/>
              </a:rPr>
              <a:t>Sistematika Penyajian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28440">
            <a:solidFill>
              <a:srgbClr val="8f5201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Pendahul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Keadaan dan Kekurangan Tenaga Kesehatan (Nakes) di Fasilitas Pelayanan Kesehatan (Fasyankes) Milik Pemerintah Daerah (Pem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Latar Belakang Penyusunan PBM tentang Perencanaan dan Pemerataan Nakes di Fasyankes Milik Pem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Ringkasan Isi P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0520" y="1294920"/>
            <a:ext cx="8458200" cy="4876920"/>
          </a:xfrm>
          <a:prstGeom prst="rect">
            <a:avLst/>
          </a:prstGeom>
          <a:noFill/>
          <a:ln w="28440">
            <a:solidFill>
              <a:srgbClr val="8f5201"/>
            </a:solidFill>
            <a:miter/>
          </a:ln>
        </p:spPr>
        <p:txBody>
          <a:bodyPr anchor="t">
            <a:normAutofit fontScale="98000"/>
          </a:bodyPr>
          <a:p>
            <a:pPr marL="354240" indent="-354240" algn="just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Pada Januari 2014 telah dilaksanakan program Jaminan Kesehatan Nasional (JKN) yang harus didukung ketersediaan akses pelayanan kesehatan di seluruh Provinsi dan Kabupaten/Ko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Peningkatan akses pelayanan kesehatan di daerah dipengaruhi oleh pemerataan jumlah, jenis, dan mutu Na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Pada era desentralisasi, urusan kesehatan merupakan salah satu kewenangan yang dilimpahkan kepada Pem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Saat ini ketersediaan dan persebaran Nakes pada Fasyankes milik Pemda belum merata, untuk itu diperlukan upaya 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perencanaan dan pemerataan tenaga kesehatan pada fasilitas pelayanan kesehatan milik pemerintah daerah</a:t>
            </a: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ontent Placeholder 2"/>
          <p:cNvSpPr/>
          <p:nvPr/>
        </p:nvSpPr>
        <p:spPr>
          <a:xfrm>
            <a:off x="1523880" y="380880"/>
            <a:ext cx="7315200" cy="762120"/>
          </a:xfrm>
          <a:prstGeom prst="rect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ffffff"/>
                </a:solidFill>
                <a:latin typeface="Arial"/>
              </a:rPr>
              <a:t>PENDAHULU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ontent Placeholder 2"/>
          <p:cNvSpPr/>
          <p:nvPr/>
        </p:nvSpPr>
        <p:spPr>
          <a:xfrm>
            <a:off x="380880" y="380880"/>
            <a:ext cx="984240" cy="762120"/>
          </a:xfrm>
          <a:prstGeom prst="rect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Content Placeholder 2"/>
          <p:cNvSpPr/>
          <p:nvPr/>
        </p:nvSpPr>
        <p:spPr>
          <a:xfrm>
            <a:off x="1523880" y="2438280"/>
            <a:ext cx="7315200" cy="1300320"/>
          </a:xfrm>
          <a:prstGeom prst="rect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ffff"/>
                </a:solidFill>
                <a:latin typeface="Arial"/>
              </a:rPr>
              <a:t>Keadaan dan Kekurangan Nakes di Fasyankes Milik Pem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ontent Placeholder 2"/>
          <p:cNvSpPr/>
          <p:nvPr/>
        </p:nvSpPr>
        <p:spPr>
          <a:xfrm>
            <a:off x="380880" y="2438280"/>
            <a:ext cx="984240" cy="1300320"/>
          </a:xfrm>
          <a:prstGeom prst="rect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395280" y="1268280"/>
          <a:ext cx="8424720" cy="4680000"/>
        </p:xfrm>
        <a:graphic>
          <a:graphicData uri="http://schemas.openxmlformats.org/drawingml/2006/table">
            <a:tbl>
              <a:tblPr/>
              <a:tblGrid>
                <a:gridCol w="739800"/>
                <a:gridCol w="3029040"/>
                <a:gridCol w="1477800"/>
                <a:gridCol w="1552680"/>
                <a:gridCol w="1625400"/>
              </a:tblGrid>
              <a:tr h="33516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6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s Tenaga Kese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 Puskes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ada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kura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ter U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ter Gi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aw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.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6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awat Gi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9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sten Apote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 Farmasi &amp; Apote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sehatan Masyarak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9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itar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aga Gi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 Kese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201240"/>
            <a:ext cx="8458200" cy="1189080"/>
          </a:xfrm>
          <a:prstGeom prst="rect">
            <a:avLst/>
          </a:prstGeom>
          <a:solidFill>
            <a:srgbClr val="dff7ae"/>
          </a:solidFill>
          <a:ln w="26280">
            <a:solidFill>
              <a:srgbClr val="6b91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6300"/>
                </a:solidFill>
                <a:latin typeface="Arial"/>
              </a:rPr>
              <a:t>Ke</a:t>
            </a: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4a6300"/>
                </a:solidFill>
                <a:latin typeface="Arial"/>
              </a:rPr>
              <a:t>daan </a:t>
            </a: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4a6300"/>
                </a:solidFill>
                <a:latin typeface="Arial"/>
              </a:rPr>
              <a:t>an Kekurangan </a:t>
            </a: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Tenaga</a:t>
            </a:r>
            <a:r>
              <a:rPr b="1" lang="en-US" sz="2400" spc="-1" strike="noStrike">
                <a:solidFill>
                  <a:srgbClr val="4a6300"/>
                </a:solidFill>
                <a:latin typeface="Arial"/>
              </a:rPr>
              <a:t> Kesehatan </a:t>
            </a: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4a6300"/>
                </a:solidFill>
                <a:latin typeface="Arial"/>
              </a:rPr>
              <a:t>i Puskesmas</a:t>
            </a: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4a6300"/>
                </a:solidFill>
                <a:latin typeface="Arial"/>
              </a:rPr>
              <a:t>Tahun 201</a:t>
            </a: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380880" y="60199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200" spc="-1" strike="noStrike">
                <a:solidFill>
                  <a:srgbClr val="000000"/>
                </a:solidFill>
                <a:latin typeface="Arial"/>
              </a:rPr>
              <a:t>S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200" spc="-1" strike="noStrike">
                <a:solidFill>
                  <a:srgbClr val="000000"/>
                </a:solidFill>
                <a:latin typeface="Arial"/>
              </a:rPr>
              <a:t>Data Keadaan Tenaga Kesehatan: Sekretariat BPPSDMK per Januari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200" spc="-1" strike="noStrike">
                <a:solidFill>
                  <a:srgbClr val="000000"/>
                </a:solidFill>
                <a:latin typeface="Arial"/>
              </a:rPr>
              <a:t>Standar Tenaga: sesuai dengan pola minimal ketenagaan untuk puskesmas perawatan dan non perawa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482760" y="1447920"/>
          <a:ext cx="8204040" cy="4491000"/>
        </p:xfrm>
        <a:graphic>
          <a:graphicData uri="http://schemas.openxmlformats.org/drawingml/2006/table">
            <a:tbl>
              <a:tblPr/>
              <a:tblGrid>
                <a:gridCol w="666720"/>
                <a:gridCol w="3727440"/>
                <a:gridCol w="1828800"/>
                <a:gridCol w="1981080"/>
              </a:tblGrid>
              <a:tr h="68112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efffc1"/>
                      </a:solidFill>
                    </a:lnL>
                    <a:lnR w="5760">
                      <a:solidFill>
                        <a:srgbClr val="efffc1"/>
                      </a:solidFill>
                    </a:lnR>
                    <a:lnT w="5760">
                      <a:solidFill>
                        <a:srgbClr val="efffc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6300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nis Tenaga Kese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efffc1"/>
                      </a:solidFill>
                    </a:lnL>
                    <a:lnR w="5760">
                      <a:solidFill>
                        <a:srgbClr val="efffc1"/>
                      </a:solidFill>
                    </a:lnR>
                    <a:lnT w="5760">
                      <a:solidFill>
                        <a:srgbClr val="efffc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6300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mlah Puskesmas Yang Tidak Ada Tenaga Kesehat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efffc1"/>
                      </a:solidFill>
                    </a:lnL>
                    <a:lnR w="5760">
                      <a:solidFill>
                        <a:srgbClr val="efffc1"/>
                      </a:solidFill>
                    </a:lnR>
                    <a:lnT w="5760">
                      <a:solidFill>
                        <a:srgbClr val="efffc1"/>
                      </a:solidFill>
                    </a:lnT>
                    <a:lnB w="5760">
                      <a:solidFill>
                        <a:srgbClr val="efffc1"/>
                      </a:solidFill>
                    </a:lnB>
                    <a:solidFill>
                      <a:srgbClr val="4a6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ml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efffc1"/>
                      </a:solidFill>
                    </a:lnL>
                    <a:lnR w="5760">
                      <a:solidFill>
                        <a:srgbClr val="efffc1"/>
                      </a:solidFill>
                    </a:lnR>
                    <a:lnT w="5760">
                      <a:solidFill>
                        <a:srgbClr val="efffc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63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efffc1"/>
                      </a:solidFill>
                    </a:lnL>
                    <a:lnR w="5760">
                      <a:solidFill>
                        <a:srgbClr val="efffc1"/>
                      </a:solidFill>
                    </a:lnR>
                    <a:lnT w="5760">
                      <a:solidFill>
                        <a:srgbClr val="efffc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6300"/>
                    </a:solidFill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 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ter U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ter Gi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21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9%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 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aw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  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awat Gi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sten Apote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rjana Farmasi/ Apote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aga Kesehatan Masyarak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itari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 Kese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itle 4"/>
          <p:cNvSpPr/>
          <p:nvPr/>
        </p:nvSpPr>
        <p:spPr>
          <a:xfrm>
            <a:off x="457200" y="459360"/>
            <a:ext cx="8310600" cy="825480"/>
          </a:xfrm>
          <a:prstGeom prst="rect">
            <a:avLst/>
          </a:prstGeom>
          <a:solidFill>
            <a:srgbClr val="dff7ae"/>
          </a:solidFill>
          <a:ln w="2628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Jumlah Puskesmas Yang Tidak  Ada Tenaga Kesehatan</a:t>
            </a:r>
            <a:br>
              <a:rPr sz="2400"/>
            </a:b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sd 1 Januari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457200" y="1905120"/>
          <a:ext cx="8215200" cy="3882960"/>
        </p:xfrm>
        <a:graphic>
          <a:graphicData uri="http://schemas.openxmlformats.org/drawingml/2006/table">
            <a:tbl>
              <a:tblPr/>
              <a:tblGrid>
                <a:gridCol w="652320"/>
                <a:gridCol w="2743200"/>
                <a:gridCol w="1528920"/>
                <a:gridCol w="1506600"/>
                <a:gridCol w="1784160"/>
              </a:tblGrid>
              <a:tr h="2840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6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s Tenaga Kese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 Rumah Sak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ada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kura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ter 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5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Umum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Gigi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. Gigi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awat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.08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6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an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31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2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teker 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kf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6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9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zi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itarian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smas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8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3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 Kesehatan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2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30160"/>
          </a:xfrm>
          <a:prstGeom prst="rect">
            <a:avLst/>
          </a:prstGeom>
          <a:solidFill>
            <a:srgbClr val="dff7ae"/>
          </a:solidFill>
          <a:ln w="26280">
            <a:solidFill>
              <a:srgbClr val="6b91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Keadaan Dan Kekurangan Tenaga Kesehatan </a:t>
            </a:r>
            <a:br>
              <a:rPr sz="2400"/>
            </a:b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di Rumah Sakit Pemerintah  Tahun 2014</a:t>
            </a:r>
            <a:endParaRPr b="0" lang="en-US" sz="2400" spc="-1" strike="noStrike">
              <a:solidFill>
                <a:srgbClr val="3e3d2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2280" y="1487520"/>
            <a:ext cx="8839440" cy="4968720"/>
          </a:xfrm>
          <a:prstGeom prst="rect">
            <a:avLst/>
          </a:prstGeom>
          <a:noFill/>
          <a:ln w="28440">
            <a:solidFill>
              <a:srgbClr val="8f5201"/>
            </a:solidFill>
            <a:miter/>
          </a:ln>
        </p:spPr>
        <p:txBody>
          <a:bodyPr anchor="t">
            <a:normAutofit fontScale="98000"/>
          </a:bodyPr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asar penyusunan PBM tentang Perencanaan dan Pemerataan Nakes di Fasyankes Milik Pemd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SE MenPAN &amp; RB no. 6 tahun 2012 tentang Redistribusi dan Peningkatan Kualitas PNS Bidang Pelayanan Das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Rekomendasi Rakor  Tingkat Menteri yang dipimpin oleh Menkokesra tanggal 15 Juli 2013, yaitu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buClr>
                <a:srgbClr val="000000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Penyusunan formasi &amp; analisis kebutuhan nak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buClr>
                <a:srgbClr val="000000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Revitalisasi keputusan bersama tentang pengembangan nakes dengan mengikutsertakan Kemdagri, KemenPAN&amp;RB, Kemkes, Kemdikbud dan Kemke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buClr>
                <a:srgbClr val="000000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Membentuk tim kecil lintas sektor untuk tindak lanju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d-ID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asil rapat antar K/L di Kementerian PAN &amp; RB  tentang rencana aksi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quick win</a:t>
            </a:r>
            <a:r>
              <a:rPr b="0" i="1" lang="id-ID" sz="1700" spc="-1" strike="noStrike">
                <a:solidFill>
                  <a:srgbClr val="000000"/>
                </a:solidFill>
                <a:latin typeface="Arial"/>
              </a:rPr>
              <a:t>s. </a:t>
            </a: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Indikator untuk Kemenk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46960" algn="just">
              <a:spcBef>
                <a:spcPts val="425"/>
              </a:spcBef>
              <a:buClr>
                <a:srgbClr val="000000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stem informasi tempat tidur </a:t>
            </a: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 RS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onli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46960" algn="just">
              <a:spcBef>
                <a:spcPts val="425"/>
              </a:spcBef>
              <a:buClr>
                <a:srgbClr val="000000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layanan di RS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46960" algn="just">
              <a:spcBef>
                <a:spcPts val="425"/>
              </a:spcBef>
              <a:buClr>
                <a:srgbClr val="000000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0000"/>
                </a:solidFill>
                <a:latin typeface="Arial"/>
              </a:rPr>
              <a:t>PBM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pemerataan nakes di </a:t>
            </a:r>
            <a:r>
              <a:rPr b="1" lang="id-ID" sz="1700" spc="-1" strike="noStrike">
                <a:solidFill>
                  <a:srgbClr val="000000"/>
                </a:solidFill>
                <a:latin typeface="Arial"/>
              </a:rPr>
              <a:t>layanan das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  SE Mendagri no 440/8135/2013 tentang Optimalisasi JKN termasuk didalamnya adalah distribusi &amp; redistribus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tenaga kesehat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Content Placeholder 2"/>
          <p:cNvSpPr/>
          <p:nvPr/>
        </p:nvSpPr>
        <p:spPr>
          <a:xfrm>
            <a:off x="1219320" y="457200"/>
            <a:ext cx="7772400" cy="762120"/>
          </a:xfrm>
          <a:prstGeom prst="rect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ffff"/>
                </a:solidFill>
                <a:latin typeface="Arial"/>
              </a:rPr>
              <a:t>Latar Belakang Penyusunan PB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Content Placeholder 2"/>
          <p:cNvSpPr/>
          <p:nvPr/>
        </p:nvSpPr>
        <p:spPr>
          <a:xfrm>
            <a:off x="152280" y="457200"/>
            <a:ext cx="984240" cy="762120"/>
          </a:xfrm>
          <a:prstGeom prst="rect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28440">
            <a:solidFill>
              <a:srgbClr val="8f5201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MUATAN MATERI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6f95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Mengatur peran 3 (tiga) kementerian (Kemenkes, Kemendagri, dan Kemen PAN &amp; RB) dalam upaya 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perencanaan dan pemerataan Nakes di Fasyankes milik Pemda</a:t>
            </a: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6f95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6f95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Meningkatkan peran gubernur dalam melakukan pemerataan Nakes melalui distribusi/redistribusi antar kabupaten di wilayah kerjany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6f95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6f95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Menegaskan peran bupati/walikota dalam  melakukan pemerataan tenaga kesehatan melalui distribusi/redistribusi di wilayah kerjanya serta peningkatan kesejahteraan serta keamanan Nakes di Fasyankes milik Pem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ontent Placeholder 2"/>
          <p:cNvSpPr/>
          <p:nvPr/>
        </p:nvSpPr>
        <p:spPr>
          <a:xfrm>
            <a:off x="1219320" y="457200"/>
            <a:ext cx="7772400" cy="762120"/>
          </a:xfrm>
          <a:prstGeom prst="rect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ffff"/>
                </a:solidFill>
                <a:latin typeface="Arial"/>
              </a:rPr>
              <a:t>Ringkasan Isi PB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Content Placeholder 2"/>
          <p:cNvSpPr/>
          <p:nvPr/>
        </p:nvSpPr>
        <p:spPr>
          <a:xfrm>
            <a:off x="152280" y="457200"/>
            <a:ext cx="984240" cy="762120"/>
          </a:xfrm>
          <a:prstGeom prst="rect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31T04:55:19Z</dcterms:created>
  <dc:creator>user</dc:creator>
  <dc:description/>
  <dc:language>en-US</dc:language>
  <cp:lastModifiedBy>user</cp:lastModifiedBy>
  <cp:lastPrinted>2014-06-02T08:56:14Z</cp:lastPrinted>
  <dcterms:modified xsi:type="dcterms:W3CDTF">2014-06-02T08:56:19Z</dcterms:modified>
  <cp:revision>116</cp:revision>
  <dc:subject/>
  <dc:title>Peraturan Bersama  Menteri Kesehatan, Menteri Pendayagunaan  Aparatur  Negara dan Reformasi Birokrasi dan Menteri Dalam Negeri  tentang Perencanaan dan Pemerataan Tenaga Kesehatan di Fasilitas Pelayanan Kesehatan Milik Pemerintah Daerah</dc:title>
</cp:coreProperties>
</file>