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5EC-C86F-4041-A087-436737EA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56F-3726-44D3-A6F8-09BA1A62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B46-CCA0-4D08-B057-8DDAC96B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5B4-8C37-466C-B14B-008649C9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7DD-40C1-485F-9AD7-44893103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0EF-D36A-47A1-871F-8783716B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2F8-AB0D-4F54-A59F-A71BB969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825-F03C-454A-94F8-084A68FF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31E-C829-41E0-B2CA-B772D4E1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33C-FAC1-40BD-A7C7-84801F37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9C8-DDF1-4AEF-ABE2-86D70F68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6A6-6E24-4F1C-873B-B1AF2EC7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DB92-BF4C-4D87-8A7A-BE6E74211283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Kapusren-Gun (Pak Achmad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110924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Survey dan Advokasi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BUKD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2PL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Gizi KIA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BPPSDMK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......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Pelatihan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Pusdiklat Aparatur (Ibu dedeh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3188701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Pak Gatot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78861552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Rekrutmen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Pusren-Gun SDMK (Ibu Purwani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58832123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Ropeg (Pak M. Nur Nasirudin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5108003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Ibu Oliv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579100117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Regulasi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Bagian Hukor SetBan (Pak Nugroho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2976776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Ibu Nindy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8715968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Anggaran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Pusren-Gun (Ibu Emilia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3677258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Ibu Yurdhina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9596398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im Konsep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CP : Pusdiklan Nakes dan (Pak Asep Fitri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5605676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I SetBan (Pak Asep Z Mustofa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3826070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usren-Gun (Ibu Nurbudiastuti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5881954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N (Ibu Nindy) </a:t>
            </a:r>
            <a:r>
              <a:rPr b="0" lang="id-ID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 08128715968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04:21:46Z</dcterms:created>
  <dc:creator>Made</dc:creator>
  <dc:description/>
  <dc:language>en-US</dc:language>
  <cp:lastModifiedBy>Made</cp:lastModifiedBy>
  <dcterms:modified xsi:type="dcterms:W3CDTF">2015-01-02T04:48:44Z</dcterms:modified>
  <cp:revision>3</cp:revision>
  <dc:subject/>
  <dc:title>Slide 1</dc:title>
</cp:coreProperties>
</file>