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999-3100-4B10-ABEB-1378D00B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711-0DE8-44DA-8B0F-31583B1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E07-7079-4FAD-9C63-4DF52B97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6C6-1F4F-44D6-9A4A-1914D2DF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82F-2146-4E98-B178-54A39D3F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DB7-C45D-4248-A4D0-2048E89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C0C-BAE2-4E4E-9773-77AD1E16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82E-153E-4A1C-BE95-3B9D85F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783-201C-4985-B07F-6E40C64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FAC-C7E0-45FC-91F7-DE805F0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D8D-2095-4CCA-BAB5-C75B68F4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868-D204-4DF2-A560-CD4D866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752-7CA5-447C-866F-707EC7C13949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apusren-Gun (Pak Achmad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11092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Survey dan Advokasi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BUKD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2PL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Gizi KIA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BPPSDMK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Pelatiha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diklat Aparatur (Ibu dedeh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188701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Pak Gatot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78861552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Rekrutme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ren-Gun SDMK (Ibu Purwan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58832123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opeg (Pak M. Nur Nasirudin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108003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Oliv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57910011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Regulasi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Bagian Hukor SetBan (Pak Nugroho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2976776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Nindy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8715968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Anggara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ren-Gun (Ibu Emili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677258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Yurdhin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9596398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Konsep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diklan Nakes dan (Pak Asep Fitr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605676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I SetBan (Pak Asep Z Mustof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826070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usren-Gun (Ibu Nurbudiastut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881954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Nindy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8715968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04:21:46Z</dcterms:created>
  <dc:creator>Made</dc:creator>
  <dc:description/>
  <dc:language>en-US</dc:language>
  <cp:lastModifiedBy>Made</cp:lastModifiedBy>
  <dcterms:modified xsi:type="dcterms:W3CDTF">2015-01-02T04:48:44Z</dcterms:modified>
  <cp:revision>3</cp:revision>
  <dc:subject/>
  <dc:title>Slide 1</dc:title>
</cp:coreProperties>
</file>