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0ADE-25D0-48B1-BCC1-AB105FCB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F91D-C3AB-49B8-946F-A5F3F26A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A1FC-0FC9-44F9-896B-C5F513C9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5CF7-9CE4-444F-9B01-4F3250F3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D679-C673-45BF-8045-14FCE63C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D6A1-AC03-43BD-9BDB-BC9180A5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1C47-70C3-4347-8873-18DDCCCF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ACBF-1334-44D9-8D85-8D497301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3D9B-360E-4C67-AA95-48CA6578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DAE9-E46F-4E12-971B-2295CDA9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A4D6-39F7-428C-8360-4171DAEB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1273-4468-4664-B84F-D4449EE1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BD69-6231-469E-A807-58F6FEC83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Arial"/>
              </a:rPr>
              <a:t>PELATIHAN TIM NUSANTARA SE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PUSDIKLAT APARA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Rectangle 3"/>
          <p:cNvGraphicFramePr/>
          <p:nvPr/>
        </p:nvGraphicFramePr>
        <p:xfrm>
          <a:off x="252360" y="-461880"/>
          <a:ext cx="8434440" cy="720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-461880"/>
                    <a:ext cx="8434440" cy="720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KANISME PELATIH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AM BA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HUSUS MATERI TEKNIS MED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 FASILITATOR DARI FKUI DAPAT MELATIH SEBANYAK 50 ORANG UNTUK SETIAP ANGKATAN NY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UK MATERI INI YANG MENDAPATKAN HANYA TENAGA KESEHATAN DOKTER, PERAWAT, BIDAN, GIZI DAN KESMAS (5 JEN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HINGGA DIBU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I 480 ORANG SASARAN SETIAP KELAS/ANGKATANNYA 40 ORG SEHINGGA ADA 12 ANGKATAN JADI SETIAP NAKES DALAM 1 KELAS MASING-MASING 5 OR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RENA TIM PELATIH FKUI HANYA MAMPU MELATIH 50 ORANG MAKA UNTUK SETIAP BACTH AKAN DILATIH SEBANYAK 10 TIM X 8 ORANG = 80 ORA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INCIAN UNTUK SETIAP KELAS/ANGKATANNY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600" cy="5735520"/>
        </p:xfrm>
        <a:graphic>
          <a:graphicData uri="http://schemas.openxmlformats.org/drawingml/2006/table">
            <a:tbl>
              <a:tblPr/>
              <a:tblGrid>
                <a:gridCol w="2517840"/>
                <a:gridCol w="1677960"/>
                <a:gridCol w="4033800"/>
              </a:tblGrid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JENIS NAK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JUML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DO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 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PERAW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 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5 ORG X 2 AKT = 50 ORG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BID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 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GI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 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S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 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SANITAR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 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FARMA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 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NALIS KESEH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 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0 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0" name="AutoShape 107"/>
          <p:cNvSpPr/>
          <p:nvPr/>
        </p:nvSpPr>
        <p:spPr>
          <a:xfrm>
            <a:off x="4716360" y="2421000"/>
            <a:ext cx="503280" cy="1871640"/>
          </a:xfrm>
          <a:custGeom>
            <a:avLst/>
            <a:gdLst>
              <a:gd name="textAreaLeft" fmla="*/ 0 w 503280"/>
              <a:gd name="textAreaRight" fmla="*/ 181800 w 503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UR PELATIH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52360" y="19908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HAP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77840" y="2438280"/>
            <a:ext cx="1801800" cy="2438280"/>
          </a:xfrm>
          <a:prstGeom prst="rect">
            <a:avLst/>
          </a:prstGeom>
          <a:solidFill>
            <a:srgbClr val="7db6e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i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MBUKA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BIJAK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AM BUI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GENALAN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ELAH ISHOMA SIANG PESERTA PERGI KE MAGEL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4632480" y="199080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HAP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498920" y="2354400"/>
            <a:ext cx="1944720" cy="3290760"/>
          </a:xfrm>
          <a:prstGeom prst="rect">
            <a:avLst/>
          </a:prstGeom>
          <a:solidFill>
            <a:srgbClr val="7db6e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ggu ke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4760" indent="-104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PEMIMPIN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4760" indent="-104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OKASI DAN KEMITRA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4760" indent="-104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MBERDAYAAN MASYARAK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4760" indent="-104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JEMEN PUSKES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4760" indent="-104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4760" indent="-10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UTUPAN BAGI NAKES SANITARIAN, ANALIS DAN FARMA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6948360" y="180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HAP I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6948360" y="2394000"/>
            <a:ext cx="1800360" cy="2012040"/>
          </a:xfrm>
          <a:prstGeom prst="rect">
            <a:avLst/>
          </a:prstGeom>
          <a:solidFill>
            <a:srgbClr val="7db6e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GGU KE III DAN 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KNIS MEDIS KOMUNITAS BAGI DOKTER, PERAWAT, BIDAN, GIZI, DAN S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UTU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340000" y="2470320"/>
            <a:ext cx="1801800" cy="2012040"/>
          </a:xfrm>
          <a:prstGeom prst="rect">
            <a:avLst/>
          </a:prstGeom>
          <a:solidFill>
            <a:srgbClr val="7db6e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i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MBUKAAN DI MAGELANG JAM 09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 BELA NEGARA DI AKM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I Ke 2 s/d 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i ke 7 perjalanan ke jkt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340000" y="1989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HAP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/>
          <p:cNvSpPr/>
          <p:nvPr/>
        </p:nvSpPr>
        <p:spPr>
          <a:xfrm>
            <a:off x="1979640" y="3429000"/>
            <a:ext cx="357120" cy="216000"/>
          </a:xfrm>
          <a:prstGeom prst="rightArrow">
            <a:avLst>
              <a:gd name="adj1" fmla="val 50000"/>
              <a:gd name="adj2" fmla="val 41333"/>
            </a:avLst>
          </a:prstGeom>
          <a:solidFill>
            <a:srgbClr val="7db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4140360" y="3429000"/>
            <a:ext cx="357120" cy="216000"/>
          </a:xfrm>
          <a:prstGeom prst="rightArrow">
            <a:avLst>
              <a:gd name="adj1" fmla="val 50000"/>
              <a:gd name="adj2" fmla="val 41333"/>
            </a:avLst>
          </a:prstGeom>
          <a:solidFill>
            <a:srgbClr val="7db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6516720" y="3429000"/>
            <a:ext cx="357120" cy="216000"/>
          </a:xfrm>
          <a:prstGeom prst="rightArrow">
            <a:avLst>
              <a:gd name="adj1" fmla="val 50000"/>
              <a:gd name="adj2" fmla="val 41333"/>
            </a:avLst>
          </a:prstGeom>
          <a:solidFill>
            <a:srgbClr val="7db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927000" y="577224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252360" y="5425920"/>
            <a:ext cx="389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 KALI SIKLUS PELATIHAN AKAN DILATIH SEBANYAK 80 ORANG ATAU 10 T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96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KTU PENYELENGGAR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836640"/>
          <a:ext cx="8693280" cy="8217000"/>
        </p:xfrm>
        <a:graphic>
          <a:graphicData uri="http://schemas.openxmlformats.org/drawingml/2006/table">
            <a:tbl>
              <a:tblPr/>
              <a:tblGrid>
                <a:gridCol w="824040"/>
                <a:gridCol w="512640"/>
                <a:gridCol w="593640"/>
                <a:gridCol w="432000"/>
                <a:gridCol w="117360"/>
                <a:gridCol w="555480"/>
                <a:gridCol w="497160"/>
                <a:gridCol w="377640"/>
                <a:gridCol w="430200"/>
                <a:gridCol w="417600"/>
                <a:gridCol w="331920"/>
                <a:gridCol w="183960"/>
                <a:gridCol w="277920"/>
                <a:gridCol w="115920"/>
                <a:gridCol w="374400"/>
                <a:gridCol w="362160"/>
                <a:gridCol w="450720"/>
                <a:gridCol w="300240"/>
                <a:gridCol w="322200"/>
                <a:gridCol w="390600"/>
                <a:gridCol w="320400"/>
                <a:gridCol w="227160"/>
                <a:gridCol w="277920"/>
              </a:tblGrid>
              <a:tr h="68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ANGK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MA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A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M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JU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JU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5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 - 28 MA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db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db6ef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db6ef"/>
                    </a:solidFill>
                  </a:tcPr>
                </a:tc>
                <a:tc gridSpan="2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db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db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2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 Mrt-1</a:t>
                      </a: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8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 a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b63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b63c0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b63c0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b63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b63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4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 Aprl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– 2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M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6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aprl -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M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 gridSpan="3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6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 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M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gridSpan="2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Mei -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ju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X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7" name="Right Brace 842"/>
          <p:cNvSpPr/>
          <p:nvPr/>
        </p:nvSpPr>
        <p:spPr>
          <a:xfrm rot="5400000">
            <a:off x="1620000" y="2564640"/>
            <a:ext cx="432000" cy="100800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1008000"/>
              <a:gd name="textAreaBottom" fmla="*/ 996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6"/>
                  <a:pt x="10800" y="771"/>
                </a:cubicBezTo>
                <a:lnTo>
                  <a:pt x="10800" y="9285"/>
                </a:lnTo>
                <a:cubicBezTo>
                  <a:pt x="10800" y="9671"/>
                  <a:pt x="16200" y="10056"/>
                  <a:pt x="21600" y="10056"/>
                </a:cubicBezTo>
                <a:cubicBezTo>
                  <a:pt x="16200" y="10056"/>
                  <a:pt x="10800" y="10442"/>
                  <a:pt x="10800" y="10827"/>
                </a:cubicBezTo>
                <a:lnTo>
                  <a:pt x="10800" y="20829"/>
                </a:lnTo>
                <a:cubicBezTo>
                  <a:pt x="10800" y="21215"/>
                  <a:pt x="5400" y="21600"/>
                  <a:pt x="0" y="21600"/>
                </a:cubicBezTo>
              </a:path>
            </a:pathLst>
          </a:custGeom>
          <a:solidFill>
            <a:srgbClr val="7db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844"/>
          <p:cNvCxnSpPr>
            <a:stCxn id="67" idx="1"/>
          </p:cNvCxnSpPr>
          <p:nvPr/>
        </p:nvCxnSpPr>
        <p:spPr>
          <a:xfrm>
            <a:off x="1869840" y="3284640"/>
            <a:ext cx="1080" cy="20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TextBox 846"/>
          <p:cNvSpPr/>
          <p:nvPr/>
        </p:nvSpPr>
        <p:spPr>
          <a:xfrm>
            <a:off x="1403280" y="530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RS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852"/>
          <p:cNvCxnSpPr/>
          <p:nvPr/>
        </p:nvCxnSpPr>
        <p:spPr>
          <a:xfrm>
            <a:off x="2626920" y="2852280"/>
            <a:ext cx="108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TextBox 853"/>
          <p:cNvSpPr/>
          <p:nvPr/>
        </p:nvSpPr>
        <p:spPr>
          <a:xfrm>
            <a:off x="2014560" y="4724280"/>
            <a:ext cx="1044720" cy="276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"/>
              </a:rPr>
              <a:t>PUSDIKL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855"/>
          <p:cNvCxnSpPr/>
          <p:nvPr/>
        </p:nvCxnSpPr>
        <p:spPr>
          <a:xfrm>
            <a:off x="3203280" y="3582720"/>
            <a:ext cx="1080" cy="20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TextBox 856"/>
          <p:cNvSpPr/>
          <p:nvPr/>
        </p:nvSpPr>
        <p:spPr>
          <a:xfrm>
            <a:off x="2627280" y="5670720"/>
            <a:ext cx="1152720" cy="276480"/>
          </a:xfrm>
          <a:prstGeom prst="rect">
            <a:avLst/>
          </a:prstGeom>
          <a:solidFill>
            <a:srgbClr val="2c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"/>
              </a:rPr>
              <a:t>MAGEL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857"/>
          <p:cNvCxnSpPr/>
          <p:nvPr/>
        </p:nvCxnSpPr>
        <p:spPr>
          <a:xfrm>
            <a:off x="3779640" y="4324320"/>
            <a:ext cx="1080" cy="19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TextBox 858"/>
          <p:cNvSpPr/>
          <p:nvPr/>
        </p:nvSpPr>
        <p:spPr>
          <a:xfrm>
            <a:off x="3203640" y="6276960"/>
            <a:ext cx="1152360" cy="276480"/>
          </a:xfrm>
          <a:prstGeom prst="rect">
            <a:avLst/>
          </a:prstGeom>
          <a:solidFill>
            <a:srgbClr val="2c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"/>
              </a:rPr>
              <a:t>MAGEL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859"/>
          <p:cNvCxnSpPr/>
          <p:nvPr/>
        </p:nvCxnSpPr>
        <p:spPr>
          <a:xfrm>
            <a:off x="4652640" y="5129280"/>
            <a:ext cx="1080" cy="1426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TextBox 860"/>
          <p:cNvSpPr/>
          <p:nvPr/>
        </p:nvSpPr>
        <p:spPr>
          <a:xfrm>
            <a:off x="4076640" y="6581880"/>
            <a:ext cx="1152720" cy="276480"/>
          </a:xfrm>
          <a:prstGeom prst="rect">
            <a:avLst/>
          </a:prstGeom>
          <a:solidFill>
            <a:srgbClr val="2c8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"/>
              </a:rPr>
              <a:t>MAGEL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06360"/>
            <a:ext cx="822960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Arial"/>
              </a:rPr>
              <a:t>ALOKASI ANGGARAN YANG DIBUTUHKAN SELURUH NYA (960 ORG) Rp. </a:t>
            </a:r>
            <a:r>
              <a:rPr b="1" lang="id-ID" sz="4400" spc="-1" strike="noStrike">
                <a:solidFill>
                  <a:srgbClr val="000000"/>
                </a:solidFill>
                <a:latin typeface="Arial"/>
              </a:rPr>
              <a:t>27.335.446.0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7T01:00:18Z</dcterms:created>
  <dc:creator>hery suharyanto</dc:creator>
  <dc:description/>
  <dc:language>en-US</dc:language>
  <cp:lastModifiedBy>fujitsu</cp:lastModifiedBy>
  <dcterms:modified xsi:type="dcterms:W3CDTF">2015-01-27T08:11:44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46</vt:lpwstr>
  </property>
</Properties>
</file>