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048-EC80-4B1F-8E3F-70E699CE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D34-A936-458B-AF24-AB5DBD59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972-029B-4464-AF9D-40263706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05E-690F-4976-BA0F-A194DE60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B2B-89C6-457C-A97A-120AD53D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C10-E437-409B-8CDB-1470F26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FA1-0AAC-45F3-8544-F1D8B81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784-5889-4D1F-BE92-C85343E0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CC0-0C94-42CB-A4F6-3D893B6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783-F67E-41A1-BEF6-C057BE5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CE3-1A09-4624-8734-240CDD9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B47-DE75-4D60-966B-FE4090E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58E-B97F-4FE6-B977-73EB892D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PELATIHAN TIM NUSANTARA SE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USDIKLAT APARA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Rectangle 3"/>
          <p:cNvGraphicFramePr/>
          <p:nvPr/>
        </p:nvGraphicFramePr>
        <p:xfrm>
          <a:off x="252360" y="-461880"/>
          <a:ext cx="8434440" cy="720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-461880"/>
                    <a:ext cx="8434440" cy="72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KANISME PELATIH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BA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USUS MATERI TEKNIS MED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FASILITATOR DARI FKUI DAPAT MELATIH SEBANYAK 50 ORANG UNTUK SETIAP ANGKATAN NY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UK MATERI INI YANG MENDAPATKAN HANYA TENAGA KESEHATAN DOKTER, PERAWAT, BIDAN, GIZI DAN KESMAS (5 JEN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INGGA DIBU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I 480 ORANG SASARAN SETIAP KELAS/ANGKATANNYA 40 ORG SEHINGGA ADA 12 ANGKATAN JADI SETIAP NAKES DALAM 1 KELAS MASING-MASING 5 O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ENA TIM PELATIH FKUI HANYA MAMPU MELATIH 50 ORANG MAKA UNTUK SETIAP BACTH AKAN DILATIH SEBANYAK 10 TIM X 8 ORANG = 80 OR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NCIAN UNTUK SETIAP KELAS/ANGKATANN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5735520"/>
        </p:xfrm>
        <a:graphic>
          <a:graphicData uri="http://schemas.openxmlformats.org/drawingml/2006/table">
            <a:tbl>
              <a:tblPr/>
              <a:tblGrid>
                <a:gridCol w="2517840"/>
                <a:gridCol w="1677960"/>
                <a:gridCol w="403380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ENIS NA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UM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O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ERAW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 ORG X 2 AKT = 50 ORG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I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ANITA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ARM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ALIS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AutoShape 107"/>
          <p:cNvSpPr/>
          <p:nvPr/>
        </p:nvSpPr>
        <p:spPr>
          <a:xfrm>
            <a:off x="4716360" y="2421000"/>
            <a:ext cx="503280" cy="1871640"/>
          </a:xfrm>
          <a:custGeom>
            <a:avLst/>
            <a:gdLst>
              <a:gd name="textAreaLeft" fmla="*/ 0 w 503280"/>
              <a:gd name="textAreaRight" fmla="*/ 18180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R PELATI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2360" y="1990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7840" y="2438280"/>
            <a:ext cx="1801800" cy="243828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MBUK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BIJAK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GENALAN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ELAH ISHOMA SIANG PESERTA PERGI KE MAGE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32480" y="19908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498920" y="2354400"/>
            <a:ext cx="1944720" cy="329076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ggu k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PEMIMPI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OKASI DAN KEMITRA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MBERDAYAAN MASYARAK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JEMEN PUSKE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UTUPAN BAGI NAKES SANITARIAN, ANALIS DAN FARMA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948360" y="180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948360" y="2394000"/>
            <a:ext cx="1800360" cy="201204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GGU KE III DAN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NIS MEDIS KOMUNITAS BAGI DOKTER, PERAWAT, BIDAN, GIZI, DAN S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UTU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340000" y="2470320"/>
            <a:ext cx="1801800" cy="201204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MBUKAAN DI MAGELANG JAM 09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 BELA NEGARA DI AKM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Ke 2 s/d 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ke 7 perjalanan ke jk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340000" y="19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1979640" y="3429000"/>
            <a:ext cx="357120" cy="216000"/>
          </a:xfrm>
          <a:prstGeom prst="rightArrow">
            <a:avLst>
              <a:gd name="adj1" fmla="val 50000"/>
              <a:gd name="adj2" fmla="val 41333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140360" y="3429000"/>
            <a:ext cx="357120" cy="216000"/>
          </a:xfrm>
          <a:prstGeom prst="rightArrow">
            <a:avLst>
              <a:gd name="adj1" fmla="val 50000"/>
              <a:gd name="adj2" fmla="val 41333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516720" y="3429000"/>
            <a:ext cx="357120" cy="216000"/>
          </a:xfrm>
          <a:prstGeom prst="rightArrow">
            <a:avLst>
              <a:gd name="adj1" fmla="val 50000"/>
              <a:gd name="adj2" fmla="val 41333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927000" y="577224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52360" y="5425920"/>
            <a:ext cx="389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 KALI SIKLUS PELATIHAN AKAN DILATIH SEBANYAK 80 ORANG ATAU 10 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96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KTU PENYELENGGA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836640"/>
          <a:ext cx="8693280" cy="8217000"/>
        </p:xfrm>
        <a:graphic>
          <a:graphicData uri="http://schemas.openxmlformats.org/drawingml/2006/table">
            <a:tbl>
              <a:tblPr/>
              <a:tblGrid>
                <a:gridCol w="824040"/>
                <a:gridCol w="512640"/>
                <a:gridCol w="593640"/>
                <a:gridCol w="432000"/>
                <a:gridCol w="117360"/>
                <a:gridCol w="555480"/>
                <a:gridCol w="497160"/>
                <a:gridCol w="377640"/>
                <a:gridCol w="430200"/>
                <a:gridCol w="417600"/>
                <a:gridCol w="331920"/>
                <a:gridCol w="183960"/>
                <a:gridCol w="277920"/>
                <a:gridCol w="115920"/>
                <a:gridCol w="374400"/>
                <a:gridCol w="362160"/>
                <a:gridCol w="450720"/>
                <a:gridCol w="300240"/>
                <a:gridCol w="322200"/>
                <a:gridCol w="390600"/>
                <a:gridCol w="320400"/>
                <a:gridCol w="227160"/>
                <a:gridCol w="27792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ANGK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MA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U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U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5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 - 28 MA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db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 Mrt-1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 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 Apr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– 2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aprl -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 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ei -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ju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X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7" name="Right Brace 842"/>
          <p:cNvSpPr/>
          <p:nvPr/>
        </p:nvSpPr>
        <p:spPr>
          <a:xfrm rot="5400000">
            <a:off x="1620000" y="2564640"/>
            <a:ext cx="432000" cy="10080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008000"/>
              <a:gd name="textAreaBottom" fmla="*/ 996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9285"/>
                </a:lnTo>
                <a:cubicBezTo>
                  <a:pt x="10800" y="9671"/>
                  <a:pt x="16200" y="10056"/>
                  <a:pt x="21600" y="10056"/>
                </a:cubicBezTo>
                <a:cubicBezTo>
                  <a:pt x="16200" y="10056"/>
                  <a:pt x="10800" y="10442"/>
                  <a:pt x="10800" y="10827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844"/>
          <p:cNvCxnSpPr>
            <a:stCxn id="67" idx="1"/>
          </p:cNvCxnSpPr>
          <p:nvPr/>
        </p:nvCxnSpPr>
        <p:spPr>
          <a:xfrm>
            <a:off x="1869840" y="3284640"/>
            <a:ext cx="108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846"/>
          <p:cNvSpPr/>
          <p:nvPr/>
        </p:nvSpPr>
        <p:spPr>
          <a:xfrm>
            <a:off x="140328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R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852"/>
          <p:cNvCxnSpPr/>
          <p:nvPr/>
        </p:nvCxnSpPr>
        <p:spPr>
          <a:xfrm>
            <a:off x="2626920" y="285228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853"/>
          <p:cNvSpPr/>
          <p:nvPr/>
        </p:nvSpPr>
        <p:spPr>
          <a:xfrm>
            <a:off x="2014560" y="4724280"/>
            <a:ext cx="104472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PUSDIK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855"/>
          <p:cNvCxnSpPr/>
          <p:nvPr/>
        </p:nvCxnSpPr>
        <p:spPr>
          <a:xfrm>
            <a:off x="3203280" y="3582720"/>
            <a:ext cx="1080" cy="20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856"/>
          <p:cNvSpPr/>
          <p:nvPr/>
        </p:nvSpPr>
        <p:spPr>
          <a:xfrm>
            <a:off x="2627280" y="5670720"/>
            <a:ext cx="1152720" cy="276480"/>
          </a:xfrm>
          <a:prstGeom prst="rect">
            <a:avLst/>
          </a:prstGeom>
          <a:solidFill>
            <a:srgbClr val="2c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MAGE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57"/>
          <p:cNvCxnSpPr/>
          <p:nvPr/>
        </p:nvCxnSpPr>
        <p:spPr>
          <a:xfrm>
            <a:off x="3779640" y="4324320"/>
            <a:ext cx="1080" cy="19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858"/>
          <p:cNvSpPr/>
          <p:nvPr/>
        </p:nvSpPr>
        <p:spPr>
          <a:xfrm>
            <a:off x="3203640" y="6276960"/>
            <a:ext cx="1152360" cy="276480"/>
          </a:xfrm>
          <a:prstGeom prst="rect">
            <a:avLst/>
          </a:prstGeom>
          <a:solidFill>
            <a:srgbClr val="2c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MAGE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859"/>
          <p:cNvCxnSpPr/>
          <p:nvPr/>
        </p:nvCxnSpPr>
        <p:spPr>
          <a:xfrm>
            <a:off x="4652640" y="5129280"/>
            <a:ext cx="1080" cy="14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860"/>
          <p:cNvSpPr/>
          <p:nvPr/>
        </p:nvSpPr>
        <p:spPr>
          <a:xfrm>
            <a:off x="4076640" y="6581880"/>
            <a:ext cx="1152720" cy="276480"/>
          </a:xfrm>
          <a:prstGeom prst="rect">
            <a:avLst/>
          </a:prstGeom>
          <a:solidFill>
            <a:srgbClr val="2c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MAGE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0636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ALOKASI ANGGARAN YANG DIBUTUHKAN SELURUH NYA (960 ORG) Rp. </a:t>
            </a:r>
            <a:r>
              <a:rPr b="1" lang="id-ID" sz="4400" spc="-1" strike="noStrike">
                <a:solidFill>
                  <a:srgbClr val="000000"/>
                </a:solidFill>
                <a:latin typeface="Arial"/>
              </a:rPr>
              <a:t>27.335.446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1:00:18Z</dcterms:created>
  <dc:creator>hery suharyanto</dc:creator>
  <dc:description/>
  <dc:language>en-US</dc:language>
  <cp:lastModifiedBy>fujitsu</cp:lastModifiedBy>
  <dcterms:modified xsi:type="dcterms:W3CDTF">2015-01-27T08:11:4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46</vt:lpwstr>
  </property>
</Properties>
</file>