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E93AB-E7E6-4AEA-A6AE-BAF06B02F565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1. Laporan Basedline Assessment yang memuat Plan of Action dan Pemetaan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2. Laporan Kuartal - memantau perkembangan program inovatif dan program revitalisasi puskesmas setiap tiga bulan : Indikator Keberhasilan, Capaian Kuartal, Rencana Tindak Lanc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3. Laporan Endline - Assessment : memuat Pemetaan Program dan Rencana Tindak Lanjut Berkesinambun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4. Laporan Survei Kesehatan Masyarakat : informasi status kesehatan masyarakat tingkat kecamatan untuk melihat prioritas rencana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FF845-8E03-4E68-B22D-66AFF2ABA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0625A-6526-4815-8E3D-C095D5E0C4B7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015-CAE5-41E7-8429-7AF6C94C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80E8-8C48-4A18-8EE4-90320DEE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3F8-FB8F-4D6A-91B8-B2F66D42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E5F-9CE8-4C33-A814-296990B3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9829-BC49-45CA-9217-C38E830C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402F-1A3F-4E75-8C65-689FBA40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6038-E7EF-4580-B664-13312700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08EA-B99F-40DC-A092-03BF13FC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F4A8-ADC3-47D7-8D44-B64542BD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6550-8C13-4726-957C-3C6283BD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C63C-DC1E-44B7-A1A9-1EBC0B80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F3A-AD79-4431-B8FE-EC9EEEF1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E0B6-AF7B-4E98-8185-CF0D3CBF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B2A3-7220-4AF1-AA58-B56039A3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F678-9B87-4E34-864F-63183177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86D6-1CA8-4C07-84F4-FE882556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3BE6-A435-47F7-9DD9-DD29159C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3482-5A99-4489-BB74-DFE817B4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0CF07-020B-4DE7-8A0D-40BEB886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F60A5-9782-46B6-8BAA-5BC0EB13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A468B-C69D-491C-A134-1987FB95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8AC75-32FF-4D68-8806-1D6F2F88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2CC-A515-4B4F-8CD9-06A514A3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04865-8A0B-4D8D-BD54-9F2A2C67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9A689-1E3E-44EB-8070-F829C851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15A35-4BAE-493F-8F22-CF01712E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E69D4-8854-44BF-99C9-434BA8A2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8D7B5-391D-4A39-8A66-7A9E9A2A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660F7-3E80-43EE-BB76-B92FA564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9AC11-53D8-4677-AEB3-BED7FBFB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319-D160-40CF-87F3-672B42C4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A06-A636-467C-8D9B-30A7A37C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1E2-50B3-4D38-A55A-C6EC3ACC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55E-DF80-4D20-9A64-F2F3DDB8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3D4-052F-4D78-BF0D-FDB10F11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331A-4257-483C-9FE8-AEC1A2D8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2E28D-82FD-4BF1-9EBD-1D862FFDA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1" descr="C:\Users\HP\Desktop\Logo 2.png"/>
          <p:cNvPicPr/>
          <p:nvPr/>
        </p:nvPicPr>
        <p:blipFill>
          <a:blip r:embed="rId2"/>
          <a:stretch/>
        </p:blipFill>
        <p:spPr>
          <a:xfrm>
            <a:off x="7529400" y="31680"/>
            <a:ext cx="1595520" cy="123840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8"/>
          <p:cNvSpPr/>
          <p:nvPr/>
        </p:nvSpPr>
        <p:spPr>
          <a:xfrm>
            <a:off x="114480" y="1270080"/>
            <a:ext cx="861984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" descr="Logo CISDI_Rev2-01.jpg"/>
          <p:cNvPicPr/>
          <p:nvPr/>
        </p:nvPicPr>
        <p:blipFill>
          <a:blip r:embed="rId3"/>
          <a:stretch/>
        </p:blipFill>
        <p:spPr>
          <a:xfrm>
            <a:off x="291960" y="241200"/>
            <a:ext cx="2298960" cy="92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:\Users\HP\Desktop\Logo 2.png"/>
          <p:cNvPicPr/>
          <p:nvPr/>
        </p:nvPicPr>
        <p:blipFill>
          <a:blip r:embed="rId2"/>
          <a:stretch/>
        </p:blipFill>
        <p:spPr>
          <a:xfrm>
            <a:off x="7529400" y="31680"/>
            <a:ext cx="1595520" cy="12384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8"/>
          <p:cNvSpPr/>
          <p:nvPr/>
        </p:nvSpPr>
        <p:spPr>
          <a:xfrm>
            <a:off x="114480" y="1270080"/>
            <a:ext cx="861984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Logo CISDI_Rev2-01.jpg"/>
          <p:cNvPicPr/>
          <p:nvPr/>
        </p:nvPicPr>
        <p:blipFill>
          <a:blip r:embed="rId3"/>
          <a:stretch/>
        </p:blipFill>
        <p:spPr>
          <a:xfrm>
            <a:off x="291960" y="241200"/>
            <a:ext cx="2298960" cy="92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" descr="C:\Users\HP\Desktop\Logo 2.png"/>
          <p:cNvPicPr/>
          <p:nvPr/>
        </p:nvPicPr>
        <p:blipFill>
          <a:blip r:embed="rId4"/>
          <a:stretch/>
        </p:blipFill>
        <p:spPr>
          <a:xfrm>
            <a:off x="7529400" y="31680"/>
            <a:ext cx="1595520" cy="12384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15"/>
          <p:cNvGrpSpPr/>
          <p:nvPr/>
        </p:nvGrpSpPr>
        <p:grpSpPr>
          <a:xfrm>
            <a:off x="-177840" y="120600"/>
            <a:ext cx="2084400" cy="1036080"/>
            <a:chOff x="-177840" y="120600"/>
            <a:chExt cx="2084400" cy="1036080"/>
          </a:xfrm>
        </p:grpSpPr>
        <p:pic>
          <p:nvPicPr>
            <p:cNvPr id="48" name="Picture 3" descr="logo garuda polos"/>
            <p:cNvPicPr/>
            <p:nvPr/>
          </p:nvPicPr>
          <p:blipFill>
            <a:blip r:embed="rId5"/>
            <a:stretch/>
          </p:blipFill>
          <p:spPr>
            <a:xfrm>
              <a:off x="516600" y="120600"/>
              <a:ext cx="751680" cy="6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17"/>
            <p:cNvSpPr/>
            <p:nvPr/>
          </p:nvSpPr>
          <p:spPr>
            <a:xfrm>
              <a:off x="-177840" y="819360"/>
              <a:ext cx="208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libri"/>
                </a:rPr>
                <a:t>Office of the President’ Special Envoy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libri"/>
                </a:rPr>
                <a:t>On Millennium Development Goal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7184E-A187-47EE-907A-076D8A155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C:\Users\HP\Desktop\Logo 2.png"/>
          <p:cNvPicPr/>
          <p:nvPr/>
        </p:nvPicPr>
        <p:blipFill>
          <a:blip r:embed="rId2"/>
          <a:stretch/>
        </p:blipFill>
        <p:spPr>
          <a:xfrm>
            <a:off x="7529400" y="31680"/>
            <a:ext cx="1595520" cy="123840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8"/>
          <p:cNvSpPr/>
          <p:nvPr/>
        </p:nvSpPr>
        <p:spPr>
          <a:xfrm>
            <a:off x="114480" y="1270080"/>
            <a:ext cx="861984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" descr="Logo CISDI_Rev2-01.jpg"/>
          <p:cNvPicPr/>
          <p:nvPr/>
        </p:nvPicPr>
        <p:blipFill>
          <a:blip r:embed="rId3"/>
          <a:stretch/>
        </p:blipFill>
        <p:spPr>
          <a:xfrm>
            <a:off x="291960" y="241200"/>
            <a:ext cx="2298960" cy="924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d-ID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d-ID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52D17-1DBF-46AB-9F86-6CBDB9AA7B9C}" type="slidenum">
              <a:rPr b="0" lang="id-ID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ses Implementa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C:\Users\HP\Desktop\Logo 2.png"/>
          <p:cNvPicPr/>
          <p:nvPr/>
        </p:nvPicPr>
        <p:blipFill>
          <a:blip r:embed="rId1"/>
          <a:stretch/>
        </p:blipFill>
        <p:spPr>
          <a:xfrm>
            <a:off x="2257560" y="2082960"/>
            <a:ext cx="451944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ode Mone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762120" y="1866960"/>
            <a:ext cx="7137360" cy="3479760"/>
            <a:chOff x="762120" y="1866960"/>
            <a:chExt cx="7137360" cy="3479760"/>
          </a:xfrm>
        </p:grpSpPr>
        <p:sp>
          <p:nvSpPr>
            <p:cNvPr id="203" name="Rectangle 4"/>
            <p:cNvSpPr/>
            <p:nvPr/>
          </p:nvSpPr>
          <p:spPr>
            <a:xfrm>
              <a:off x="762120" y="4338720"/>
              <a:ext cx="1468440" cy="100800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明朝"/>
                </a:rPr>
                <a:t>Quarterly Repo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>
              <a:off x="3616560" y="4338720"/>
              <a:ext cx="1311120" cy="100800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明朝"/>
                </a:rPr>
                <a:t>Site Visi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6402600" y="4338720"/>
              <a:ext cx="1496880" cy="100800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明朝"/>
                </a:rPr>
                <a:t>Evaluation from Key stakeholder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>
              <a:off x="3502080" y="1866960"/>
              <a:ext cx="1611360" cy="123660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明朝"/>
                </a:rPr>
                <a:t>Monev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Straight Connector 8"/>
            <p:cNvSpPr/>
            <p:nvPr/>
          </p:nvSpPr>
          <p:spPr>
            <a:xfrm flipH="1">
              <a:off x="1568160" y="3103560"/>
              <a:ext cx="2738520" cy="123516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Straight Connector 9"/>
            <p:cNvSpPr/>
            <p:nvPr/>
          </p:nvSpPr>
          <p:spPr>
            <a:xfrm>
              <a:off x="4307040" y="3103560"/>
              <a:ext cx="0" cy="123516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Straight Connector 10"/>
            <p:cNvSpPr/>
            <p:nvPr/>
          </p:nvSpPr>
          <p:spPr>
            <a:xfrm>
              <a:off x="4307040" y="3103560"/>
              <a:ext cx="2900160" cy="123516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Retângulo de cantos arredondados 33"/>
          <p:cNvSpPr/>
          <p:nvPr/>
        </p:nvSpPr>
        <p:spPr>
          <a:xfrm>
            <a:off x="347760" y="3986280"/>
            <a:ext cx="2369880" cy="162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f7f7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ctr">
            <a:noAutofit/>
          </a:bodyPr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tângulo de cantos arredondados 33"/>
          <p:cNvSpPr/>
          <p:nvPr/>
        </p:nvSpPr>
        <p:spPr>
          <a:xfrm>
            <a:off x="3314880" y="3986280"/>
            <a:ext cx="4838400" cy="162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f7f7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ctr">
            <a:noAutofit/>
          </a:bodyPr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605520" y="361800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ternal Mon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4"/>
          <p:cNvSpPr/>
          <p:nvPr/>
        </p:nvSpPr>
        <p:spPr>
          <a:xfrm>
            <a:off x="6245280" y="361800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ksternal Mon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806400" y="5753160"/>
            <a:ext cx="1522440" cy="9018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nitoring dan evaluasi Kinerja Ti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18"/>
          <p:cNvSpPr/>
          <p:nvPr/>
        </p:nvSpPr>
        <p:spPr>
          <a:xfrm>
            <a:off x="4432320" y="5676840"/>
            <a:ext cx="2641680" cy="8892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itoring dan Evaluasi Perkembangan Individu dan hubungan kerja dengan pemangku kepentin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345600"/>
            <a:ext cx="7696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2863080" y="1403280"/>
            <a:ext cx="370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metaan Monitoring and Evalu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oup 2"/>
          <p:cNvGrpSpPr/>
          <p:nvPr/>
        </p:nvGrpSpPr>
        <p:grpSpPr>
          <a:xfrm>
            <a:off x="0" y="1849320"/>
            <a:ext cx="9144000" cy="4759560"/>
            <a:chOff x="0" y="1849320"/>
            <a:chExt cx="9144000" cy="4759560"/>
          </a:xfrm>
        </p:grpSpPr>
        <p:pic>
          <p:nvPicPr>
            <p:cNvPr id="219" name="Picture 3" descr="Monitoring and Evaluation Strategy.png"/>
            <p:cNvPicPr/>
            <p:nvPr/>
          </p:nvPicPr>
          <p:blipFill>
            <a:blip r:embed="rId1"/>
            <a:stretch/>
          </p:blipFill>
          <p:spPr>
            <a:xfrm>
              <a:off x="0" y="1849320"/>
              <a:ext cx="9144000" cy="47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"/>
            <p:cNvSpPr/>
            <p:nvPr/>
          </p:nvSpPr>
          <p:spPr>
            <a:xfrm>
              <a:off x="7454880" y="2552400"/>
              <a:ext cx="1549440" cy="3797640"/>
            </a:xfrm>
            <a:prstGeom prst="rect">
              <a:avLst/>
            </a:prstGeom>
            <a:gradFill rotWithShape="0">
              <a:gsLst>
                <a:gs pos="0">
                  <a:srgbClr val="ededed"/>
                </a:gs>
                <a:gs pos="100000">
                  <a:srgbClr val="bcbcb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Stakeholders: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Standardized quality local healthcare professional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Sustainable collaboration among stakeholder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Regenerating of local champion pass through generatio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Facilities: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Standardized quality servic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Standardized  facilitie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Reduction in: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Maternal mortality rat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Disease Prevalenc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Healthy life styl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Improvement in environmental health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85680" y="371160"/>
            <a:ext cx="51051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TOOLS MONE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Diagram 5" descr=""/>
          <p:cNvPicPr/>
          <p:nvPr/>
        </p:nvPicPr>
        <p:blipFill>
          <a:blip r:embed="rId1"/>
          <a:stretch/>
        </p:blipFill>
        <p:spPr>
          <a:xfrm>
            <a:off x="987480" y="0"/>
            <a:ext cx="7607160" cy="5718240"/>
          </a:xfrm>
          <a:prstGeom prst="rect">
            <a:avLst/>
          </a:prstGeom>
          <a:ln w="0">
            <a:noFill/>
          </a:ln>
        </p:spPr>
      </p:pic>
      <p:sp>
        <p:nvSpPr>
          <p:cNvPr id="223" name="Rounded Rectangle 7"/>
          <p:cNvSpPr/>
          <p:nvPr/>
        </p:nvSpPr>
        <p:spPr>
          <a:xfrm>
            <a:off x="3029040" y="6095880"/>
            <a:ext cx="3962160" cy="514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PORTOFOLIO TI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ight Brace 8"/>
          <p:cNvSpPr/>
          <p:nvPr/>
        </p:nvSpPr>
        <p:spPr>
          <a:xfrm rot="5400000">
            <a:off x="4714560" y="2904840"/>
            <a:ext cx="685800" cy="561996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5619960"/>
              <a:gd name="textAreaBottom" fmla="*/ 5602320 h 561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0"/>
                  <a:pt x="10800" y="220"/>
                </a:cubicBezTo>
                <a:lnTo>
                  <a:pt x="10800" y="10580"/>
                </a:lnTo>
                <a:cubicBezTo>
                  <a:pt x="10800" y="10690"/>
                  <a:pt x="16200" y="10800"/>
                  <a:pt x="21600" y="10800"/>
                </a:cubicBezTo>
                <a:cubicBezTo>
                  <a:pt x="16200" y="10800"/>
                  <a:pt x="10800" y="10910"/>
                  <a:pt x="10800" y="11020"/>
                </a:cubicBezTo>
                <a:lnTo>
                  <a:pt x="10800" y="21380"/>
                </a:lnTo>
                <a:cubicBezTo>
                  <a:pt x="10800" y="2149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d-ID" sz="44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C:\Users\HP\Pictures\Lokasi PN Angkatan IV.png"/>
          <p:cNvPicPr/>
          <p:nvPr/>
        </p:nvPicPr>
        <p:blipFill>
          <a:blip r:embed="rId1"/>
          <a:stretch/>
        </p:blipFill>
        <p:spPr>
          <a:xfrm>
            <a:off x="0" y="182520"/>
            <a:ext cx="9144000" cy="627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RAB PN Fix INA.png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5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hapan implementa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Content Placeholder 5" descr=""/>
          <p:cNvPicPr/>
          <p:nvPr/>
        </p:nvPicPr>
        <p:blipFill>
          <a:blip r:embed="rId1"/>
          <a:stretch/>
        </p:blipFill>
        <p:spPr>
          <a:xfrm>
            <a:off x="414360" y="1596960"/>
            <a:ext cx="8315280" cy="4529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Bent-Up Arrow 42"/>
          <p:cNvSpPr/>
          <p:nvPr/>
        </p:nvSpPr>
        <p:spPr>
          <a:xfrm flipV="1">
            <a:off x="8085240" y="2345760"/>
            <a:ext cx="731880" cy="2460600"/>
          </a:xfrm>
          <a:custGeom>
            <a:avLst/>
            <a:gdLst/>
            <a:ahLst/>
            <a:rect l="l" t="t" r="r" b="b"/>
            <a:pathLst>
              <a:path w="731837" h="2460625">
                <a:moveTo>
                  <a:pt x="0" y="2277666"/>
                </a:moveTo>
                <a:lnTo>
                  <a:pt x="470469" y="2277666"/>
                </a:lnTo>
                <a:lnTo>
                  <a:pt x="470469" y="182959"/>
                </a:lnTo>
                <a:lnTo>
                  <a:pt x="392060" y="182959"/>
                </a:lnTo>
                <a:lnTo>
                  <a:pt x="561948" y="0"/>
                </a:lnTo>
                <a:lnTo>
                  <a:pt x="731837" y="182959"/>
                </a:lnTo>
                <a:lnTo>
                  <a:pt x="653428" y="182959"/>
                </a:lnTo>
                <a:lnTo>
                  <a:pt x="653428" y="2460625"/>
                </a:lnTo>
                <a:lnTo>
                  <a:pt x="0" y="2460625"/>
                </a:lnTo>
                <a:lnTo>
                  <a:pt x="0" y="2277666"/>
                </a:lnTo>
                <a:close/>
              </a:path>
            </a:pathLst>
          </a:custGeom>
          <a:solidFill>
            <a:srgbClr val="fac090"/>
          </a:solidFill>
          <a:ln w="9360">
            <a:solidFill>
              <a:srgbClr val="fac09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30320" y="1405080"/>
            <a:ext cx="1581120" cy="3741480"/>
          </a:xfrm>
          <a:prstGeom prst="rect">
            <a:avLst/>
          </a:prstGeom>
          <a:solidFill>
            <a:srgbClr val="dce6f2"/>
          </a:solidFill>
          <a:ln w="9360">
            <a:solidFill>
              <a:srgbClr val="dce6f2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4880" y="19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Alur Penentuan Lokasi Intervensi </a:t>
            </a:r>
            <a:br>
              <a:rPr sz="2800"/>
            </a:b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Berbasis Tim Interprofe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ounded Rectangle 3"/>
          <p:cNvSpPr/>
          <p:nvPr/>
        </p:nvSpPr>
        <p:spPr>
          <a:xfrm>
            <a:off x="287280" y="1547640"/>
            <a:ext cx="1214640" cy="320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Demograf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ounded Rectangle 4"/>
          <p:cNvSpPr/>
          <p:nvPr/>
        </p:nvSpPr>
        <p:spPr>
          <a:xfrm>
            <a:off x="287280" y="1962000"/>
            <a:ext cx="1214640" cy="70344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Status Kesehatan Masyarak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ounded Rectangle 5"/>
          <p:cNvSpPr/>
          <p:nvPr/>
        </p:nvSpPr>
        <p:spPr>
          <a:xfrm>
            <a:off x="287280" y="3265560"/>
            <a:ext cx="1214640" cy="522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Determinan Sos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ounded Rectangle 6"/>
          <p:cNvSpPr/>
          <p:nvPr/>
        </p:nvSpPr>
        <p:spPr>
          <a:xfrm>
            <a:off x="287280" y="3892680"/>
            <a:ext cx="1214640" cy="48420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Pemetaan Mi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ounded Rectangle 8"/>
          <p:cNvSpPr/>
          <p:nvPr/>
        </p:nvSpPr>
        <p:spPr>
          <a:xfrm>
            <a:off x="287280" y="4467240"/>
            <a:ext cx="1214640" cy="48420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Data Interven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ight Arrow 9"/>
          <p:cNvSpPr/>
          <p:nvPr/>
        </p:nvSpPr>
        <p:spPr>
          <a:xfrm>
            <a:off x="2187720" y="2743200"/>
            <a:ext cx="595080" cy="77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52560" y="5186520"/>
            <a:ext cx="175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d-ID" sz="1400" spc="-1" strike="noStrike">
                <a:solidFill>
                  <a:srgbClr val="000000"/>
                </a:solidFill>
                <a:latin typeface="Calibri"/>
              </a:rPr>
              <a:t>Baseline 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120 Puskesmas DTP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1811160" y="3490920"/>
            <a:ext cx="120672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d-ID" sz="1400" spc="-1" strike="noStrike">
                <a:solidFill>
                  <a:srgbClr val="000000"/>
                </a:solidFill>
                <a:latin typeface="Calibri"/>
              </a:rPr>
              <a:t>Analisis data kuantitat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d-ID" sz="1000" spc="-1" strike="noStrike">
                <a:solidFill>
                  <a:srgbClr val="000000"/>
                </a:solidFill>
                <a:latin typeface="Calibri"/>
              </a:rPr>
              <a:t>Sistem Skor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278160" y="2463840"/>
            <a:ext cx="914400" cy="357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278160" y="2955960"/>
            <a:ext cx="914400" cy="357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278160" y="3479760"/>
            <a:ext cx="914400" cy="355680"/>
          </a:xfrm>
          <a:prstGeom prst="rect">
            <a:avLst/>
          </a:prstGeom>
          <a:solidFill>
            <a:srgbClr val="00b050"/>
          </a:solidFill>
          <a:ln w="9360">
            <a:solidFill>
              <a:srgbClr val="6cbd1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2855880" y="3987720"/>
            <a:ext cx="17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d-ID" sz="1400" spc="-1" strike="noStrike">
                <a:solidFill>
                  <a:srgbClr val="000000"/>
                </a:solidFill>
                <a:latin typeface="Calibri"/>
              </a:rPr>
              <a:t>Hasil Seleksi Tahap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70 Puskesm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ight Arrow 16"/>
          <p:cNvSpPr/>
          <p:nvPr/>
        </p:nvSpPr>
        <p:spPr>
          <a:xfrm>
            <a:off x="4435560" y="2743200"/>
            <a:ext cx="593640" cy="77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5186520" y="1944720"/>
            <a:ext cx="3160440" cy="968400"/>
          </a:xfrm>
          <a:prstGeom prst="rect">
            <a:avLst/>
          </a:prstGeom>
          <a:solidFill>
            <a:srgbClr val="dce6f2"/>
          </a:solidFill>
          <a:ln w="9360">
            <a:solidFill>
              <a:srgbClr val="dce6f2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ounded Rectangle 18"/>
          <p:cNvSpPr/>
          <p:nvPr/>
        </p:nvSpPr>
        <p:spPr>
          <a:xfrm>
            <a:off x="5343480" y="2243160"/>
            <a:ext cx="952560" cy="41760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Kunjungan loka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ounded Rectangle 35"/>
          <p:cNvSpPr/>
          <p:nvPr/>
        </p:nvSpPr>
        <p:spPr>
          <a:xfrm>
            <a:off x="6440400" y="2243160"/>
            <a:ext cx="979560" cy="41760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Wawanca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ounded Rectangle 36"/>
          <p:cNvSpPr/>
          <p:nvPr/>
        </p:nvSpPr>
        <p:spPr>
          <a:xfrm>
            <a:off x="7562880" y="2301840"/>
            <a:ext cx="654120" cy="3189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FG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39"/>
          <p:cNvSpPr/>
          <p:nvPr/>
        </p:nvSpPr>
        <p:spPr>
          <a:xfrm>
            <a:off x="5340240" y="2975040"/>
            <a:ext cx="2836800" cy="20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d-ID" sz="1400" spc="-1" strike="noStrike" u="sng">
                <a:solidFill>
                  <a:srgbClr val="000000"/>
                </a:solidFill>
                <a:uFillTx/>
                <a:latin typeface="Calibri"/>
              </a:rPr>
              <a:t>Verifikasi data kuantitat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d-ID" sz="1400" spc="-1" strike="noStrike" u="sng">
                <a:solidFill>
                  <a:srgbClr val="000000"/>
                </a:solidFill>
                <a:uFillTx/>
                <a:latin typeface="Calibri"/>
              </a:rPr>
              <a:t>Pengumpulan Data Kualitat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Komitmen pemerintah daera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Analisis peran bantu dan potensi konflik antar pemangku kepenting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Identifikasi modal sosi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Partisipasi publi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Dinamika buday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43"/>
          <p:cNvSpPr/>
          <p:nvPr/>
        </p:nvSpPr>
        <p:spPr>
          <a:xfrm>
            <a:off x="7889760" y="492444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d-ID" sz="1400" spc="-1" strike="noStrike">
                <a:solidFill>
                  <a:srgbClr val="000000"/>
                </a:solidFill>
                <a:latin typeface="Calibri"/>
              </a:rPr>
              <a:t>Analisis data kualitat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Bent-Up Arrow 45"/>
          <p:cNvSpPr/>
          <p:nvPr/>
        </p:nvSpPr>
        <p:spPr>
          <a:xfrm flipH="1" rot="16200000">
            <a:off x="7997040" y="5608080"/>
            <a:ext cx="804960" cy="691920"/>
          </a:xfrm>
          <a:custGeom>
            <a:avLst/>
            <a:gdLst/>
            <a:ahLst/>
            <a:rect l="l" t="t" r="r" b="b"/>
            <a:pathLst>
              <a:path w="804862" h="692150">
                <a:moveTo>
                  <a:pt x="0" y="519113"/>
                </a:moveTo>
                <a:lnTo>
                  <a:pt x="545306" y="519113"/>
                </a:lnTo>
                <a:lnTo>
                  <a:pt x="545306" y="173038"/>
                </a:lnTo>
                <a:lnTo>
                  <a:pt x="458787" y="173038"/>
                </a:lnTo>
                <a:lnTo>
                  <a:pt x="631825" y="0"/>
                </a:lnTo>
                <a:lnTo>
                  <a:pt x="804862" y="173038"/>
                </a:lnTo>
                <a:lnTo>
                  <a:pt x="718343" y="173038"/>
                </a:lnTo>
                <a:lnTo>
                  <a:pt x="718343" y="692150"/>
                </a:lnTo>
                <a:lnTo>
                  <a:pt x="0" y="692150"/>
                </a:lnTo>
                <a:lnTo>
                  <a:pt x="0" y="519113"/>
                </a:lnTo>
                <a:close/>
              </a:path>
            </a:pathLst>
          </a:custGeom>
          <a:solidFill>
            <a:srgbClr val="fac090"/>
          </a:solidFill>
          <a:ln w="9360">
            <a:solidFill>
              <a:srgbClr val="fac09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46"/>
          <p:cNvSpPr/>
          <p:nvPr/>
        </p:nvSpPr>
        <p:spPr>
          <a:xfrm>
            <a:off x="6237360" y="5950080"/>
            <a:ext cx="18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d-ID" sz="1400" spc="-1" strike="noStrike">
                <a:solidFill>
                  <a:srgbClr val="000000"/>
                </a:solidFill>
                <a:latin typeface="Calibri"/>
              </a:rPr>
              <a:t>Hasil Seleksi Tahap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0 Puskesm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eft Arrow 47"/>
          <p:cNvSpPr/>
          <p:nvPr/>
        </p:nvSpPr>
        <p:spPr>
          <a:xfrm>
            <a:off x="5773680" y="5977080"/>
            <a:ext cx="469800" cy="40464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ounded Rectangle 48"/>
          <p:cNvSpPr/>
          <p:nvPr/>
        </p:nvSpPr>
        <p:spPr>
          <a:xfrm>
            <a:off x="3932280" y="5950080"/>
            <a:ext cx="1754280" cy="5140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Stakeholders Mee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(Jakart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eft Arrow 49"/>
          <p:cNvSpPr/>
          <p:nvPr/>
        </p:nvSpPr>
        <p:spPr>
          <a:xfrm>
            <a:off x="3357720" y="5985000"/>
            <a:ext cx="485640" cy="4064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ounded Rectangle 50"/>
          <p:cNvSpPr/>
          <p:nvPr/>
        </p:nvSpPr>
        <p:spPr>
          <a:xfrm>
            <a:off x="2109960" y="5950080"/>
            <a:ext cx="1177920" cy="5140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MoU Sig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eft Arrow 51"/>
          <p:cNvSpPr/>
          <p:nvPr/>
        </p:nvSpPr>
        <p:spPr>
          <a:xfrm>
            <a:off x="1515960" y="5985000"/>
            <a:ext cx="486000" cy="40644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ounded Rectangle 52"/>
          <p:cNvSpPr/>
          <p:nvPr/>
        </p:nvSpPr>
        <p:spPr>
          <a:xfrm>
            <a:off x="254160" y="5950080"/>
            <a:ext cx="1177920" cy="51408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Open Recrui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ounded Rectangle 53"/>
          <p:cNvSpPr/>
          <p:nvPr/>
        </p:nvSpPr>
        <p:spPr>
          <a:xfrm>
            <a:off x="287280" y="2795760"/>
            <a:ext cx="1214640" cy="3520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Sumber Da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62320" y="456840"/>
            <a:ext cx="53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krutmenTahap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say dan isian, untuk memperoleh gambaran awal mengen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tar belakang akademis, Prestasi, Pengalaman berorganisasi dan beker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tivasi menjadi Pencerah Nusant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mahaman terhadap situasi kesehatan di Indone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ngalaman memberdayakan komuni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ntori baseline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ight Arrow 1"/>
          <p:cNvSpPr/>
          <p:nvPr/>
        </p:nvSpPr>
        <p:spPr>
          <a:xfrm>
            <a:off x="1066680" y="345456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registrasi online.png"/>
          <p:cNvPicPr/>
          <p:nvPr/>
        </p:nvPicPr>
        <p:blipFill>
          <a:blip r:embed="rId1"/>
          <a:stretch/>
        </p:blipFill>
        <p:spPr>
          <a:xfrm>
            <a:off x="3683160" y="4025880"/>
            <a:ext cx="4825800" cy="25779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3"/>
          <p:cNvSpPr/>
          <p:nvPr/>
        </p:nvSpPr>
        <p:spPr>
          <a:xfrm>
            <a:off x="603360" y="4978440"/>
            <a:ext cx="29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.pencerahnusantara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16600" y="4356000"/>
            <a:ext cx="3771720" cy="1930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krutmen Tahap II: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irect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Content Placeholder 3" descr=""/>
          <p:cNvPicPr/>
          <p:nvPr/>
        </p:nvPicPr>
        <p:blipFill>
          <a:blip r:embed="rId1"/>
          <a:stretch/>
        </p:blipFill>
        <p:spPr>
          <a:xfrm>
            <a:off x="3048120" y="1463760"/>
            <a:ext cx="3571920" cy="1736640"/>
          </a:xfrm>
          <a:prstGeom prst="rect">
            <a:avLst/>
          </a:prstGeom>
          <a:ln w="0">
            <a:noFill/>
          </a:ln>
        </p:spPr>
      </p:pic>
      <p:pic>
        <p:nvPicPr>
          <p:cNvPr id="183" name="Diagram 4" descr=""/>
          <p:cNvPicPr/>
          <p:nvPr/>
        </p:nvPicPr>
        <p:blipFill>
          <a:blip r:embed="rId2"/>
          <a:stretch/>
        </p:blipFill>
        <p:spPr>
          <a:xfrm>
            <a:off x="-3078000" y="4486320"/>
            <a:ext cx="10496520" cy="22924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618840" y="389556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kasi Selek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5422680" y="4365720"/>
            <a:ext cx="25610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tra Seleks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rganisasi Profe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embaga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rganisasi Masyarakat Sip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titusi Akadem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kademi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aktisi Med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Oval 8"/>
          <p:cNvSpPr/>
          <p:nvPr/>
        </p:nvSpPr>
        <p:spPr>
          <a:xfrm rot="376200">
            <a:off x="1065240" y="1415520"/>
            <a:ext cx="7378560" cy="4900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Oval 7"/>
          <p:cNvSpPr/>
          <p:nvPr/>
        </p:nvSpPr>
        <p:spPr>
          <a:xfrm rot="1831200">
            <a:off x="2174400" y="1781280"/>
            <a:ext cx="5504040" cy="3968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2987640" y="1989000"/>
            <a:ext cx="17287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Kompetensi Bas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2714760" y="3594240"/>
            <a:ext cx="32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Keterampilan &amp; Pengetahuan Med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Nasionalisme dan Bela Nega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5292720" y="2781360"/>
            <a:ext cx="172728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Kompetensi Pers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4335480" y="4187880"/>
            <a:ext cx="324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Ketanggu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Membangun komit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Memulai ak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Mengambil keputus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Kemampuan komunika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Kepekaan sosial dan buda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Manajemen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Menghasilkan dampak dan anali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1116000" y="3332160"/>
            <a:ext cx="36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Membin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hubunga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interperson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3710160" y="5915160"/>
            <a:ext cx="31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Kreatifitas dan Inovas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1908000" y="4734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Kolaboras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2732760" y="38736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ompetensi yang Dig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latihan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eluaran yang diharapk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Content Placeholder 5" descr=""/>
          <p:cNvPicPr/>
          <p:nvPr/>
        </p:nvPicPr>
        <p:blipFill>
          <a:blip r:embed="rId1"/>
          <a:stretch/>
        </p:blipFill>
        <p:spPr>
          <a:xfrm>
            <a:off x="396720" y="1560600"/>
            <a:ext cx="8350560" cy="464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teri Pelatih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Content Placeholder 2" descr=""/>
          <p:cNvPicPr/>
          <p:nvPr/>
        </p:nvPicPr>
        <p:blipFill>
          <a:blip r:embed="rId1"/>
          <a:stretch/>
        </p:blipFill>
        <p:spPr>
          <a:xfrm>
            <a:off x="444600" y="1596960"/>
            <a:ext cx="8254800" cy="4529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169920" y="160200"/>
          <a:ext cx="8686800" cy="6464520"/>
        </p:xfrm>
        <a:graphic>
          <a:graphicData uri="http://schemas.openxmlformats.org/drawingml/2006/table">
            <a:tbl>
              <a:tblPr/>
              <a:tblGrid>
                <a:gridCol w="1736640"/>
                <a:gridCol w="1736640"/>
                <a:gridCol w="2076480"/>
                <a:gridCol w="2009880"/>
                <a:gridCol w="11271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kas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rakteristik wilay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masalahan Ut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vensi Kun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ihak-pihak yang terlib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13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ran tinggi / Pegunung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lanan menanjak dan berkelok-kelok. Mayoritas penduduk bermatapencaharian pet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pa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o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ivasi SDM puskesm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olahan samp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ndalian tembak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baikan manajemen puskesm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merintah daerah, dinas pendidikan, dinas kesehatan, LSM, sekol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4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pulauan dan pesis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oritas penduduk bermatapencaharian nelay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terbatasan akses transporta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okan listrik dan BBM terba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M terba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okasi ke pem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okasi ke pihak terka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baikan manajemen puskesm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ban /semi-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erah yg berada di antara desa dan k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BS rend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nikahan di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dahnya lintas sek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sialisasi edukas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der seba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okasi ke berbagai sek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4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ar pemukiman jaraknya berjauh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terbatasan akses transporta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okan listrik dan BBM terba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BS rend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okasi ke pem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okasi ke pihak terkai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sialisasi edukas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09:04:58Z</dcterms:created>
  <dc:creator>Adi Sarosa</dc:creator>
  <dc:description/>
  <dc:language>en-US</dc:language>
  <cp:lastModifiedBy>Anindita Sitepu</cp:lastModifiedBy>
  <dcterms:modified xsi:type="dcterms:W3CDTF">2015-01-02T02:00:21Z</dcterms:modified>
  <cp:revision>109</cp:revision>
  <dc:subject/>
  <dc:title>PowerPoint Presentation</dc:title>
</cp:coreProperties>
</file>