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52742-DC07-4350-A053-4878B2D32451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Laporan Basedline Assessment yang memuat Plan of Action dan Pemetaa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Laporan Kuartal - memantau perkembangan program inovatif dan program revitalisasi puskesmas setiap tiga bulan : Indikator Keberhasilan, Capaian Kuartal, Rencana Tindak Lanc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Laporan Endline - Assessment : memuat Pemetaan Program dan Rencana Tindak Lanjut Berkesinambun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Laporan Survei Kesehatan Masyarakat : informasi status kesehatan masyarakat tingkat kecamatan untuk melihat prioritas rencana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469B5-D501-4CC7-8195-27A217C12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5FB85-8745-4F21-967E-5D932A20E3BC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861-5D04-43F5-B580-D6B9A35F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566-6E2D-457F-894A-C079469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6D2-A7E4-44F8-8EF6-28518C3C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F82-170C-44D9-B899-7A94C724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273-13FF-42F9-A6BB-117E555C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B9AE-E692-4CE7-B839-D8B41E04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586C-6F3A-4889-9944-E0610C9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38D-39E7-4E56-99B1-8442DD91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757E-C35D-473A-9FB3-F1E9D32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D70A-D1A9-4C27-8568-2C1FD77F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052-6AB2-4498-AD4D-8F015A2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393-57EC-43F8-8C23-16F6649D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427-C1CD-4985-813B-80FDE381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9C3F-E31D-4FE0-93F2-7C911C7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0E0E-DE7D-4E95-B8B9-A0BE762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4DC5-72C8-4354-9AEB-14170695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DA37-9CE2-4EB6-A2D5-DC06C3EE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9172-53E9-48BD-870A-8D78A1A0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124D-9F96-4447-BBF2-8C636FA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BC24-BB78-41D2-9A6D-6A452DA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1A5E-28BC-4516-B296-939D976C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8D33-9975-4101-96C0-042CFB41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15A-4B7D-4E5C-9A5E-C346368F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D09C-436B-4B26-9FD6-E5456E3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4E5D-A282-4FB4-BB29-8205FC8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7B059-264D-4760-9276-74D049E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BC0D-42BB-478C-BF77-5E541B1B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A9D1-014E-46C8-922F-DD7CFEB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9C5E-9053-4CAD-8254-20BDB1D9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3006-8EFE-4761-BFAF-A6DBC5B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3FD-73DC-45EF-B8D5-B40063C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681-43E4-4732-AB14-0D56F863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8A1-17F2-4253-B2CB-FCB0AF0A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94D-A88A-459B-A3A6-EF5EFBA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D5A-47AF-4E90-ABDF-5D1ED90B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CF7-54F5-414C-8EC6-022A6F2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B17D8-BF24-4539-9E59-463A3744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C:\Users\HP\Desktop\Logo 2.png"/>
          <p:cNvPicPr/>
          <p:nvPr/>
        </p:nvPicPr>
        <p:blipFill>
          <a:blip r:embed="rId4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-177840" y="120600"/>
            <a:ext cx="2084400" cy="1036080"/>
            <a:chOff x="-177840" y="120600"/>
            <a:chExt cx="2084400" cy="1036080"/>
          </a:xfrm>
        </p:grpSpPr>
        <p:pic>
          <p:nvPicPr>
            <p:cNvPr id="48" name="Picture 3" descr="logo garuda polos"/>
            <p:cNvPicPr/>
            <p:nvPr/>
          </p:nvPicPr>
          <p:blipFill>
            <a:blip r:embed="rId5"/>
            <a:stretch/>
          </p:blipFill>
          <p:spPr>
            <a:xfrm>
              <a:off x="516600" y="120600"/>
              <a:ext cx="751680" cy="6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17"/>
            <p:cNvSpPr/>
            <p:nvPr/>
          </p:nvSpPr>
          <p:spPr>
            <a:xfrm>
              <a:off x="-177840" y="819360"/>
              <a:ext cx="208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libri"/>
                </a:rPr>
                <a:t>Office of the President’ Special Envoy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libri"/>
                </a:rPr>
                <a:t>On Millennium Development Goal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1FD0D-3A11-45AC-8B70-8400B2A89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C:\Users\HP\Desktop\Logo 2.png"/>
          <p:cNvPicPr/>
          <p:nvPr/>
        </p:nvPicPr>
        <p:blipFill>
          <a:blip r:embed="rId2"/>
          <a:stretch/>
        </p:blipFill>
        <p:spPr>
          <a:xfrm>
            <a:off x="7529400" y="31680"/>
            <a:ext cx="1595520" cy="123840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8"/>
          <p:cNvSpPr/>
          <p:nvPr/>
        </p:nvSpPr>
        <p:spPr>
          <a:xfrm>
            <a:off x="114480" y="1270080"/>
            <a:ext cx="86198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Logo CISDI_Rev2-01.jpg"/>
          <p:cNvPicPr/>
          <p:nvPr/>
        </p:nvPicPr>
        <p:blipFill>
          <a:blip r:embed="rId3"/>
          <a:stretch/>
        </p:blipFill>
        <p:spPr>
          <a:xfrm>
            <a:off x="291960" y="241200"/>
            <a:ext cx="229896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CAB61-8D8D-414F-AC4A-E8D2396C445F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ses Implement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HP\Desktop\Logo 2.png"/>
          <p:cNvPicPr/>
          <p:nvPr/>
        </p:nvPicPr>
        <p:blipFill>
          <a:blip r:embed="rId1"/>
          <a:stretch/>
        </p:blipFill>
        <p:spPr>
          <a:xfrm>
            <a:off x="2257560" y="2082960"/>
            <a:ext cx="45194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ode Mo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762120" y="1866960"/>
            <a:ext cx="7137360" cy="3479760"/>
            <a:chOff x="762120" y="1866960"/>
            <a:chExt cx="7137360" cy="3479760"/>
          </a:xfrm>
        </p:grpSpPr>
        <p:sp>
          <p:nvSpPr>
            <p:cNvPr id="203" name="Rectangle 4"/>
            <p:cNvSpPr/>
            <p:nvPr/>
          </p:nvSpPr>
          <p:spPr>
            <a:xfrm>
              <a:off x="762120" y="4338720"/>
              <a:ext cx="146844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Quarterly Repo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3616560" y="4338720"/>
              <a:ext cx="131112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Site Visi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6402600" y="4338720"/>
              <a:ext cx="149688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Evaluation from Key stakeholder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3502080" y="1866960"/>
              <a:ext cx="1611360" cy="12366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ＭＳ 明朝"/>
                </a:rPr>
                <a:t>Mone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8"/>
            <p:cNvSpPr/>
            <p:nvPr/>
          </p:nvSpPr>
          <p:spPr>
            <a:xfrm flipH="1">
              <a:off x="1568160" y="3103560"/>
              <a:ext cx="273852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9"/>
            <p:cNvSpPr/>
            <p:nvPr/>
          </p:nvSpPr>
          <p:spPr>
            <a:xfrm>
              <a:off x="4307040" y="3103560"/>
              <a:ext cx="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10"/>
            <p:cNvSpPr/>
            <p:nvPr/>
          </p:nvSpPr>
          <p:spPr>
            <a:xfrm>
              <a:off x="4307040" y="3103560"/>
              <a:ext cx="2900160" cy="123516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tângulo de cantos arredondados 33"/>
          <p:cNvSpPr/>
          <p:nvPr/>
        </p:nvSpPr>
        <p:spPr>
          <a:xfrm>
            <a:off x="347760" y="3986280"/>
            <a:ext cx="2369880" cy="162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tângulo de cantos arredondados 33"/>
          <p:cNvSpPr/>
          <p:nvPr/>
        </p:nvSpPr>
        <p:spPr>
          <a:xfrm>
            <a:off x="3314880" y="3986280"/>
            <a:ext cx="4838400" cy="162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605520" y="361800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nal Mon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6245280" y="3618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ksternal Mon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806400" y="5753160"/>
            <a:ext cx="1522440" cy="9018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nitoring dan evaluasi Kinerja T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432320" y="5676840"/>
            <a:ext cx="2641680" cy="8892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dan Evaluasi Perkembangan Individu dan hubungan kerja dengan pemangku kepentin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345600"/>
            <a:ext cx="7696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2863080" y="140328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metaan Monitoring and Eval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2"/>
          <p:cNvGrpSpPr/>
          <p:nvPr/>
        </p:nvGrpSpPr>
        <p:grpSpPr>
          <a:xfrm>
            <a:off x="0" y="1849320"/>
            <a:ext cx="9144000" cy="4759560"/>
            <a:chOff x="0" y="1849320"/>
            <a:chExt cx="9144000" cy="4759560"/>
          </a:xfrm>
        </p:grpSpPr>
        <p:pic>
          <p:nvPicPr>
            <p:cNvPr id="219" name="Picture 3" descr="Monitoring and Evaluation Strategy.png"/>
            <p:cNvPicPr/>
            <p:nvPr/>
          </p:nvPicPr>
          <p:blipFill>
            <a:blip r:embed="rId1"/>
            <a:stretch/>
          </p:blipFill>
          <p:spPr>
            <a:xfrm>
              <a:off x="0" y="1849320"/>
              <a:ext cx="9144000" cy="47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"/>
            <p:cNvSpPr/>
            <p:nvPr/>
          </p:nvSpPr>
          <p:spPr>
            <a:xfrm>
              <a:off x="7454880" y="2552400"/>
              <a:ext cx="1549440" cy="3797640"/>
            </a:xfrm>
            <a:prstGeom prst="rect">
              <a:avLst/>
            </a:prstGeom>
            <a:gradFill rotWithShape="0">
              <a:gsLst>
                <a:gs pos="0">
                  <a:srgbClr val="ededed"/>
                </a:gs>
                <a:gs pos="100000">
                  <a:srgbClr val="bcbcb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keholders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quality local healthcare professional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ustainable collaboration among stakeholder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egenerating of local champion pass through gener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Facilities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quality servic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Standardized  facilitie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Reduction in: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Maternal mortality rat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Disease Prevalenc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Healthy life styl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Improvement in environmental health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85680" y="371160"/>
            <a:ext cx="5105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OOLS MONE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Diagram 5" descr=""/>
          <p:cNvPicPr/>
          <p:nvPr/>
        </p:nvPicPr>
        <p:blipFill>
          <a:blip r:embed="rId1"/>
          <a:stretch/>
        </p:blipFill>
        <p:spPr>
          <a:xfrm>
            <a:off x="987480" y="0"/>
            <a:ext cx="7607160" cy="571824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le 7"/>
          <p:cNvSpPr/>
          <p:nvPr/>
        </p:nvSpPr>
        <p:spPr>
          <a:xfrm>
            <a:off x="3029040" y="6095880"/>
            <a:ext cx="3962160" cy="514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PORTOFOLIO T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ight Brace 8"/>
          <p:cNvSpPr/>
          <p:nvPr/>
        </p:nvSpPr>
        <p:spPr>
          <a:xfrm rot="5400000">
            <a:off x="4714560" y="2904840"/>
            <a:ext cx="685800" cy="561996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5619960"/>
              <a:gd name="textAreaBottom" fmla="*/ 5602320 h 561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16200" y="10800"/>
                  <a:pt x="21600" y="10800"/>
                </a:cubicBezTo>
                <a:cubicBezTo>
                  <a:pt x="162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d-ID" sz="44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C:\Users\HP\Pictures\Lokasi PN Angkatan IV.png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RAB PN Fix INA.png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hapan implement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5" descr=""/>
          <p:cNvPicPr/>
          <p:nvPr/>
        </p:nvPicPr>
        <p:blipFill>
          <a:blip r:embed="rId1"/>
          <a:stretch/>
        </p:blipFill>
        <p:spPr>
          <a:xfrm>
            <a:off x="414360" y="1596960"/>
            <a:ext cx="831528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Bent-Up Arrow 42"/>
          <p:cNvSpPr/>
          <p:nvPr/>
        </p:nvSpPr>
        <p:spPr>
          <a:xfrm flipV="1">
            <a:off x="8085240" y="2345760"/>
            <a:ext cx="731880" cy="2460600"/>
          </a:xfrm>
          <a:custGeom>
            <a:avLst/>
            <a:gdLst/>
            <a:ahLst/>
            <a:rect l="l" t="t" r="r" b="b"/>
            <a:pathLst>
              <a:path w="731837" h="2460625">
                <a:moveTo>
                  <a:pt x="0" y="2277666"/>
                </a:moveTo>
                <a:lnTo>
                  <a:pt x="470469" y="2277666"/>
                </a:lnTo>
                <a:lnTo>
                  <a:pt x="470469" y="182959"/>
                </a:lnTo>
                <a:lnTo>
                  <a:pt x="392060" y="182959"/>
                </a:lnTo>
                <a:lnTo>
                  <a:pt x="561948" y="0"/>
                </a:lnTo>
                <a:lnTo>
                  <a:pt x="731837" y="182959"/>
                </a:lnTo>
                <a:lnTo>
                  <a:pt x="653428" y="182959"/>
                </a:lnTo>
                <a:lnTo>
                  <a:pt x="653428" y="2460625"/>
                </a:lnTo>
                <a:lnTo>
                  <a:pt x="0" y="2460625"/>
                </a:lnTo>
                <a:lnTo>
                  <a:pt x="0" y="2277666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30320" y="1405080"/>
            <a:ext cx="1581120" cy="374148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880" y="19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Alur Penentuan Lokasi Intervensi </a:t>
            </a:r>
            <a:br>
              <a:rPr sz="2800"/>
            </a:b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Berbasis Tim Interprofe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ounded Rectangle 3"/>
          <p:cNvSpPr/>
          <p:nvPr/>
        </p:nvSpPr>
        <p:spPr>
          <a:xfrm>
            <a:off x="287280" y="1547640"/>
            <a:ext cx="1214640" cy="320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emograf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ounded Rectangle 4"/>
          <p:cNvSpPr/>
          <p:nvPr/>
        </p:nvSpPr>
        <p:spPr>
          <a:xfrm>
            <a:off x="287280" y="1962000"/>
            <a:ext cx="1214640" cy="7034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tatus Kesehatan Masyara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ounded Rectangle 5"/>
          <p:cNvSpPr/>
          <p:nvPr/>
        </p:nvSpPr>
        <p:spPr>
          <a:xfrm>
            <a:off x="287280" y="3265560"/>
            <a:ext cx="1214640" cy="522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eterminan So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6"/>
          <p:cNvSpPr/>
          <p:nvPr/>
        </p:nvSpPr>
        <p:spPr>
          <a:xfrm>
            <a:off x="287280" y="389268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Pemetaan Mi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8"/>
          <p:cNvSpPr/>
          <p:nvPr/>
        </p:nvSpPr>
        <p:spPr>
          <a:xfrm>
            <a:off x="287280" y="446724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Data Interve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ight Arrow 9"/>
          <p:cNvSpPr/>
          <p:nvPr/>
        </p:nvSpPr>
        <p:spPr>
          <a:xfrm>
            <a:off x="2187720" y="2743200"/>
            <a:ext cx="59508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52560" y="5186520"/>
            <a:ext cx="175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Baseline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120 Puskesmas DTP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1811160" y="3490920"/>
            <a:ext cx="1206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Analisis data kuant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Calibri"/>
              </a:rPr>
              <a:t>Sistem Skor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278160" y="2463840"/>
            <a:ext cx="91440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278160" y="2955960"/>
            <a:ext cx="914400" cy="357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278160" y="3479760"/>
            <a:ext cx="914400" cy="355680"/>
          </a:xfrm>
          <a:prstGeom prst="rect">
            <a:avLst/>
          </a:prstGeom>
          <a:solidFill>
            <a:srgbClr val="00b050"/>
          </a:solidFill>
          <a:ln w="9360">
            <a:solidFill>
              <a:srgbClr val="6cbd1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2855880" y="3987720"/>
            <a:ext cx="17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Hasil Seleksi Tahap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70 Puskes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ight Arrow 16"/>
          <p:cNvSpPr/>
          <p:nvPr/>
        </p:nvSpPr>
        <p:spPr>
          <a:xfrm>
            <a:off x="4435560" y="2743200"/>
            <a:ext cx="59364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186520" y="1944720"/>
            <a:ext cx="3160440" cy="96840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ounded Rectangle 18"/>
          <p:cNvSpPr/>
          <p:nvPr/>
        </p:nvSpPr>
        <p:spPr>
          <a:xfrm>
            <a:off x="5343480" y="2243160"/>
            <a:ext cx="952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Kunjungan lok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35"/>
          <p:cNvSpPr/>
          <p:nvPr/>
        </p:nvSpPr>
        <p:spPr>
          <a:xfrm>
            <a:off x="6440400" y="2243160"/>
            <a:ext cx="979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Wawanc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36"/>
          <p:cNvSpPr/>
          <p:nvPr/>
        </p:nvSpPr>
        <p:spPr>
          <a:xfrm>
            <a:off x="7562880" y="2301840"/>
            <a:ext cx="654120" cy="3189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FG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5340240" y="2975040"/>
            <a:ext cx="283680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Calibri"/>
              </a:rPr>
              <a:t>Verifikasi data kuant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Calibri"/>
              </a:rPr>
              <a:t>Pengumpulan Data Kual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Komitmen pemerintah daera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Analisis peran bantu dan potensi konflik antar pemangku kepenting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Identifikasi modal sosi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Partisipasi publ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Dinamika buda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3"/>
          <p:cNvSpPr/>
          <p:nvPr/>
        </p:nvSpPr>
        <p:spPr>
          <a:xfrm>
            <a:off x="7889760" y="49244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Analisis data kualit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Bent-Up Arrow 45"/>
          <p:cNvSpPr/>
          <p:nvPr/>
        </p:nvSpPr>
        <p:spPr>
          <a:xfrm flipH="1" rot="16200000">
            <a:off x="7997040" y="5608080"/>
            <a:ext cx="804960" cy="691920"/>
          </a:xfrm>
          <a:custGeom>
            <a:avLst/>
            <a:gdLst/>
            <a:ahLst/>
            <a:rect l="l" t="t" r="r" b="b"/>
            <a:pathLst>
              <a:path w="804862" h="692150">
                <a:moveTo>
                  <a:pt x="0" y="519113"/>
                </a:moveTo>
                <a:lnTo>
                  <a:pt x="545306" y="519113"/>
                </a:lnTo>
                <a:lnTo>
                  <a:pt x="545306" y="173038"/>
                </a:lnTo>
                <a:lnTo>
                  <a:pt x="458787" y="173038"/>
                </a:lnTo>
                <a:lnTo>
                  <a:pt x="631825" y="0"/>
                </a:lnTo>
                <a:lnTo>
                  <a:pt x="804862" y="173038"/>
                </a:lnTo>
                <a:lnTo>
                  <a:pt x="718343" y="173038"/>
                </a:lnTo>
                <a:lnTo>
                  <a:pt x="718343" y="692150"/>
                </a:lnTo>
                <a:lnTo>
                  <a:pt x="0" y="692150"/>
                </a:lnTo>
                <a:lnTo>
                  <a:pt x="0" y="519113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6237360" y="5950080"/>
            <a:ext cx="18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Calibri"/>
              </a:rPr>
              <a:t>Hasil Seleksi Tahap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0 Puskes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eft Arrow 47"/>
          <p:cNvSpPr/>
          <p:nvPr/>
        </p:nvSpPr>
        <p:spPr>
          <a:xfrm>
            <a:off x="5773680" y="5977080"/>
            <a:ext cx="469800" cy="404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ounded Rectangle 48"/>
          <p:cNvSpPr/>
          <p:nvPr/>
        </p:nvSpPr>
        <p:spPr>
          <a:xfrm>
            <a:off x="3932280" y="5950080"/>
            <a:ext cx="175428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takeholders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(Jakar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eft Arrow 49"/>
          <p:cNvSpPr/>
          <p:nvPr/>
        </p:nvSpPr>
        <p:spPr>
          <a:xfrm>
            <a:off x="3357720" y="5985000"/>
            <a:ext cx="485640" cy="406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ounded Rectangle 50"/>
          <p:cNvSpPr/>
          <p:nvPr/>
        </p:nvSpPr>
        <p:spPr>
          <a:xfrm>
            <a:off x="21099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MoU 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eft Arrow 51"/>
          <p:cNvSpPr/>
          <p:nvPr/>
        </p:nvSpPr>
        <p:spPr>
          <a:xfrm>
            <a:off x="1515960" y="5985000"/>
            <a:ext cx="486000" cy="40644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ounded Rectangle 52"/>
          <p:cNvSpPr/>
          <p:nvPr/>
        </p:nvSpPr>
        <p:spPr>
          <a:xfrm>
            <a:off x="2541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Open Recrui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ounded Rectangle 53"/>
          <p:cNvSpPr/>
          <p:nvPr/>
        </p:nvSpPr>
        <p:spPr>
          <a:xfrm>
            <a:off x="287280" y="2795760"/>
            <a:ext cx="1214640" cy="352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Calibri"/>
              </a:rPr>
              <a:t>Sumber Da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krutmenTahap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say dan isian, untuk memperoleh gambaran awal mengen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ar belakang akademis, Prestasi, Pengalaman berorganisasi dan beker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vasi menjadi Pencerah Nusant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mahaman terhadap situasi kesehatan di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ngalaman memberdayakan komuni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entori baseline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ight Arrow 1"/>
          <p:cNvSpPr/>
          <p:nvPr/>
        </p:nvSpPr>
        <p:spPr>
          <a:xfrm>
            <a:off x="1066680" y="3454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registrasi online.png"/>
          <p:cNvPicPr/>
          <p:nvPr/>
        </p:nvPicPr>
        <p:blipFill>
          <a:blip r:embed="rId1"/>
          <a:stretch/>
        </p:blipFill>
        <p:spPr>
          <a:xfrm>
            <a:off x="3683160" y="4025880"/>
            <a:ext cx="4825800" cy="2577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603360" y="497844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pencerahnusantar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016600" y="4356000"/>
            <a:ext cx="3771720" cy="1930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krutmen Tahap II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rect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3" descr=""/>
          <p:cNvPicPr/>
          <p:nvPr/>
        </p:nvPicPr>
        <p:blipFill>
          <a:blip r:embed="rId1"/>
          <a:stretch/>
        </p:blipFill>
        <p:spPr>
          <a:xfrm>
            <a:off x="3048120" y="1463760"/>
            <a:ext cx="3571920" cy="1736640"/>
          </a:xfrm>
          <a:prstGeom prst="rect">
            <a:avLst/>
          </a:prstGeom>
          <a:ln w="0">
            <a:noFill/>
          </a:ln>
        </p:spPr>
      </p:pic>
      <p:pic>
        <p:nvPicPr>
          <p:cNvPr id="183" name="Diagram 4" descr=""/>
          <p:cNvPicPr/>
          <p:nvPr/>
        </p:nvPicPr>
        <p:blipFill>
          <a:blip r:embed="rId2"/>
          <a:stretch/>
        </p:blipFill>
        <p:spPr>
          <a:xfrm>
            <a:off x="-3078000" y="4486320"/>
            <a:ext cx="10496520" cy="22924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618840" y="389556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kasi Selek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422680" y="4365720"/>
            <a:ext cx="25610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tra Seleks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ganisasi Profe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embaga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ganisasi Masyarakat Sip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titusi Akadem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kademi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aktisi 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8"/>
          <p:cNvSpPr/>
          <p:nvPr/>
        </p:nvSpPr>
        <p:spPr>
          <a:xfrm rot="376200">
            <a:off x="1065240" y="1415520"/>
            <a:ext cx="7378560" cy="4900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Oval 7"/>
          <p:cNvSpPr/>
          <p:nvPr/>
        </p:nvSpPr>
        <p:spPr>
          <a:xfrm rot="1831200">
            <a:off x="2174400" y="1781280"/>
            <a:ext cx="5504040" cy="3968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987640" y="1989000"/>
            <a:ext cx="1728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Kompetensi Ba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2714760" y="3594240"/>
            <a:ext cx="32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terampilan &amp; Pengetahuan Med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Nasionalisme dan Bela Nega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5292720" y="2781360"/>
            <a:ext cx="1727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Kompetensi Pers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335480" y="4187880"/>
            <a:ext cx="32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tanggu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mbangun komit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mulai ak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ngambil keputus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mampuan komunik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Kepekaan sosial dan buda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anajeme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enghasilkan dampak dan anali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116000" y="3332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mbi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hubunga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interperson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710160" y="5915160"/>
            <a:ext cx="31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reatifitas dan Inova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1908000" y="4734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olabora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2732760" y="38736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ompetensi yang Dig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latihan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luaran yang diharap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Content Placeholder 5" descr=""/>
          <p:cNvPicPr/>
          <p:nvPr/>
        </p:nvPicPr>
        <p:blipFill>
          <a:blip r:embed="rId1"/>
          <a:stretch/>
        </p:blipFill>
        <p:spPr>
          <a:xfrm>
            <a:off x="396720" y="1560600"/>
            <a:ext cx="835056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i Pelat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Content Placeholder 2" descr=""/>
          <p:cNvPicPr/>
          <p:nvPr/>
        </p:nvPicPr>
        <p:blipFill>
          <a:blip r:embed="rId1"/>
          <a:stretch/>
        </p:blipFill>
        <p:spPr>
          <a:xfrm>
            <a:off x="444600" y="1596960"/>
            <a:ext cx="8254800" cy="452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69920" y="160200"/>
          <a:ext cx="8686800" cy="6464520"/>
        </p:xfrm>
        <a:graphic>
          <a:graphicData uri="http://schemas.openxmlformats.org/drawingml/2006/table">
            <a:tbl>
              <a:tblPr/>
              <a:tblGrid>
                <a:gridCol w="1736640"/>
                <a:gridCol w="1736640"/>
                <a:gridCol w="2076480"/>
                <a:gridCol w="2009880"/>
                <a:gridCol w="1127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ka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rakteristik wilay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masalahan Ut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si Ku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hak-pihak yang terlib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ran tinggi / Pegunung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lanan menanjak dan berkelok-kelok. Mayoritas penduduk bermatapencaharian pe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a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o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si SDM puskes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olahan samp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ndalian tembak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baikan manajemen puskes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merintah daerah, dinas pendidikan, dinas kesehatan, LSM, sekol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pulauan dan pesis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oritas penduduk bermatapencaharian nela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terbatasan akses transporta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okan listrik dan BB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em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ihak terka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baikan manajemen puskes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ban /semi-ur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erah yg berada di antara desa dan 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BS rend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nikahan d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hnya lintas s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ialisasi eduka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der seba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berbagai s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ar pemukiman jaraknya berj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terbatasan akses transporta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okan listrik dan BBM terb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BS renda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em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okasi ke pihak terka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ialisasi eduka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09:04:58Z</dcterms:created>
  <dc:creator>Adi Sarosa</dc:creator>
  <dc:description/>
  <dc:language>en-US</dc:language>
  <cp:lastModifiedBy>Anindita Sitepu</cp:lastModifiedBy>
  <dcterms:modified xsi:type="dcterms:W3CDTF">2015-01-02T02:00:21Z</dcterms:modified>
  <cp:revision>109</cp:revision>
  <dc:subject/>
  <dc:title>PowerPoint Presentation</dc:title>
</cp:coreProperties>
</file>