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bv cbcze fgdljk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a3632"/>
                </a:solidFill>
                <a:latin typeface="Arial"/>
              </a:rPr>
              <a:t>Page </a:t>
            </a:r>
            <a:fld id="{BFC0D673-FC69-4638-A83A-9A4C817EFB29}" type="slidenum">
              <a:rPr b="1" lang="fr-FR" sz="1800" spc="-1" strike="noStrike">
                <a:solidFill>
                  <a:srgbClr val="ba363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6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5" descr="vbnvbnry trdsq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-36360" y="260280"/>
            <a:ext cx="410364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1517"/>
                </a:solidFill>
                <a:latin typeface="Arial"/>
              </a:rPr>
              <a:t>Penyusunan Draft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1517"/>
                </a:solidFill>
                <a:latin typeface="Arial"/>
              </a:rPr>
              <a:t>Peraturan Bersama 3 Menter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-108000" y="558972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1517"/>
                </a:solidFill>
                <a:latin typeface="Arial"/>
              </a:rPr>
              <a:t>Perencanaan dan Pemerataan Tenaga Kesehatan di Fasilitas Pelayanan Kesehatan Mil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1517"/>
                </a:solidFill>
                <a:latin typeface="Arial"/>
              </a:rPr>
              <a:t>Pemerintah Dae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ae1517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ae1517"/>
                </a:solidFill>
                <a:latin typeface="Arial"/>
              </a:rPr>
              <a:t>ertimbangan penyusunan Peraturan Bersama 3 Menteri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24000" y="1969920"/>
            <a:ext cx="663912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Surat Edaran Mendagri Nomor 440/8135/2013 tentang Optimalisasi JKN dimana salah satu poinnya adalah distribusi &amp; redistribu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menuhan SDMK di daerah, bukan semata-mata kewajiban Kem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s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, terutama daerah-daerah sul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lum ada dasar hukum yang kuat untuk “menahan” pegawai yang ingin mengajukan pinda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916280"/>
            <a:ext cx="82296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93560" indent="-49356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533520"/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Kemenkes </a:t>
            </a:r>
            <a:r>
              <a:rPr b="0" lang="id-ID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 tehnical asisstan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533520"/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KemenPAN &amp; RB</a:t>
            </a:r>
            <a:r>
              <a:rPr b="0" lang="id-ID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 penyedia formas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533520"/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Kemendagri</a:t>
            </a:r>
            <a:r>
              <a:rPr b="0" lang="id-ID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 pemberi instruks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595440"/>
            <a:ext cx="83059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e1517"/>
                </a:solidFill>
                <a:latin typeface="Arial"/>
              </a:rPr>
              <a:t>Peran 3 Kementerian dalam P</a:t>
            </a:r>
            <a:r>
              <a:rPr b="0" lang="id-ID" sz="3600" spc="-1" strike="noStrike">
                <a:solidFill>
                  <a:srgbClr val="ae1517"/>
                </a:solidFill>
                <a:latin typeface="Arial"/>
              </a:rPr>
              <a:t>BM ini </a:t>
            </a:r>
            <a:r>
              <a:rPr b="0" lang="en-US" sz="3600" spc="-1" strike="noStrike">
                <a:solidFill>
                  <a:srgbClr val="ae1517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ae1517"/>
                </a:solidFill>
                <a:latin typeface="Arial"/>
              </a:rPr>
              <a:t>Perkembangan Peraturan Bersama</a:t>
            </a:r>
            <a:r>
              <a:rPr b="0" lang="en-US" sz="4000" spc="-1" strike="noStrike">
                <a:solidFill>
                  <a:srgbClr val="ae151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50560" y="990360"/>
            <a:ext cx="6985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lah kementerian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 dari 5 menja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menterian Keseh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menterian Dalam Neg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menterian PAN dan 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npa Kemendikbud &amp; Kemk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ubahan judul menjadi: </a:t>
            </a: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Perencanaan dan Pemerataan Tenaga Kesehatan di Fasilitas Pelayanan Kesehatan Milik Pemerintah Dae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yesuaian substansi  terkait perubahan judul (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slide berikutny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ae1517"/>
                </a:solidFill>
                <a:latin typeface="Arial"/>
              </a:rPr>
              <a:t>Perkembangan Peraturan Bersama</a:t>
            </a:r>
            <a:r>
              <a:rPr b="0" lang="en-US" sz="4000" spc="-1" strike="noStrike">
                <a:solidFill>
                  <a:srgbClr val="ae151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444600" y="1176480"/>
            <a:ext cx="825480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467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1517"/>
                </a:solidFill>
                <a:latin typeface="Rockwell Extra Bold"/>
              </a:rPr>
              <a:t>TERIMA   KASI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F:\BlackBerry\pictures\IMG01329-20131108-1220.jpg"/>
          <p:cNvPicPr/>
          <p:nvPr/>
        </p:nvPicPr>
        <p:blipFill>
          <a:blip r:embed="rId1"/>
          <a:stretch/>
        </p:blipFill>
        <p:spPr>
          <a:xfrm>
            <a:off x="4670280" y="582480"/>
            <a:ext cx="4240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Salvatore Vuono / FreeDigitalPhotos.net</dc:description>
  <dc:language>en-US</dc:language>
  <cp:lastModifiedBy>user</cp:lastModifiedBy>
  <dcterms:modified xsi:type="dcterms:W3CDTF">2013-12-27T12:47:45Z</dcterms:modified>
  <cp:revision>45</cp:revision>
  <dc:subject/>
  <dc:title>Atom and Molecules</dc:title>
</cp:coreProperties>
</file>