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0.gif" ContentType="image/gif"/>
  <Override PartName="/ppt/media/image12.jpeg" ContentType="image/jpeg"/>
  <Override PartName="/ppt/media/image9.gif" ContentType="image/gif"/>
  <Override PartName="/ppt/media/image8.png" ContentType="image/png"/>
  <Override PartName="/ppt/media/image14.jpeg" ContentType="image/jpeg"/>
  <Override PartName="/ppt/media/image6.jpeg" ContentType="image/jpeg"/>
  <Override PartName="/ppt/media/image5.jpeg" ContentType="image/jpeg"/>
  <Override PartName="/ppt/media/image4.png" ContentType="image/png"/>
  <Override PartName="/ppt/media/image24.gif" ContentType="image/gif"/>
  <Override PartName="/ppt/media/image3.png" ContentType="image/png"/>
  <Override PartName="/ppt/media/image11.png" ContentType="image/png"/>
  <Override PartName="/ppt/media/image19.jpeg" ContentType="image/jpeg"/>
  <Override PartName="/ppt/media/image26.gif" ContentType="image/gif"/>
  <Override PartName="/ppt/media/image20.jpeg" ContentType="image/jpeg"/>
  <Override PartName="/ppt/media/image23.jpeg" ContentType="image/jpeg"/>
  <Override PartName="/ppt/media/image18.jpeg" ContentType="image/jpeg"/>
  <Override PartName="/ppt/media/image22.gif" ContentType="image/gif"/>
  <Override PartName="/ppt/media/image17.gif" ContentType="image/gif"/>
  <Override PartName="/ppt/media/image21.png" ContentType="image/png"/>
  <Override PartName="/ppt/media/image16.gif" ContentType="image/gif"/>
  <Override PartName="/ppt/media/image1.png" ContentType="image/png"/>
  <Override PartName="/ppt/media/image25.gif" ContentType="image/gif"/>
  <Override PartName="/ppt/media/image2.gif" ContentType="image/gif"/>
  <Override PartName="/ppt/media/image15.gif" ContentType="image/gif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91CA-BCAB-4F1B-8076-91B6B0783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617E-59CA-41DF-80A5-B1B6FE27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C7C2-F166-4224-BBA0-1CA130CBF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62BD-B79A-49DB-AAE8-B3142C42F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2BC1-3661-46ED-BFF8-2B5FCF21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0653-A7ED-498E-ADFE-8F4D6F39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793B-04C4-421A-8821-B91C4562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252C-DC64-4372-B3C3-DFB1BD1B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6817-F393-4626-B697-92E11DB4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3ED7-57D0-4C26-847C-7F2B4634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2DE0-F6FF-4450-9421-8B65FA3B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6CB8-DC5C-4757-A70F-F3915E12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A953-CD48-4714-BAD5-2EA4A5A9E2E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image" Target="../media/image24.gif"/><Relationship Id="rId4" Type="http://schemas.openxmlformats.org/officeDocument/2006/relationships/image" Target="../media/image25.gif"/><Relationship Id="rId5" Type="http://schemas.openxmlformats.org/officeDocument/2006/relationships/image" Target="../media/image26.gif"/><Relationship Id="rId6" Type="http://schemas.openxmlformats.org/officeDocument/2006/relationships/image" Target="../media/image26.gif"/><Relationship Id="rId7" Type="http://schemas.openxmlformats.org/officeDocument/2006/relationships/image" Target="../media/image26.gif"/><Relationship Id="rId8" Type="http://schemas.openxmlformats.org/officeDocument/2006/relationships/image" Target="../media/image26.gif"/><Relationship Id="rId9" Type="http://schemas.openxmlformats.org/officeDocument/2006/relationships/image" Target="../media/image26.gif"/><Relationship Id="rId10" Type="http://schemas.openxmlformats.org/officeDocument/2006/relationships/image" Target="../media/image26.gif"/><Relationship Id="rId11" Type="http://schemas.openxmlformats.org/officeDocument/2006/relationships/image" Target="../media/image26.gif"/><Relationship Id="rId12" Type="http://schemas.openxmlformats.org/officeDocument/2006/relationships/image" Target="../media/image26.gif"/><Relationship Id="rId13" Type="http://schemas.openxmlformats.org/officeDocument/2006/relationships/image" Target="../media/image26.gif"/><Relationship Id="rId14" Type="http://schemas.openxmlformats.org/officeDocument/2006/relationships/image" Target="../media/image26.gif"/><Relationship Id="rId15" Type="http://schemas.openxmlformats.org/officeDocument/2006/relationships/image" Target="../media/image26.gif"/><Relationship Id="rId16" Type="http://schemas.openxmlformats.org/officeDocument/2006/relationships/image" Target="../media/image26.gif"/><Relationship Id="rId17" Type="http://schemas.openxmlformats.org/officeDocument/2006/relationships/image" Target="../media/image26.gif"/><Relationship Id="rId18" Type="http://schemas.openxmlformats.org/officeDocument/2006/relationships/image" Target="../media/image26.gif"/><Relationship Id="rId19" Type="http://schemas.openxmlformats.org/officeDocument/2006/relationships/image" Target="../media/image26.gif"/><Relationship Id="rId20" Type="http://schemas.openxmlformats.org/officeDocument/2006/relationships/image" Target="../media/image26.gif"/><Relationship Id="rId21" Type="http://schemas.openxmlformats.org/officeDocument/2006/relationships/image" Target="../media/image26.gif"/><Relationship Id="rId22" Type="http://schemas.openxmlformats.org/officeDocument/2006/relationships/image" Target="../media/image26.gif"/><Relationship Id="rId23" Type="http://schemas.openxmlformats.org/officeDocument/2006/relationships/image" Target="../media/image26.gif"/><Relationship Id="rId24" Type="http://schemas.openxmlformats.org/officeDocument/2006/relationships/image" Target="../media/image26.gif"/><Relationship Id="rId25" Type="http://schemas.openxmlformats.org/officeDocument/2006/relationships/image" Target="../media/image26.gif"/><Relationship Id="rId2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7086600"/>
            <a:chOff x="0" y="0"/>
            <a:chExt cx="9144000" cy="708660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07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2819520" y="2057400"/>
              <a:ext cx="3654360" cy="5029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" name="E. Cortazar - La Vida Es Bella.wav" descr=""/>
          <p:cNvPicPr/>
          <p:nvPr/>
        </p:nvPicPr>
        <p:blipFill>
          <a:blip r:embed="rId3"/>
          <a:stretch/>
        </p:blipFill>
        <p:spPr>
          <a:xfrm>
            <a:off x="-762120" y="661356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47840" y="314280"/>
            <a:ext cx="84261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 Different Approach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o Fasting..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5000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4267080" cy="60958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1066680" y="0"/>
            <a:ext cx="6934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7. Spend extra time for personal praye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686480" y="762120"/>
            <a:ext cx="4457520" cy="60958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50760"/>
            <a:ext cx="9144000" cy="6807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38080" y="449280"/>
            <a:ext cx="83059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lease forward  this to as many as possible and surely, you will be blessed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bundantly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 advTm="15000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80880" y="1295280"/>
            <a:ext cx="35053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Wishing you all Peace, Love, and Happiness during Lent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Gelts 21.jpg"/>
          <p:cNvPicPr/>
          <p:nvPr/>
        </p:nvPicPr>
        <p:blipFill>
          <a:blip r:embed="rId1"/>
          <a:srcRect l="26792" t="6064" r="1523" b="33464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42400" y="380880"/>
            <a:ext cx="4492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MILE –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Jesus Loves You!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 advTm="15000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25009" t="0" r="18483" b="0"/>
          <a:stretch/>
        </p:blipFill>
        <p:spPr>
          <a:xfrm>
            <a:off x="6172200" y="1522440"/>
            <a:ext cx="2971800" cy="5335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971800" y="0"/>
            <a:ext cx="33084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rcRect l="25009" t="0" r="18483" b="0"/>
          <a:stretch/>
        </p:blipFill>
        <p:spPr>
          <a:xfrm>
            <a:off x="0" y="1522440"/>
            <a:ext cx="2971800" cy="53355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2438280" y="228600"/>
            <a:ext cx="4400640" cy="5867280"/>
            <a:chOff x="2438280" y="228600"/>
            <a:chExt cx="4400640" cy="586728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2438280" y="228600"/>
              <a:ext cx="4400640" cy="58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"/>
            <a:srcRect l="24113" t="0" r="27818" b="19877"/>
            <a:stretch/>
          </p:blipFill>
          <p:spPr>
            <a:xfrm>
              <a:off x="4114800" y="2362320"/>
              <a:ext cx="1301760" cy="1749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1617480" cy="1924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362320" y="5824440"/>
            <a:ext cx="4495680" cy="1033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8429760" y="228600"/>
            <a:ext cx="714240" cy="1190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714240" cy="1190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0" y="762120"/>
            <a:ext cx="714240" cy="1190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8"/>
          <a:stretch/>
        </p:blipFill>
        <p:spPr>
          <a:xfrm>
            <a:off x="762120" y="-228600"/>
            <a:ext cx="714240" cy="1190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9"/>
          <a:stretch/>
        </p:blipFill>
        <p:spPr>
          <a:xfrm>
            <a:off x="609480" y="2362320"/>
            <a:ext cx="714600" cy="1190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0"/>
          <a:stretch/>
        </p:blipFill>
        <p:spPr>
          <a:xfrm>
            <a:off x="0" y="-595440"/>
            <a:ext cx="714240" cy="11908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1"/>
          <a:stretch/>
        </p:blipFill>
        <p:spPr>
          <a:xfrm>
            <a:off x="1371600" y="762120"/>
            <a:ext cx="714240" cy="1190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2"/>
          <a:stretch/>
        </p:blipFill>
        <p:spPr>
          <a:xfrm>
            <a:off x="1066680" y="1752480"/>
            <a:ext cx="714600" cy="1190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3"/>
          <a:stretch/>
        </p:blipFill>
        <p:spPr>
          <a:xfrm>
            <a:off x="1981080" y="1371600"/>
            <a:ext cx="714600" cy="1190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4"/>
          <a:stretch/>
        </p:blipFill>
        <p:spPr>
          <a:xfrm>
            <a:off x="1676520" y="0"/>
            <a:ext cx="714240" cy="1190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5"/>
          <a:stretch/>
        </p:blipFill>
        <p:spPr>
          <a:xfrm>
            <a:off x="0" y="1905120"/>
            <a:ext cx="714240" cy="1190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6"/>
          <a:stretch/>
        </p:blipFill>
        <p:spPr>
          <a:xfrm>
            <a:off x="8077320" y="609480"/>
            <a:ext cx="714240" cy="1190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7"/>
          <a:stretch/>
        </p:blipFill>
        <p:spPr>
          <a:xfrm>
            <a:off x="6934320" y="838080"/>
            <a:ext cx="714240" cy="1190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8"/>
          <a:stretch/>
        </p:blipFill>
        <p:spPr>
          <a:xfrm>
            <a:off x="8429760" y="1447920"/>
            <a:ext cx="714240" cy="1190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9"/>
          <a:stretch/>
        </p:blipFill>
        <p:spPr>
          <a:xfrm>
            <a:off x="7162920" y="2895480"/>
            <a:ext cx="714240" cy="1190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0"/>
          <a:stretch/>
        </p:blipFill>
        <p:spPr>
          <a:xfrm>
            <a:off x="8429760" y="-380880"/>
            <a:ext cx="714240" cy="1190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1"/>
          <a:stretch/>
        </p:blipFill>
        <p:spPr>
          <a:xfrm>
            <a:off x="2514600" y="0"/>
            <a:ext cx="714240" cy="1190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2"/>
          <a:stretch/>
        </p:blipFill>
        <p:spPr>
          <a:xfrm>
            <a:off x="4419720" y="0"/>
            <a:ext cx="714240" cy="1190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3"/>
          <a:stretch/>
        </p:blipFill>
        <p:spPr>
          <a:xfrm>
            <a:off x="6095880" y="380880"/>
            <a:ext cx="714600" cy="1190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4"/>
          <a:stretch/>
        </p:blipFill>
        <p:spPr>
          <a:xfrm>
            <a:off x="6934320" y="0"/>
            <a:ext cx="714240" cy="11905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5"/>
          <a:stretch/>
        </p:blipFill>
        <p:spPr>
          <a:xfrm>
            <a:off x="7467480" y="1600200"/>
            <a:ext cx="714600" cy="11905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8583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Fast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have a tendency to be oriented toward things like giving up food</a:t>
            </a:r>
            <a:br>
              <a:rPr sz="3600"/>
            </a:b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or television.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But there are many other creative ways we can welcome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Jesus' healing touch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 advTm="15000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still life 19.jpg"/>
          <p:cNvPicPr/>
          <p:nvPr/>
        </p:nvPicPr>
        <p:blipFill>
          <a:blip r:embed="rId1"/>
          <a:srcRect l="2639" t="780" r="1289" b="304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304920"/>
            <a:ext cx="8305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  <a:ea typeface="Arial"/>
              </a:rPr>
              <a:t>Here are suggestions you may want to consider.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 advTm="15000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257800" y="2498760"/>
            <a:ext cx="35812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Give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your family an extra dose of love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each day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990720"/>
            <a:ext cx="4419720" cy="5867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533520" y="228600"/>
            <a:ext cx="8229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. Fast from anger and hatred.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5000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008600" y="0"/>
            <a:ext cx="51354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4834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Before making any judgments, recall how</a:t>
            </a:r>
            <a:br>
              <a:rPr sz="4800"/>
            </a:b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Jesus overlooks our faults.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228600"/>
            <a:ext cx="8305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2. Fast from judging others.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5000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4984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89600" y="1600200"/>
            <a:ext cx="32544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Hold on to Jesus' promise that He has a perfect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plan for your life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62120" y="0"/>
            <a:ext cx="83818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. Fast from discouragement.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5000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0"/>
            <a:ext cx="57913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990720"/>
            <a:ext cx="40384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When you find yourself about to complain,</a:t>
            </a:r>
            <a:br>
              <a:rPr sz="4000"/>
            </a:b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ose your eyes and recall some of the little moments of joy Jesus has</a:t>
            </a:r>
            <a:br>
              <a:rPr sz="4000"/>
            </a:b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given you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0"/>
            <a:ext cx="7696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. Fast from complaining.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5000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837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-380880" y="1371600"/>
            <a:ext cx="3483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Arial"/>
              </a:rPr>
              <a:t>Work on forgiving those who may</a:t>
            </a:r>
            <a:br>
              <a:rPr sz="4000"/>
            </a:br>
            <a:r>
              <a:rPr b="1" lang="en-US" sz="4000" spc="-1" strike="noStrike">
                <a:solidFill>
                  <a:srgbClr val="996633"/>
                </a:solidFill>
                <a:latin typeface="Arial"/>
              </a:rPr>
              <a:t>have hurt you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304920"/>
            <a:ext cx="876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5. Fast from resentment or bitterness!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5000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-3960" y="533520"/>
            <a:ext cx="794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. Fast from spending too much mone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505320"/>
            <a:ext cx="8381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Try to reduce your spending by ten percent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and give those savings to the poor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 advTm="15000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/>
  <dcterms:modified xsi:type="dcterms:W3CDTF">2010-02-18T05:39:21Z</dcterms:modified>
  <cp:revision>36</cp:revision>
  <dc:subject/>
  <dc:title> </dc:title>
</cp:coreProperties>
</file>