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4E4-BFDB-49FC-B9DE-C71D0D10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AC7-8D19-45B8-8435-BBD2CD8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AE9-8D1A-46E6-8211-8934FD16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2A1-31FA-4D34-8C68-0E935714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057-450D-47C1-9293-842F178E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A64-15ED-44EF-A686-F7C1429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5CF-1D8A-41A0-8E5D-43B9DB97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FC9-0425-4DD7-9453-8039EA0C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DC0-4A41-4D14-8B3A-BAC293C5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408-3B24-47BF-8C53-923040A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457-DB64-4093-B06A-362FA6C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EFC-334E-4238-BD3E-953360C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893-66C1-4F74-9350-7C97E089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mailto:Sumitra.Sampath@gmail.com/" TargetMode="External"/><Relationship Id="rId5" Type="http://schemas.openxmlformats.org/officeDocument/2006/relationships/hyperlink" Target="mailto:Sumitra.Sampath@gmail.com/" TargetMode="External"/><Relationship Id="rId6" Type="http://schemas.openxmlformats.org/officeDocument/2006/relationships/hyperlink" Target="mailto:kbalaji.kannan@gmail.com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676520" y="1447920"/>
          <a:ext cx="350496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3504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447920" y="4648320"/>
            <a:ext cx="6019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VENUE : Sky City Phase 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T-14, 204, vanagram ambattur road,Vanagaram, Chennai 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SHUBA MUHURTHAM: Wednesday, June 8th 2011, 5am – 6 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BRUCNH : 9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HOSTS : Balaji Kannan and Sumitra Bala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바탕"/>
                <a:hlinkClick r:id="rId4"/>
              </a:rPr>
              <a:t>Sumitra.Sampath@gmail.com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바탕"/>
                <a:hlinkClick r:id="rId5"/>
              </a:rPr>
              <a:t>/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바탕"/>
                <a:hlinkClick r:id="rId6"/>
              </a:rPr>
              <a:t>kbalaji.kannan@gmail.com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PH: 9176279626 / 044-24716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With Best Wishes : R. Kan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Please RSVP By May 20th 2011                                             N.S.Sampath&amp; Mythili Sam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0" i="1" lang="en-US" sz="1000" spc="-1" strike="noStrike">
                <a:solidFill>
                  <a:srgbClr val="000000"/>
                </a:solidFill>
                <a:latin typeface="바탕"/>
              </a:rPr>
              <a:t>Akshita Balaji &amp; Ankita Bala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91320" y="1219320"/>
          <a:ext cx="8776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1219320"/>
                    <a:ext cx="877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184880" y="456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286000"/>
            <a:ext cx="261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We would be hono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to have the plea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of your company at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바탕"/>
              </a:rPr>
              <a:t>Grahapravesha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of our new hous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Please join us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for this auspicio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바탕"/>
              </a:rPr>
              <a:t>Occasion.</a:t>
            </a:r>
            <a:r>
              <a:rPr b="0" lang="en-US" sz="1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use the map below for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51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90920" y="3200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7432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New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5:05Z</dcterms:created>
  <dc:creator>ABC</dc:creator>
  <dc:description/>
  <dc:language>en-US</dc:language>
  <cp:lastModifiedBy>ABC</cp:lastModifiedBy>
  <dcterms:modified xsi:type="dcterms:W3CDTF">2011-05-05T12:17:20Z</dcterms:modified>
  <cp:revision>17</cp:revision>
  <dc:subject/>
  <dc:title>Slide 1</dc:title>
</cp:coreProperties>
</file>