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silfides2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8DD-FC77-49C2-A76B-2B9DCC12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450-3FA6-4081-A13C-86191B9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46A-1AD6-43BE-B985-76F1EAA5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B83-5DB9-46DB-BBE1-91756591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23A-B526-4581-80A8-C56DE540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105-32F6-4357-BD2E-FE56E63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B03-6EA6-4AA7-8014-258851D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1CD-05C4-48B5-BBBA-EDE7A265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276-78B8-4CB2-AAFD-89615A11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5D7-A0B2-4D41-999E-044A55E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132-2EB8-4193-A417-36E0085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F45-EADB-4F52-B23E-8EFA82F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E6E-EAF8-496A-9D55-CCD2A8E939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ilfides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slideshare.net/carlitosrangel/presentation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www.tom-phillips.info/images/cool.pics.35/image.3510.jpg"/>
          <p:cNvPicPr/>
          <p:nvPr/>
        </p:nvPicPr>
        <p:blipFill>
          <a:blip r:embed="rId1"/>
          <a:stretch/>
        </p:blipFill>
        <p:spPr>
          <a:xfrm>
            <a:off x="-36360" y="928800"/>
            <a:ext cx="9216720" cy="5929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857160" y="121428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Silence of the Sou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824840" y="185724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c302"/>
                </a:solidFill>
                <a:latin typeface="Mistral"/>
              </a:rPr>
              <a:t>Neale Donald Walsch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1979640" y="63086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Click to continue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4572000" y="6500880"/>
            <a:ext cx="44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10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2" name="silfides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00a"/>
            </a:gs>
            <a:gs pos="100000">
              <a:srgbClr val="33385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tom-phillips.info/images/cool.pics.35/image.3507.jpg"/>
          <p:cNvPicPr/>
          <p:nvPr/>
        </p:nvPicPr>
        <p:blipFill>
          <a:blip r:embed="rId1"/>
          <a:srcRect l="1562" t="1835" r="1562" b="2395"/>
          <a:stretch/>
        </p:blipFill>
        <p:spPr>
          <a:xfrm>
            <a:off x="-488880" y="320760"/>
            <a:ext cx="9632880" cy="6216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27160" y="4643280"/>
            <a:ext cx="48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.Breathe deeply and you will feel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reathe very, very deeply and lov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ill make you cry ……. with jo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ecause you know your God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and your God presented you with your sou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5 Rectángulo"/>
          <p:cNvSpPr/>
          <p:nvPr/>
        </p:nvSpPr>
        <p:spPr>
          <a:xfrm>
            <a:off x="4429080" y="6284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7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5" descr="http://www.tom-phillips.info/images/cool.pics.35/image.3519.jpg"/>
          <p:cNvPicPr/>
          <p:nvPr/>
        </p:nvPicPr>
        <p:blipFill>
          <a:blip r:embed="rId1"/>
          <a:stretch/>
        </p:blipFill>
        <p:spPr>
          <a:xfrm>
            <a:off x="-612720" y="0"/>
            <a:ext cx="103536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10 Rectángulo"/>
          <p:cNvSpPr/>
          <p:nvPr/>
        </p:nvSpPr>
        <p:spPr>
          <a:xfrm>
            <a:off x="42876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2f2f2"/>
                </a:solidFill>
                <a:latin typeface="Arial"/>
              </a:rPr>
              <a:t>http://www.tom-phillips.info/images/cool.pics.35/image.351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64000" y="400536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896000" y="298440"/>
            <a:ext cx="4248000" cy="11912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Use your life as a meditation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nd all the events in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Walk in vigilance, not in drowsines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tom-phillips.info/images/cool.pics.35/image.3522.jpg"/>
          <p:cNvPicPr/>
          <p:nvPr/>
        </p:nvPicPr>
        <p:blipFill>
          <a:blip r:embed="rId1"/>
          <a:stretch/>
        </p:blipFill>
        <p:spPr>
          <a:xfrm>
            <a:off x="-252360" y="0"/>
            <a:ext cx="103014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250920" y="4941720"/>
            <a:ext cx="4286160" cy="14655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Move with perfection, not without it;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and don’t hold back in doubt or fea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nor in guilt or self recriminatio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Reside in permanent splendor with the assurance that you are well loved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8 Rectángulo"/>
          <p:cNvSpPr/>
          <p:nvPr/>
        </p:nvSpPr>
        <p:spPr>
          <a:xfrm>
            <a:off x="4429080" y="64278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Arial"/>
              </a:rPr>
              <a:t>http://www.tom-phillips.info/images/cool.pics.35/image.3522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6" descr="http://www.tom-phillips.info/images/cool.pics.35/image.35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5940360" y="21924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ways be One with God.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ways feel at home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11 Rectángulo"/>
          <p:cNvSpPr/>
          <p:nvPr/>
        </p:nvSpPr>
        <p:spPr>
          <a:xfrm>
            <a:off x="14292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2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om-phillips.info/images/cool.pics.35/image.3528.jpg"/>
          <p:cNvPicPr/>
          <p:nvPr/>
        </p:nvPicPr>
        <p:blipFill>
          <a:blip r:embed="rId1"/>
          <a:srcRect l="267" t="332" r="267" b="332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578628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Because your home is my heart and mine is your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5 Rectángulo"/>
          <p:cNvSpPr/>
          <p:nvPr/>
        </p:nvSpPr>
        <p:spPr>
          <a:xfrm>
            <a:off x="50004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2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3b2f"/>
            </a:gs>
            <a:gs pos="100000">
              <a:srgbClr val="51354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tom-phillips.info/images/cool.pics.35/image.3524.jpg"/>
          <p:cNvPicPr/>
          <p:nvPr/>
        </p:nvPicPr>
        <p:blipFill>
          <a:blip r:embed="rId1"/>
          <a:srcRect l="315" t="357" r="315" b="357"/>
          <a:stretch/>
        </p:blipFill>
        <p:spPr>
          <a:xfrm>
            <a:off x="500040" y="-316080"/>
            <a:ext cx="8143920" cy="7194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785880" y="620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000"/>
                </a:solidFill>
                <a:latin typeface="Arial"/>
              </a:rPr>
              <a:t>We are all that is, all that w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000"/>
                </a:solidFill>
                <a:latin typeface="Arial"/>
              </a:rPr>
              <a:t>And all there will b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6 Rectángulo"/>
          <p:cNvSpPr/>
          <p:nvPr/>
        </p:nvSpPr>
        <p:spPr>
          <a:xfrm>
            <a:off x="400068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24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6" descr="http://www.tom-phillips.info/images/cool.pics.35/image.35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http://www.tom-phillips.info/images/cool.pics.35/image.35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8"/>
          <p:cNvSpPr/>
          <p:nvPr/>
        </p:nvSpPr>
        <p:spPr>
          <a:xfrm>
            <a:off x="0" y="4811760"/>
            <a:ext cx="91440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Texts: Neale Donald Walsh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Author of the book “Conversations with God”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Inspired on EdnA’s montage, with acknowledgement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Photographs:  Tom Phillips, credits manteined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c8c93"/>
                </a:solidFill>
                <a:latin typeface="Arial"/>
              </a:rPr>
              <a:t>Music: Chopin, Les Silfides,new age version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Original mounting (in Spanish) by courtesy of Carlos Rangel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Santiago de Querétaro, Mex. Oct.2008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carlitosrangel@hotmail.com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lideshare.net/carlitosrangel/presentations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English Translation by Paul Cushman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e4649"/>
                </a:solidFill>
                <a:latin typeface="Arial"/>
              </a:rPr>
              <a:t>gocush@comcast.net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0" y="310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 n 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18 Rectángulo"/>
          <p:cNvSpPr/>
          <p:nvPr/>
        </p:nvSpPr>
        <p:spPr>
          <a:xfrm>
            <a:off x="2286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f2223"/>
                </a:solidFill>
                <a:latin typeface="Arial"/>
              </a:rPr>
              <a:t>http://www.tom-phillips.info/images/cool.pics.35/image.3523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9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a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9" descr="http://www.tom-phillips.info/images/cool.pics.35/image.3518.jpg"/>
          <p:cNvPicPr/>
          <p:nvPr/>
        </p:nvPicPr>
        <p:blipFill>
          <a:blip r:embed="rId1"/>
          <a:stretch/>
        </p:blipFill>
        <p:spPr>
          <a:xfrm>
            <a:off x="0" y="0"/>
            <a:ext cx="10234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71680" y="357120"/>
            <a:ext cx="293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member, silence maintains secrets. Therefore, the sweetest sound is the sound of silenc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10 Rectángulo"/>
          <p:cNvSpPr/>
          <p:nvPr/>
        </p:nvSpPr>
        <p:spPr>
          <a:xfrm>
            <a:off x="442908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a6a6a6"/>
                </a:solidFill>
                <a:latin typeface="Arial"/>
              </a:rPr>
              <a:t>http://www.tom-phillips.info/images/cool.pics.35/image.351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a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tom-phillips.info/images/cool.pics.35/image.3508.jpg"/>
          <p:cNvPicPr/>
          <p:nvPr/>
        </p:nvPicPr>
        <p:blipFill>
          <a:blip r:embed="rId1"/>
          <a:stretch/>
        </p:blipFill>
        <p:spPr>
          <a:xfrm>
            <a:off x="0" y="-450720"/>
            <a:ext cx="9144000" cy="7308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500720" y="428760"/>
            <a:ext cx="421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hat’s the song of the soul, som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isten to silence in praye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others sing its song while work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ome look for the secrets in quiet comtemplation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6 Rectángulo"/>
          <p:cNvSpPr/>
          <p:nvPr/>
        </p:nvSpPr>
        <p:spPr>
          <a:xfrm>
            <a:off x="442908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8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http://www.tom-phillips.info/images/cool.pics.35/image.35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3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3652920" y="214200"/>
            <a:ext cx="520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When mastery is achieved or experience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the sounds of the world can be turned off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the distractions quieted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All of life becomes a meditatio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7 Rectángulo"/>
          <p:cNvSpPr/>
          <p:nvPr/>
        </p:nvSpPr>
        <p:spPr>
          <a:xfrm>
            <a:off x="214200" y="64990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http://www.tom-phillips.info/images/cool.pics.35/image.3502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http://www.tom-phillips.info/images/cool.pics.35/image.3505.jpg"/>
          <p:cNvPicPr/>
          <p:nvPr/>
        </p:nvPicPr>
        <p:blipFill>
          <a:blip r:embed="rId1"/>
          <a:stretch/>
        </p:blipFill>
        <p:spPr>
          <a:xfrm>
            <a:off x="-571680" y="0"/>
            <a:ext cx="10287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142920" y="214200"/>
            <a:ext cx="4068720" cy="283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Everything in life is a meditation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in which you contemplate the Devin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and experience in this manner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everything as a bless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truggle and pain and worry disappea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Only experience remain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11 Rectángulo"/>
          <p:cNvSpPr/>
          <p:nvPr/>
        </p:nvSpPr>
        <p:spPr>
          <a:xfrm>
            <a:off x="450072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bfbfbf"/>
                </a:solidFill>
                <a:latin typeface="Arial"/>
              </a:rPr>
              <a:t>http://www.tom-phillips.info/images/cool.pics.35/image.3505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2" descr="http://www.tom-phillips.info/images/cool.pics.35/image.35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9" name="6 Rectángulo"/>
          <p:cNvSpPr/>
          <p:nvPr/>
        </p:nvSpPr>
        <p:spPr>
          <a:xfrm>
            <a:off x="14292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09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211640" y="4422600"/>
            <a:ext cx="46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mell every flower, fly with every bir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Find beauty and wisdom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Since wisdom is found whereve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there is beaut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Beauty is found everywhere, you don’t have to search for it , rather it will come to you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http://www.tom-phillips.info/images/cool.pics.35/image.3520.jpg"/>
          <p:cNvPicPr/>
          <p:nvPr/>
        </p:nvPicPr>
        <p:blipFill>
          <a:blip r:embed="rId1"/>
          <a:stretch/>
        </p:blipFill>
        <p:spPr>
          <a:xfrm>
            <a:off x="-584280" y="0"/>
            <a:ext cx="10312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95280" y="142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When you act in this manner, you change everything you do into a meditatio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nd thus into a gift, an offering of yourself to your sou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and your soul to the Almighty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7 Rectángulo"/>
          <p:cNvSpPr/>
          <p:nvPr/>
        </p:nvSpPr>
        <p:spPr>
          <a:xfrm>
            <a:off x="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404040"/>
                </a:solidFill>
                <a:latin typeface="Arial"/>
              </a:rPr>
              <a:t>http://www.tom-phillips.info/images/cool.pics.35/image.3520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4" descr="http://www.tom-phillips.info/images/cool.pics.35/image.3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3"/>
          <p:cNvSpPr/>
          <p:nvPr/>
        </p:nvSpPr>
        <p:spPr>
          <a:xfrm>
            <a:off x="4140360" y="388800"/>
            <a:ext cx="46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ile washing the dishes, enjoy the warmth of the water which caresses your hand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ile preparing dinner, feel the love of the universe which brings you this food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nd as your gift, while preparing this food, pour all the love of your being into i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11 Rectángulo"/>
          <p:cNvSpPr/>
          <p:nvPr/>
        </p:nvSpPr>
        <p:spPr>
          <a:xfrm>
            <a:off x="142920" y="65721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7f7f7f"/>
                </a:solidFill>
                <a:latin typeface="Arial"/>
              </a:rPr>
              <a:t>http://www.tom-phillips.info/images/cool.pics.35/image.3515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61a"/>
            </a:gs>
            <a:gs pos="100000">
              <a:srgbClr val="26262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1035000" y="514440"/>
            <a:ext cx="70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hile breathing, breathe long and deep, breathe slowly and softly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reathe the soft and sweet little things of life, so full of energy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o full of love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t’s the love of God that you are breathing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8" name="Picture 2" descr="http://www.tom-phillips.info/images/cool.pics.35/image.3527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69" name="8 Rectángulo"/>
          <p:cNvSpPr/>
          <p:nvPr/>
        </p:nvSpPr>
        <p:spPr>
          <a:xfrm>
            <a:off x="4429080" y="657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595959"/>
                </a:solidFill>
                <a:latin typeface="Arial"/>
              </a:rPr>
              <a:t>http://www.tom-phillips.info/images/cool.pics.35/image.3527.jpg</a:t>
            </a:r>
            <a:endParaRPr b="0" lang="en-US" sz="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3:36:23Z</dcterms:created>
  <dc:creator>servidor</dc:creator>
  <dc:description/>
  <dc:language>en-US</dc:language>
  <cp:lastModifiedBy>Carlos Rangel</cp:lastModifiedBy>
  <dcterms:modified xsi:type="dcterms:W3CDTF">2010-12-26T04:07:58Z</dcterms:modified>
  <cp:revision>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