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330D-5C5F-46E1-9480-E7FF617C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A38-2552-4B5A-B459-EDE40F03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D48-9537-469E-87EB-ADB00C9C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3974-1326-4A76-A2BD-40686ED6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C7C5-667E-47FD-B868-FA3B9C0E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BE5-822D-4BE0-B735-5F6D7903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D0D-7469-4976-A8CA-63049046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F7E-EA6F-4FB9-8565-91E4E755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FF8-02D0-4145-8F47-CE40F989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771-D538-4C79-B059-C2ECBA3C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C22-F244-4BD3-ACC6-F801CA85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D8E5-47FF-4C2D-BF89-9EDEDEF1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7E64-5A10-42AA-8DAF-1D813CC5B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259280"/>
            <a:ext cx="8135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ilosofia que dirige o sistema carcerário japonês é diferente da que rege todos os outros presídios ocidentais, que tentam reeducar o preso para que ele se reintegre a Sociedade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objetivo, no Japão, é levar o condenado ao arrependimento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o errou, não é mais uma pessoa honrada e precisa pagar por iss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595800"/>
            <a:ext cx="80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* Aliás como se diria "rebelião de preso" em japonês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Esta expressão, lá, não existe..</a:t>
            </a: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ÉO G. MEDEIROS – CEL PM 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http://www.jornaltribuna.com.br/opiniao.php?id_materia=14219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1760" y="3077280"/>
            <a:ext cx="67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você, o que pensa dis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260360"/>
            <a:ext cx="813564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lém de dar o devido castigo em nome das vítimas, o período de permanência na prisão serve como um momento de reflexão no qual induzimos o preso ao arrependimento”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plica Yutaka Nagashima,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retor do Instituto de Pesquisa da Criminalidade do Ministério da Justiç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578520"/>
            <a:ext cx="81360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métodos para isso são duros para olhos ocidentais, mas em nada lembram os presídios brasileiros, famosos pela superlotação, formação de quadrilhas, violência interna e até abusos sexu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ção e limpeza impe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ntos têm espaço de so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cam no máximo seis por c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rangeiros têm um quarto individ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nguém fica sem trabalhar e não tem tempo livre para arquitetar fuga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71640" y="770040"/>
            <a:ext cx="763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dia do preso japonês começa às 6h50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s 8h ele já está na oficina trabalhando na confecção de móveis ou brinque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ó pára por 40 minutos para o almoço e trabalha novamente até as 16h40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ante todo este período nenhum tipo de conversa é permitido, nem durante as refeiçõ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559080"/>
            <a:ext cx="763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preso volta à cela e fica ali até 17h25min, quando sai para o ja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s 8h tem que retornar ao quarto, de onde só sairá no dia segui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hos não fazem parte da programação diá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verão eles acontecem duas vezes por sem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inverno apenas um a cada sete di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594360"/>
            <a:ext cx="80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ão pode ser diferente porque faltam funcionários. Mas damos toalhas molhadas para eles limparem o corpo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justifica-se Yoshihito Sato, especialista em segurança do Departamento de Correção do Ministério da Justiç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778680"/>
            <a:ext cx="80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esar das reclamações, quem vêm do exterior, recebem um tratamento melhor que os japone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ém do quarto individual, ganham cama e um aparelho de televisão onde passam aulas de japonê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mida é diferenciada. Não é servido nada que desagrade religiosamente qualquer crença de um povo. Para os arianos, por exemplo, não é oferecida carne bov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Japão não aceita acordos de extradi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inal, como causou sofrimento à população, o criminoso tem que pagar por isso no Japão mesm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325080"/>
            <a:ext cx="8137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o ao chegar à penitenciária, os presos recebem uma rígida lista do que poderão ou não faz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har nos olhos de um policial, por exemplo, é absolutamente proib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garro não é permitido em hipótese algu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 hora da refeição o detento deve ficar de olhos fechados até que receba um sinal para abri-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quer transgressão a uma das determinações e o detento termina numa cela isolada. Apesar de oferecer tudo o que teria num quarto normal (privada, pia e cobertor), ela tem pouca iluminação. Se houver reincidência na falha, será punido com algemas de couro, que imobilizam os braços nas co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 a ajuda das mãos, o preso tem que comer como se fosse um cachorro. Também tem dificuldades para fazer as necessidades fisiológ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692280"/>
            <a:ext cx="76327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im, conhecido o caso japonês, é interessante ver que nenhuma ou quase nenhuma “Ong” de direitos humanos interfere no sistema, dita políticas ou o governo permite que Senador (como fez, numa ocasião, o senador Eduardo Suplicy) durma entre os presos, sob a justificativa de impedir represálias do Estado após rebeliõe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01:10:28Z</dcterms:created>
  <dc:creator>nilson.com</dc:creator>
  <dc:description/>
  <dc:language>en-US</dc:language>
  <cp:lastModifiedBy>nilson.com</cp:lastModifiedBy>
  <dcterms:modified xsi:type="dcterms:W3CDTF">2006-07-31T02:28:19Z</dcterms:modified>
  <cp:revision>2</cp:revision>
  <dc:subject/>
  <dc:title>Slide 1</dc:title>
</cp:coreProperties>
</file>