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142-6EAE-4A8A-AB35-B0B07B9A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FE4-B178-440F-B160-53A9C003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EF8-C127-49BA-8E50-2D296E2A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E29-4FC6-4B0F-8142-A3D28B7D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B5E-EDEF-4625-9443-B2C19555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9D98-08A6-45D1-A1A3-C5DB449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115-9019-4BFF-BC26-BDBA04E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0C9B-C2AA-4CBB-9A4D-93E7C5A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0CCF-B67C-44C4-9177-95AD4E59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849B-F09B-40F9-A711-0DD291D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811-6F27-4508-B2D0-994116F4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5DE-CB8E-4051-9EEA-1F9708D0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833F-B799-4981-A14F-2D149D3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1DB4-F917-4C77-9857-5ACA1C7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EC8F-95BC-46E2-8126-E9E0A67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611-1460-4CD3-BB53-6D780BB9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78C7-627E-41AA-AA47-1DF755BE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634-E65C-455F-A160-F977613A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ABB-4A9F-4066-AC94-ABD070BC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0F7-E5ED-443A-B003-C29E3F7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F4D-2F28-44AC-9A29-B727867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8B2-915F-4561-AAC5-AEA4E7C7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B1E-BCF6-4F4D-8390-4CC35D6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744-F478-4534-9C11-50047F8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58B7-D451-405A-8A66-D2FD671814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BED8-45EA-4806-B59E-A60D988CB0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ÁTICA JURÍDIC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. João Maria de L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sa união nasceram dois filhos: BRUNA GURGEL SILVA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9 (nove) anos e MÁRIO GURGEL SILVA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2 (dois) anos de idade, consoante atestam as certidões inclus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(con.so.an.te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 Ling.  Fonema que, ao ser pronunciado, encontra obstáculo à passagem do ar e que, sozinho, não forma sílaba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  Letra que representa esse fonem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2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  Ling.  Diz-se desse fonema ou dessa letra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  Que tem consonância; que é concordante, concorde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5  De acordo co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j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  Conforme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[F.: Do lat. consonans,antis.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orr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m razão de divergências entre o casal, tornou-se impossível a convivência em comum, o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m ano atrás,  ocasionou a separação de fato do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as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mpossibilitan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sta forma, qualquer perspectiva de uma nova união, culminando com a presente aç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razão de divergências entre o casal, tornou-se impossível a convivência em comum. Assim, cerca de um ano atrás (há cerca de um ano),  ocorreu a separação de fato. Desta forma, qualquer perspectiva de uma nova união ficou impossibilitada, culminando com a presente açã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CERCA DE -  A CERCA DE -  HÁ CERCA 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rma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rrespon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 respeito de, sobre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olítico falou tudo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cerca 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ssunto.(a respeito, a propósi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á a expressã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tem o valor de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aproximida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 A preposiçã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urge por exigência regencial, uma vez que a locução é apenas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(perto de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jovem escreveu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zentas pesso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zentas pessoas fala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outra forma é composta pelo verb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haver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o sentido de tempo decorrido mais a locução prepositiva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cerca 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por próximo, mais ou menos). Neste caso, t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z anos, o Brasil disputava mais um título mundial de fute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podemos nos esquecer de que existe o substantivo </a:t>
            </a: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cerc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cerc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o sítio Santa Luzia é muito al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CERCA DE - A CERCA DE -  HÁ CERCA 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an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so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aproximad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á cerca d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faz aproximad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m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é 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não sendo mais possível a união conjugal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ordaram os requerentes a se separarem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ensual e judicialmente, mediante o seguinte acor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ordaram os requerentes a se separarem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S REQUERENTES ACORDARAM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lhor sempre usar a ordem direta: SUJ + VERB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NA LUIZA GURGEL DA SILVA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MARCO VINICIUS DA SILVA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sados entre si, Ela brasileira, psicóloga, com RG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 nº 1.123.013– ITEP/RN, inscrita no CPF(MF) sob o nº 888.871.454-20, residente e domiciliada na Rua Walt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eira, nº 1728, Capim Macio,  em Natal/RN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ORDAR (TRANSITIVIDAD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  Não ter ou fazer não ter discordâncias, diferenças, incompatibilidades com ou entre (pessoas, idéias, ações, propostas etc.) ; ACERTAR; AJUSTAR; CONCILIAR; HARMONIZ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td.] : Acordaram suas divergênci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[tdr.  + a, com]:Tentou acordar suas idéias às/ com as do ami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ORDAR (TRANSITIVIDAD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[tr.  + com, em, entre, sobre]:Suas idéias não acordam com as minhas. Não acordamos entre nós quanto a essa questã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[int.]: Não adianta insistir, não vamos acordar (quanto a isso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) O cônjugue-varão, a título de pensão alimentícia, arcará com todas as despesas escolares do seu filho Bruno,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ncluin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fardamento, livros e mensalidades do colégio onde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o mes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estuda.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Fican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igualmente responsável pelo pagamento do plano de saúde Unimed de ambos os filhos menores: Bruno e Camila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)Com relaçã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isita aos filhos, o direito do cônjuge-varão, ficará assim regulamentado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4.2)o menor Mário ficará em sua companhia de quinze e quinze dias, nos finais de semana, podendo, sempre que assim o   cônjuge-varão desejar, visitá-</a:t>
            </a: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 , independentemente de dia e hor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ERÊNCIAS BIBLIOGRÁF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LETE. Dicionário Digit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A, João Maria de. Desenrolando a língua portugues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le brasileiro, administrador de empresas, com RG de nº 1.342.353. -  ITEP, inscrito no CPF(MF) sob o nº 777.795.900-30, residente e domiciliad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à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v. Salgado Filho nº 3487, Lagoa Nova, em Natal/RN, por seu advogado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infra firma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vêm, respeitosamente perante Vossa Excelência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fulcr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rts. 1.120 a 1.124 do CPC,  propor a presen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LC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  Ponto de apoio ; BASE; SUSTENTÁCUL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  Fís.  Ponto de apoio de uma alavanca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  Fig.  Aquilo que constitui a essência de uma cois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  Espigão sobre o qual gira qualquer coisa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  Bot.  Nome genérico dos órgãos que protegem as plantas ou lhes facilitam a vegetação, como os espinhos, as estípulas, os pêlos etc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[F.: Do lat. fulcrum, i. 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rep. || lat. abaixo, embaixo, no lugar inferior  [Entra também como prefixo na composição de várias palavras.]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INFRACIT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adj. e s. m. || citado abaixo, mais adiante.   F. Infra+citad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S FA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requerentes contraíram núpcias em 06 de Maio de 1990, sob o regime da comunhão parcial de bens, conforme comprova a certidão de casament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m anex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EX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 u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ti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portanto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ariá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cordando, em gênero e número, com o substantivo a que se refe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 docu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s document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passag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guem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ex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passage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NEXAR JU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 mais uma redundância. Diga apena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exar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m diz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nexar jun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amente diz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ançamento do nov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ntrar para dentro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M ANEX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ressão invariáve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cópias segu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m anex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8:26:36Z</dcterms:created>
  <dc:creator>João Maria</dc:creator>
  <dc:description/>
  <dc:language>en-US</dc:language>
  <cp:lastModifiedBy>João Maria</cp:lastModifiedBy>
  <dcterms:modified xsi:type="dcterms:W3CDTF">2008-05-20T19:22:13Z</dcterms:modified>
  <cp:revision>1</cp:revision>
  <dc:subject/>
  <dc:title>PRÁTICA JURÍDICA</dc:title>
</cp:coreProperties>
</file>