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6872-FF66-49E0-8EA4-558E10CB7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79CC-FF9F-4B44-93E8-5DE6C61AC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D869-3DFB-462F-9332-7B802C375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B194-498E-40AA-9773-7FFCB1DB2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79C14-30F0-4E3D-816F-772AFCE73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5BB00-437C-4D30-B924-C8BA1DAFF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274B5-7C0C-49A9-B336-747198A68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241B3-E3B1-43C1-AF4B-B56F654B2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A7157-3AB5-47E4-BFA7-698E3B07F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42700-2768-4671-BB72-89777B1AE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34625-7B66-4CD0-B371-5942624F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EF3C-5024-43D6-BEBB-DE7897590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BB332-711C-454E-ACB0-FA661E9D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96F89-BFE0-4BCA-9FBA-048B90E0E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C6238-39A3-4D1B-9CC2-38A62B850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C2FFF-FEFF-49EF-9786-D7BE2E2A6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3C05E-D761-4AAF-A5F9-3BFA985AC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0B91D-5BAD-4931-849D-88F7DD6FE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D93DA-1E1C-452C-8F62-607D865B2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14641-2D63-470F-821A-53EC1A914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8A477-6B68-4A54-A31A-1AE934F4E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CC2D3-ED55-434B-AFC4-D4BAA654C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F51F-FF46-469E-96E1-E84DA6F10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47952-FDD7-42F8-87BB-DDAF78957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C6075-0F1B-412C-9480-1761922F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5AE9D-3B75-454A-9D39-A48492B5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92077-FB15-4D19-8AF4-1CC0EEE9C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B60AC-5B6C-49AB-8F90-9F6123EF2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08BB8-6883-4FE9-9FCA-77AC377AC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E915F-F6BA-4B83-8D28-84332C05E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C392E-380E-4E27-80F7-A9A1743B0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C8CE8-D1DA-46EC-9CD5-2B7A49AC9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51B13-72B2-463E-972F-3D5AA5739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5766-E2E6-4A8E-AD1E-6C3C4B568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32A83-B810-41DE-95F2-B7E3F2D29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26525-E03A-400B-B778-ACB719D9A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F55D7-356C-437D-BE35-3A273F309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C7BBF-7CEE-43E1-8E3C-1F68E1E6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22D16-4E13-4FB0-AB08-9F45D4B4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30A66-6B33-47E5-A312-30DDF236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35B94-A21D-4A01-90B3-D63A72FA1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FB132-2288-4F0B-BD75-80A3160CC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FB4D9-7505-45B1-8858-CD3FC0B18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0CDA-DA13-406A-8991-EF59E603D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FE46-23A7-422E-8B42-6FFAAC950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A668-CAB5-49C2-9E18-71F5A8DF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03FF-24E0-41A4-8B8C-006D4CE7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6190-9DB7-4909-8C38-D323DE77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358F3-6949-472D-960B-CE1F90B6770E}" type="slidenum">
              <a:rPr b="0" lang="pt-BR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60CB0-87A5-4163-931F-0FD820828F3F}" type="slidenum">
              <a:rPr b="0" lang="pt-BR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5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5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A7258-F9EC-4D41-B9A0-1077A3278818}" type="slidenum">
              <a:rPr b="0" lang="pt-BR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345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346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360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dt" idx="10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40CB9-A52D-45AC-987E-1D1A38DC2881}" type="slidenum">
              <a:rPr b="0" lang="pt-BR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971640" y="1700280"/>
            <a:ext cx="6913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merican Classic"/>
              </a:rPr>
              <a:t>PRINCIPAIS METAS DAS POLÍTICAS NEOLIBERA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merican Classic"/>
              </a:rPr>
              <a:t>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American Classic"/>
              </a:rPr>
              <a:t>GLOBALIZANTE NA AMÉRICA LAT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5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324000" y="333360"/>
            <a:ext cx="8496000" cy="50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)- </a:t>
            </a:r>
            <a:r>
              <a:rPr b="1" lang="en-US" sz="3600" spc="-1" strike="noStrike" u="sng">
                <a:solidFill>
                  <a:srgbClr val="000099"/>
                </a:solidFill>
                <a:uFillTx/>
                <a:latin typeface="Verdana"/>
              </a:rPr>
              <a:t>A terceira ordem de coisas que o consenso propunha: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ada disso será possível se nós não desmontarmos, radicalmente, o modelo anterior (Estado interventor) que houve nesses continentes, um modelo perverso, que funcionou mau, só fez porcarias, que é o tal do modelo de importação de industrialização por substituição de importações, que é um conceito pessimamente us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176760" y="333360"/>
            <a:ext cx="90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Nessa direção, quais são as proposta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-1234080" y="1131840"/>
            <a:ext cx="1141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66ff"/>
                </a:solidFill>
                <a:uFillTx/>
                <a:latin typeface="BritannicTLig"/>
              </a:rPr>
              <a:t>Reformas estruturais ou Reformas institucionai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-19080" y="2073240"/>
            <a:ext cx="91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)-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PRIMEIRO: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sregulamentação dos mercados, sobretudo 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nanceiro e o do trabalho. E isso já foi feito em quase todos 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íses da América Latin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24000" y="335772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)-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SEGUNDO: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ivatização, de preferência selvag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50920" y="39337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)-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TERCEIRO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bertura comerc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95280" y="4508640"/>
            <a:ext cx="81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)-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QUARTO: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arantia do direito de propriedade, sobretudo na zona fronteira, isto é, nos serviços, propriedade intelectual etc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3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8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3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539640" y="260280"/>
            <a:ext cx="7782120" cy="825480"/>
          </a:xfrm>
          <a:prstGeom prst="rect">
            <a:avLst/>
          </a:prstGeom>
          <a:gradFill rotWithShape="0">
            <a:gsLst>
              <a:gs pos="0">
                <a:srgbClr val="cca500"/>
              </a:gs>
              <a:gs pos="100000">
                <a:srgbClr val="5e4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merican Classic Extra Bold"/>
              </a:rPr>
              <a:t>PRINCIPAIS METAS DAS POLÍTICAS NEOLIBERA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merican Classic Extra Bol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merican Classic Extra Bold"/>
              </a:rPr>
              <a:t>GLOBALIZANTE NA AMÉRICA LATI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24000" y="170028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1). Reforma do Estado:</a:t>
            </a: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 Previdência Social, Saúde, Educação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50920" y="2997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50920" y="2492280"/>
            <a:ext cx="86421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2). Privatizações de empresas estatais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70% do seu Patrimônio Públic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87560" y="3357720"/>
            <a:ext cx="87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3). Desregulamentação econômica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bertura do merc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97000" y="3933720"/>
            <a:ext cx="889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4). Garantia do direito de propriedade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bretudo na zon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 Fronteira, isto é, nos serviços, propriedade intelectual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61080" y="4869000"/>
            <a:ext cx="805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5). Ingresso de capital externo:</a:t>
            </a: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mpresas transnaciona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75120" y="5516640"/>
            <a:ext cx="579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6). Endividamento:</a:t>
            </a: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terno e externo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90760" y="6093000"/>
            <a:ext cx="19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7). Exclus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374400" y="333360"/>
            <a:ext cx="827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ONCENTRAÇÃO FUNDIÁRIA NO BRAS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35160" y="981000"/>
            <a:ext cx="793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ff"/>
                </a:solidFill>
                <a:latin typeface="Tahoma"/>
              </a:rPr>
              <a:t>De acordo com os dados cadastrais do Incra, relativos a 1998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-295920" y="1484280"/>
            <a:ext cx="9351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s minifúndios e as chamadas pequenas propriedades rurai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imóveis com área total até 4 módulos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talizavam 3.183.055 imóveis (88,7% do total de imóveis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tendo 92,1 milhões de hectares (apenas 22,2% da á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tal cadastrada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35520" y="3573360"/>
            <a:ext cx="185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ff"/>
                </a:solidFill>
                <a:latin typeface="Tahoma"/>
              </a:rPr>
              <a:t>Enquanto iss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50920" y="407664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 chamadas grandes propriedades (imóveis com área superior a 15 módul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-162360" y="5013360"/>
            <a:ext cx="92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talizavam 104.744 propriedades (2,9 % do total de imóvei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-149040" y="5661000"/>
            <a:ext cx="897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tendo, porém, 238,3 milhões de hectares (57,3% da áre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dastrada no Brasil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1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77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" dur="770" fill="hold"/>
                                        <p:tgtEl>
                                          <p:spTgt spid="5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" dur="77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Essa desigualdade atinge nível extremo com: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24000" y="1700280"/>
            <a:ext cx="84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21 mil megalatifúndios (imóveis com área superior a 50 módulos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85400" y="2649600"/>
            <a:ext cx="838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presentando apenas 0,6% do total de imóveis rurai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dastrado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53360" y="3586320"/>
            <a:ext cx="907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tendo, porém, mais de 149 milhões de hectares, cerca 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6% da área cadastrada no Brasi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98520" y="4433760"/>
            <a:ext cx="548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Segundo esses dados: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48760" y="5386320"/>
            <a:ext cx="904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s grandes imóveis rurais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não produtivo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correspondem 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9,8 mil imóvei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106200" y="272880"/>
            <a:ext cx="815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tendo uma área total de 166,3 milhões de hecta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80360" y="777960"/>
            <a:ext cx="901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s grandes imóvei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produtivos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mam 45 mil imóveis co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ma área total de 72 milhões de hecta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44080" y="1773360"/>
            <a:ext cx="869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Tahoma"/>
              </a:rPr>
              <a:t>Na região Norte, os grandes imóveis rurais não produtiv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Tahoma"/>
              </a:rPr>
              <a:t>totalizam 8 mil imóveis com uma área total d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Tahoma"/>
              </a:rPr>
              <a:t>57,3 milhões de hecta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0" y="3213000"/>
            <a:ext cx="86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Tahoma"/>
              </a:rPr>
              <a:t>Na região Nordeste, esses imóveis somam 11,3 mil imóveis perfazendo uma área total de 27,5 milhões de hecta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95280" y="443700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Tahoma"/>
              </a:rPr>
              <a:t>Na região Sudeste, 12,5 mil imóveis com uma área total de 12,3 milhões de hecta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67000" y="5516640"/>
            <a:ext cx="784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Tahoma"/>
              </a:rPr>
              <a:t>Na região Sul, 8,7 mil imóveis com uma área total d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Tahoma"/>
              </a:rPr>
              <a:t>6,3 milhões de hecta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270720" y="260280"/>
            <a:ext cx="859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Tahoma"/>
              </a:rPr>
              <a:t>Finalmente, na região Centro-Oeste, os grandes imóvei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Tahoma"/>
              </a:rPr>
              <a:t>rurais não produtivos somam 19,3 mil imóveis perfazend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Tahoma"/>
              </a:rPr>
              <a:t>A área total de 62,9 milhões de hecta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50920" y="1628640"/>
            <a:ext cx="858816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Se considerarmos as áreas declaradas pelos proprietário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como exploráveis e os   Módulos médios dos municípios onde se localizam os grandes imóveis não Produtivos, poderiam ainda ser assentadas, mediante a aplicação do instituto Constitucional da desapropriação para fins de reforma agrária, um potencial de 2,6 milhões de famílias de trabalhadores rurais em todo o Brasil, das quais 817 mil no Centro- Oeste, 611 mil no Norte, 498 mi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no Nordeste, 401 mil no Sudeste e 282 mil famílias n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Sul do paí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684360" y="0"/>
            <a:ext cx="7940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Consenso de Washingto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-245160" y="907920"/>
            <a:ext cx="9272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Idéias sistematizadas pelo economista John Williamson, e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reunião na cidade de Washington no ano de 1989. Essa reuni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Ficou conhecida como </a:t>
            </a: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Consenso de Washington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da qu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Tinha como objetivo discutir as </a:t>
            </a: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reformas necessárias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para 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mérica Latin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-260640" y="2997360"/>
            <a:ext cx="9709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Consenso de Washington não foi nenhuma conspiração política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Econômica ou trama diabólica do FMI, BID, BIRD, nem do gover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mericano para aplicar nos países da América Latina. O que acon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Teceu foi apenas o resumo sintético das idéias que circulavam 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Washington da qual John, resumiu tais idéias de comando e coor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denação da política econômica mundial dos EUA e para cuidar 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mérica Latina: “em Washington todos estão pensando que n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mérica Latina todo mundo tem de fazer a mesma coisa”. Foi isso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que John Williamson percebe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6" dur="3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7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-1306800" y="61920"/>
            <a:ext cx="1165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Monotype Corsiva"/>
              </a:rPr>
              <a:t>Quais os acordos que o economista perceb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46160" y="2060640"/>
            <a:ext cx="899784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)- </a:t>
            </a:r>
            <a:r>
              <a:rPr b="1" lang="en-US" sz="3800" spc="-1" strike="noStrike">
                <a:solidFill>
                  <a:srgbClr val="000099"/>
                </a:solidFill>
                <a:latin typeface="Book Antiqua"/>
              </a:rPr>
              <a:t>No primeiro plano de ordem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9"/>
                </a:solidFill>
                <a:latin typeface="Book Antiqua"/>
              </a:rPr>
              <a:t>macroeconômica: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á um acordo completo entre todas as agências econômicas, que todos esses países periféricos estão, no momento, sendo convencidos a aplicar um programa em que lhes é requerido um rigoros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esforço de equilíbrio fiscal, austeridade fiscal ao máximo,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o que passa inevitavelmente por um programa d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reformas administrativas,previdenciárias e fiscais, e um corte violento no gasto públic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-88560" y="912960"/>
            <a:ext cx="9303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cc"/>
                </a:solidFill>
                <a:latin typeface="Book Antiqua"/>
              </a:rPr>
              <a:t>Williamson afirma: “eu dividiria o que sinto, pressin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cc"/>
                </a:solidFill>
                <a:latin typeface="Book Antiqua"/>
              </a:rPr>
              <a:t>e leio como um grande consenso em três plano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2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539640" y="404640"/>
            <a:ext cx="8209080" cy="69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)- </a:t>
            </a:r>
            <a:r>
              <a:rPr b="1" lang="pt-BR" sz="3200" spc="-1" strike="noStrike">
                <a:solidFill>
                  <a:srgbClr val="000099"/>
                </a:solidFill>
                <a:latin typeface="Franklin Gothic Medium"/>
              </a:rPr>
              <a:t>Segundo:</a:t>
            </a:r>
            <a:r>
              <a:rPr b="1" lang="pt-BR" sz="2800" spc="-1" strike="noStrike">
                <a:solidFill>
                  <a:srgbClr val="000099"/>
                </a:solidFill>
                <a:latin typeface="Franklin Gothic Medium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Franklin Gothic Medium"/>
              </a:rPr>
              <a:t>que esses países devem fazer </a:t>
            </a:r>
            <a:r>
              <a:rPr b="0" lang="pt-BR" sz="2800" spc="-1" strike="noStrike" u="sng">
                <a:solidFill>
                  <a:srgbClr val="ffffff"/>
                </a:solidFill>
                <a:uFillTx/>
                <a:latin typeface="Franklin Gothic Medium"/>
              </a:rPr>
              <a:t>políticas monetárias rigidíssimas, </a:t>
            </a:r>
            <a:r>
              <a:rPr b="0" lang="pt-BR" sz="2800" spc="-1" strike="noStrike">
                <a:solidFill>
                  <a:srgbClr val="ffffff"/>
                </a:solidFill>
                <a:latin typeface="Franklin Gothic Medium"/>
              </a:rPr>
              <a:t>porque a prioridade número 1 é a </a:t>
            </a:r>
            <a:r>
              <a:rPr b="0" lang="pt-BR" sz="2800" spc="-1" strike="noStrike" u="sng">
                <a:solidFill>
                  <a:srgbClr val="ffffff"/>
                </a:solidFill>
                <a:uFillTx/>
                <a:latin typeface="Franklin Gothic Medium"/>
              </a:rPr>
              <a:t>estabilização e a política fiscal </a:t>
            </a:r>
            <a:r>
              <a:rPr b="0" lang="pt-BR" sz="2800" spc="-1" strike="noStrike">
                <a:solidFill>
                  <a:srgbClr val="ffffff"/>
                </a:solidFill>
                <a:latin typeface="Franklin Gothic Medium"/>
              </a:rPr>
              <a:t>tem que ser submetida à </a:t>
            </a:r>
            <a:r>
              <a:rPr b="0" lang="pt-BR" sz="2800" spc="-1" strike="noStrike" u="sng">
                <a:solidFill>
                  <a:srgbClr val="ffffff"/>
                </a:solidFill>
                <a:uFillTx/>
                <a:latin typeface="Franklin Gothic Medium"/>
              </a:rPr>
              <a:t>política monetária. </a:t>
            </a:r>
            <a:r>
              <a:rPr b="0" lang="pt-BR" sz="2800" spc="-1" strike="noStrike">
                <a:solidFill>
                  <a:srgbClr val="ffffff"/>
                </a:solidFill>
                <a:latin typeface="Franklin Gothic Medium"/>
              </a:rPr>
              <a:t>Propostas e </a:t>
            </a:r>
            <a:r>
              <a:rPr b="0" lang="pt-BR" sz="2800" spc="-1" strike="noStrike" u="sng">
                <a:solidFill>
                  <a:srgbClr val="ffffff"/>
                </a:solidFill>
                <a:uFillTx/>
                <a:latin typeface="Franklin Gothic Medium"/>
              </a:rPr>
              <a:t>reformas de ordem microeconômica: </a:t>
            </a:r>
            <a:r>
              <a:rPr b="0" lang="pt-BR" sz="2800" spc="-1" strike="noStrike">
                <a:solidFill>
                  <a:srgbClr val="ffffff"/>
                </a:solidFill>
                <a:latin typeface="Franklin Gothic Medium"/>
              </a:rPr>
              <a:t>é preciso desonerar fiscalmente o capital para que ele possa aumentar a sua competitividade no mercado internacional, desregulado e aberto. Então, o único caminho de as pequenas empresas situadas nos países da periferia entrarem nesse jogo seria por aumento de competitividade, o que passaria por desoneração fiscal, flexibilização dos mercados de trabalho, diminuição da carga social com os trabalhadores, diminuição dos salári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4" dur="2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5T20:07:04Z</dcterms:created>
  <dc:creator>liminha</dc:creator>
  <dc:description/>
  <dc:language>en-US</dc:language>
  <cp:lastModifiedBy>dejalma</cp:lastModifiedBy>
  <dcterms:modified xsi:type="dcterms:W3CDTF">2008-08-05T03:01:49Z</dcterms:modified>
  <cp:revision>3</cp:revision>
  <dc:subject/>
  <dc:title>Slide 1</dc:title>
</cp:coreProperties>
</file>