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DB2-4BE7-43E5-9076-09CE5BDE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B0E-938F-40F9-8D1F-B720F50E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B7A-A5D8-45CD-8E1D-D07F5E70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BD6-02EE-4DE0-B2EA-081C4724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8C75-DFF7-443B-81CD-DFFCF1B5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085-AC83-4BE9-BBD1-C1BA92E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0FC1-8CA7-446C-B165-DE9D721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5C57-64D2-4326-A06A-29D8EDAD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B8FE-EF95-42A4-9877-37DE21F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C912-D9DB-483A-9CC3-99C9844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D49-F147-4C00-8FAB-45D9CB5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F50-4D1C-4037-A086-6BFB47B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EE43-D5EB-4980-A379-EACCBD2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20CE-E7F6-4B55-B0EF-94F6CFB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0374-838A-4512-A766-34D034E4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124F-027A-4D2C-9653-9A064D55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CB6-FF7C-4C6A-8EB5-12910DA9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B00E-81CD-4478-8994-74F102EF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9750-A449-4147-96B4-8E00B6E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85BE-CA11-4042-9DBE-CFF3F16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D678-2B33-4A24-8926-F937BF7F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6810-A89A-4087-8096-171F6DAE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BD7-D6B5-44C2-B7A3-2D0A0B0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BE67-6B87-42FE-8DB4-ADA161ED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756E-1F42-48BA-872C-9EE7C7C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C8A0-9732-4D42-AB0E-7842AEE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5E5E-0216-4066-8E48-02E232F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E5F65-9809-4988-825C-29BB7E8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2538-346E-476D-9909-DEB1A8A0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960F-B409-4003-96C1-0302E6E2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3DCB-1D6B-4E75-AEBB-BF4B0A8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3C21-17C0-4E1A-8A6B-DBAD208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DF03-5277-4DC4-B4E1-94F962D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021-B1BD-4A97-BF2A-5E5FA58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A76E-2BA5-460A-9E6E-7C34DBC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100F-E211-416A-88E0-6D052A8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8720-D0BB-4D6A-9F89-35FD878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2742-8C99-42BE-99C7-7C2E3CCB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C408-AE0F-4DD3-A52C-10835F30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BFD8-4F2C-422C-9ECF-3C9AB9B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E565-B78E-40FA-A2AE-CD767B98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8B6A-7D1C-470B-BD1F-E7BA6153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2182-E553-4E54-90FC-6CB1B2EB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6B9-B75F-40E8-BAE3-5CD23E3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727-6897-4525-9420-97BB4DD2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148-5A4A-4271-AE69-EB31FCAD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9A2-95FA-4496-800D-CA0D42F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A68-EFB1-4C53-B42D-C60DAB3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10CA-33DC-4282-8E84-041EB0F6DB7C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9A3B-8EC7-4F81-B79F-A996FF734C80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9C1-0C2B-47CA-9648-43ADF677705F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6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8885-35CA-45D1-8AB6-39FCFD89FF4B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971640" y="1700280"/>
            <a:ext cx="69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PRINCIPAIS METAS DAS POLÍTICAS NEOLIBE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merican Classic"/>
              </a:rPr>
              <a:t>GLOBALIZANTE NA AMÉRICA LA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24000" y="333360"/>
            <a:ext cx="84960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-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Verdana"/>
              </a:rPr>
              <a:t>A terceira ordem de coisas que o consenso propunha: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da disso será possível se nós não desmontarmos, radicalmente, o modelo anterior (Estado interventor) que houve nesses continentes, um modelo perverso, que funcionou mau, só fez porcarias, que é o tal do modelo de importação de industrialização por substituição de importações, que é um conceito pessimamente us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76760" y="333360"/>
            <a:ext cx="90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essa direção, quais são as propost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-1234080" y="1131840"/>
            <a:ext cx="114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ff"/>
                </a:solidFill>
                <a:uFillTx/>
                <a:latin typeface="BritannicTLig"/>
              </a:rPr>
              <a:t>Reformas estruturais ou Reformas instituciona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-19080" y="2073240"/>
            <a:ext cx="91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IMEIR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regulamentação dos mercados, sobretudo 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eiro e o do trabalho. E isso já foi feito em quase todos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íses da América Lat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3357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GUND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vatização, de preferência selvag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39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TERCEIRO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ertura comer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4508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QUARTO: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a do direito de propriedade, sobretudo na zona fronteira, isto é, nos serviços, propriedade intelectual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9640" y="260280"/>
            <a:ext cx="7782120" cy="825480"/>
          </a:xfrm>
          <a:prstGeom prst="rect">
            <a:avLst/>
          </a:prstGeom>
          <a:gradFill rotWithShape="0">
            <a:gsLst>
              <a:gs pos="0">
                <a:srgbClr val="cca500"/>
              </a:gs>
              <a:gs pos="100000">
                <a:srgbClr val="5e4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PRINCIPAIS METAS DAS POLÍTICAS NEOLIB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merican Classic Extra Bold"/>
              </a:rPr>
              <a:t>GLOBALIZANTE NA AMÉRICA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170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1). Reforma do Estado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Previdência Social, Saúde, Educação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2492280"/>
            <a:ext cx="8642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2). Privatizações de empresas estatai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0% do seu Patrimônio Públ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7560" y="3357720"/>
            <a:ext cx="87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3). Desregulamentação econômica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ertura do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97000" y="3933720"/>
            <a:ext cx="889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4). Garantia do direito de propriedad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bretudo na z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 Fronteira, isto é, nos serviços, propriedade intelectual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080" y="4869000"/>
            <a:ext cx="80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5). Ingresso de capital externo: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transnaciona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5120" y="551664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6). Endividamento: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o e extern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0760" y="60930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7). Ex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74400" y="333360"/>
            <a:ext cx="82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ENTRAÇÃO FUNDIÁRIA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160" y="981000"/>
            <a:ext cx="79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De acordo com os dados cadastrais do Incra, relativos a 199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-295920" y="1484280"/>
            <a:ext cx="935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minifúndios e as chamadas pequenas propriedades rura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móveis com área total até 4 módulo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izavam 3.183.055 imóveis (88,7% do total de imóvei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 92,1 milhões de hectares (apenas 22,2% da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cadastra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5520" y="35733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ahoma"/>
              </a:rPr>
              <a:t>Enquanto is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0920" y="4076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chamadas grandes propriedades (imóveis com área superior a 15 módul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162360" y="5013360"/>
            <a:ext cx="92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izavam 104.744 propriedades (2,9 % do total de imóve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-149040" y="5661000"/>
            <a:ext cx="89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, porém, 238,3 milhões de hectares (57,3% da ár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strada no Brasi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ssa desigualdade atinge nível extremo com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4000" y="17002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1 mil megalatifúndios (imóveis com área superior a 50 módulo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5400" y="2649600"/>
            <a:ext cx="83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ando apenas 0,6% do total de imóveis rura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strad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3360" y="3586320"/>
            <a:ext cx="90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, porém, mais de 149 milhões de hectares, cerca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6% da área cadastrada no Bra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8520" y="4433760"/>
            <a:ext cx="54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egundo esses dados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8760" y="5386320"/>
            <a:ext cx="90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grandes imóveis rurai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ão produtiv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rrespondem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9,8 mil imóve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06200" y="272880"/>
            <a:ext cx="81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ndo uma área total de 166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0360" y="777960"/>
            <a:ext cx="901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grandes imóve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dutivo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am 45 mil imóveis 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a área total de 72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4080" y="1773360"/>
            <a:ext cx="86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Norte, os grandes imóveis rurais não produtiv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totalizam 8 mil imóveis com uma área total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57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32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Nordeste, esses imóveis somam 11,3 mil imóveis perfazendo uma área total de 27,5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4437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Sudeste, 12,5 mil imóveis com uma área total de 12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67000" y="5516640"/>
            <a:ext cx="78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Na região Sul, 8,7 mil imóveis com uma área total 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6,3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70720" y="26028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Finalmente, na região Centro-Oeste, os grandes imóve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rurais não produtivos somam 19,3 mil imóveis perfaze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ahoma"/>
              </a:rPr>
              <a:t>A área total de 62,9 milhões de hect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0920" y="1628640"/>
            <a:ext cx="85881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 considerarmos as áreas declaradas pelos proprietá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omo exploráveis e os   Módulos médios dos municípios onde se localizam os grandes imóveis não Produtivos, poderiam ainda ser assentadas, mediante a aplicação do instituto Constitucional da desapropriação para fins de reforma agrária, um potencial de 2,6 milhões de famílias de trabalhadores rurais em todo o Brasil, das quais 817 mil no Centro- Oeste, 611 mil no Norte, 498 m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no Nordeste, 401 mil no Sudeste e 282 mil famílias 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ul do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4360" y="0"/>
            <a:ext cx="794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onsenso de Washingt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-245160" y="907920"/>
            <a:ext cx="927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déias sistematizadas pelo economista John Williamson, 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união na cidade de Washington no ano de 1989. Essa reuni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icou conhecida como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Consenso de Washingto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a 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inha como objetivo discutir as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eformas necessári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ara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-260640" y="2997360"/>
            <a:ext cx="97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enso de Washington não foi nenhuma conspiração polític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conômica ou trama diabólica do FMI, BID, BIRD, nem do gov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ericano para aplicar nos países da América Latina. O que acon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ceu foi apenas o resumo sintético das idéias que circulavam 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Washington da qual John, resumiu tais idéias de comando e coor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ação da política econômica mundial dos EUA e para cuidar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: “em Washington todos estão pensando que 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mérica Latina todo mundo tem de fazer a mesma coisa”. Foi iss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que John Williamson percebe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-1306800" y="61920"/>
            <a:ext cx="116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Quais os acordos que o economista perce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6160" y="2060640"/>
            <a:ext cx="8997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1" lang="en-US" sz="3800" spc="-1" strike="noStrike">
                <a:solidFill>
                  <a:srgbClr val="000099"/>
                </a:solidFill>
                <a:latin typeface="Book Antiqua"/>
              </a:rPr>
              <a:t>No primeiro plano de ord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Book Antiqua"/>
              </a:rPr>
              <a:t>macroeconômica: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á um acordo completo entre todas as agências econômicas, que todos esses países periféricos estão, no momento, sendo convencidos a aplicar um programa em que lhes é requerido um rigoros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sforço de equilíbrio fiscal, austeridade fiscal ao máximo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 que passa inevitavelmente por um program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reformas administrativas,previdenciárias e fiscais, e um corte violento no gasto públ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-88560" y="912960"/>
            <a:ext cx="93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Book Antiqua"/>
              </a:rPr>
              <a:t>Williamson afirma: “eu dividiria o que sinto, pressin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Book Antiqua"/>
              </a:rPr>
              <a:t>e leio como um grande consenso em três plano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539640" y="404640"/>
            <a:ext cx="8209080" cy="69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)- </a:t>
            </a:r>
            <a:r>
              <a:rPr b="1" lang="pt-BR" sz="3200" spc="-1" strike="noStrike">
                <a:solidFill>
                  <a:srgbClr val="000099"/>
                </a:solidFill>
                <a:latin typeface="Franklin Gothic Medium"/>
              </a:rPr>
              <a:t>Segundo:</a:t>
            </a:r>
            <a:r>
              <a:rPr b="1" lang="pt-BR" sz="2800" spc="-1" strike="noStrike">
                <a:solidFill>
                  <a:srgbClr val="000099"/>
                </a:solidFill>
                <a:latin typeface="Franklin Gothic Medium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que esses países devem fazer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políticas monetárias rigidíssimas,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porque a prioridade número 1 é a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estabilização e a política fiscal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tem que ser submetida à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política monetária.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Propostas e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Franklin Gothic Medium"/>
              </a:rPr>
              <a:t>reformas de ordem microeconômica: </a:t>
            </a:r>
            <a:r>
              <a:rPr b="0" lang="pt-BR" sz="2800" spc="-1" strike="noStrike">
                <a:solidFill>
                  <a:srgbClr val="ffffff"/>
                </a:solidFill>
                <a:latin typeface="Franklin Gothic Medium"/>
              </a:rPr>
              <a:t>é preciso desonerar fiscalmente o capital para que ele possa aumentar a sua competitividade no mercado internacional, desregulado e aberto. Então, o único caminho de as pequenas empresas situadas nos países da periferia entrarem nesse jogo seria por aumento de competitividade, o que passaria por desoneração fiscal, flexibilização dos mercados de trabalho, diminuição da carga social com os trabalhadores, diminuição dos salá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0:07:04Z</dcterms:created>
  <dc:creator>liminha</dc:creator>
  <dc:description/>
  <dc:language>en-US</dc:language>
  <cp:lastModifiedBy>dejalma</cp:lastModifiedBy>
  <dcterms:modified xsi:type="dcterms:W3CDTF">2008-08-05T03:01:49Z</dcterms:modified>
  <cp:revision>3</cp:revision>
  <dc:subject/>
  <dc:title>Slide 1</dc:title>
</cp:coreProperties>
</file>