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Alan%20Jackson%20-%20How%20Great%20Thou%20Art..wav" ContentType="audio/x-wav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6C22-A567-49CC-9EE7-51135715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42B-41DC-4D95-9703-08B1029E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A51-DAC3-4BBC-B84B-1CC9B8F3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CDD-6E7B-4C9F-B7B4-91F7F739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A1D-8817-433D-9686-459B1326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F6C-6156-4250-A4E8-E94A78E2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14B-7776-49E5-9E58-26836E97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C3E-4C59-4CA4-BCE6-2E80F5FB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BFDC-4E8D-4390-9E81-46DD1F3E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95F-4AE2-4133-BAC9-1C2F3DBD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0748-1954-4C2C-A12A-D7F56E3F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388C-9CC6-4A6E-81B6-E91A4A28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9FD9-5986-4FF1-846F-DDD7C3ECA98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lan%20Jackson%20-%20How%20Great%20Thou%20Art.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ar.wrs.yahoo.com/_ylt=A9iby414_eVEpvgAEyu29Qt./SIG=12u6a0amf/EXP=1156009720/**http%3A//www.emol.com/especiales/guerra/foto_noticia/1014.torres_gemelas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ar.wrs.yahoo.com/_ylt=A9ibyjkI_uVEvpoAunqt9Qt./SIG=1gb13p6l5/EXP=1156009864/**http%3A//ar.search.yahoo.com/search/images/view%3Fback=http%253A%252F%252Far.search.yahoo.com%252Fsearch%252Fimages%253Fp%253Dguerra%2526ei%253DUTF-8%2526fr%253Dush1-ar-mail%2526x%253Dwrt%26w=350%26h=500%26imgurl=www.galizacig.com%252Factualidade%252F200312%252Fimaxes%252Firaq_guerra_invasion_basora.jpg%26rurl=http%253A%252F%252Fwww.galizacig.com%252Factualidade%252F200312%252Fimaxes%253FN%253DD%26size=38.0kB%26name=iraq_guerra_invasion_basora.jpg%26p=guerra%26type=jpeg%26no=8%26tt=721.086%26ei=UTF-8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ne Day..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  <p:sndAc>
      <p:stSnd>
        <p:snd r:embed="rId2" name="Alan%20Jackson%20-%20How%20Great%20Thou%20Art.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88620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man Old Style"/>
                <a:ea typeface="Times New Roman"/>
              </a:rPr>
              <a:t>How much do you want for them Sat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42592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Bookman Old Style"/>
                <a:ea typeface="Times New Roman"/>
              </a:rPr>
              <a:t>I want all your tears and your bloo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7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k done dea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42592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nd...Jesus paid the price of our libert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0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How do we forget Jesu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876920"/>
            <a:ext cx="91440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We believe everything they show us, but we question everything that comes from him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80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9000"/>
            <a:ext cx="9144000" cy="278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People send jokes through e-mail sending them to each other at a fast spe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But when the e-mail is about GOD, the people think about it twice before sending it to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5867640" cy="20574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75632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cc3300"/>
                </a:solidFill>
                <a:latin typeface="Bookman Old Style"/>
                <a:ea typeface="Times New Roman"/>
              </a:rPr>
              <a:t>Everyone says they want to be with GOD one 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75632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Bookman Old Style"/>
                <a:ea typeface="Times New Roman"/>
              </a:rPr>
              <a:t>A lot of us say: I believe in GOD, but what do we do for HI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man Old Style"/>
                <a:ea typeface="Times New Roman"/>
              </a:rPr>
              <a:t>To speak of Jesus is not a matter that the people want to hear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4100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man Old Style"/>
                <a:ea typeface="Times New Roman"/>
              </a:rPr>
              <a:t>They only come to Jesus when they are in big trou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4800600"/>
            <a:ext cx="9144000" cy="249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man Old Style"/>
                <a:ea typeface="Times New Roman"/>
              </a:rPr>
              <a:t>When you finish reading this messag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man Old Style"/>
                <a:ea typeface="Times New Roman"/>
              </a:rPr>
              <a:t>Will you send it to somebod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3300"/>
                </a:solidFill>
                <a:latin typeface="Bookman Old Style"/>
                <a:ea typeface="Times New Roman"/>
              </a:rPr>
              <a:t>Who will send this messag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876920"/>
            <a:ext cx="9144000" cy="15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3300"/>
                </a:solidFill>
                <a:latin typeface="Bookman Old Style"/>
                <a:ea typeface="Times New Roman"/>
              </a:rPr>
              <a:t>Who will you send this 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8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382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3962160" cy="5334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11448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f9f"/>
                </a:solidFill>
                <a:latin typeface="Book Antiqua"/>
              </a:rPr>
              <a:t>Just the same, don’t be afraid , my child, I will always b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61722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f9f"/>
                </a:solidFill>
                <a:latin typeface="Book Antiqua"/>
              </a:rPr>
              <a:t>Even when you feel alon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ookman Old Style"/>
              </a:rPr>
              <a:t>One Day, Jesus and Satan had a  conversation and Jesus ask Satan what was he doing with the people here in the Worl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5116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3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Vista previa de imagen"/>
          <p:cNvPicPr/>
          <p:nvPr/>
        </p:nvPicPr>
        <p:blipFill>
          <a:blip r:embed="rId1"/>
          <a:stretch/>
        </p:blipFill>
        <p:spPr>
          <a:xfrm>
            <a:off x="4419720" y="2590920"/>
            <a:ext cx="1714320" cy="113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90920" y="3352680"/>
            <a:ext cx="2743200" cy="3276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28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1085760"/>
            <a:ext cx="6172200" cy="5010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38280" y="1602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Book Antiqua"/>
              </a:rPr>
              <a:t>Peace be with you</a:t>
            </a:r>
            <a:r>
              <a:rPr b="1" i="1" lang="es-AR" sz="2800" spc="-1" strike="noStrike">
                <a:solidFill>
                  <a:srgbClr val="333399"/>
                </a:solidFill>
                <a:latin typeface="Book Antiqua"/>
              </a:rPr>
              <a:t>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438280" y="2514600"/>
            <a:ext cx="41911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1" i="1" lang="es-AR" sz="8000" spc="-1" strike="noStrike">
                <a:solidFill>
                  <a:srgbClr val="333399"/>
                </a:solidFill>
                <a:latin typeface="Bookman Old Style"/>
              </a:rPr>
              <a:t>Am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4724280" cy="48765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man Old Style"/>
              </a:rPr>
              <a:t>Satan Responded</a:t>
            </a:r>
            <a:r>
              <a:rPr b="0" lang="en-US" sz="44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Bookman Old Style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406520"/>
            <a:ext cx="9144000" cy="442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Bookman Old Style"/>
              </a:rPr>
              <a:t>They are entertaining me : I am teaching them how to drop bombs and to kill; to use weapons; to hate one another; to abuse children; showing the youth how to use drugs; to drink, to lie and to do everything prohibited...</a:t>
            </a: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I am amusing myself very much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86600" y="2286000"/>
            <a:ext cx="1703520" cy="2228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52280" y="4572000"/>
            <a:ext cx="22860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608200" y="303120"/>
            <a:ext cx="3929040" cy="6251760"/>
            <a:chOff x="2608200" y="303120"/>
            <a:chExt cx="3929040" cy="6251760"/>
          </a:xfrm>
        </p:grpSpPr>
        <p:sp>
          <p:nvSpPr>
            <p:cNvPr id="52" name=""/>
            <p:cNvSpPr/>
            <p:nvPr/>
          </p:nvSpPr>
          <p:spPr>
            <a:xfrm>
              <a:off x="2608200" y="303120"/>
              <a:ext cx="3929040" cy="62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2608200" y="303120"/>
              <a:ext cx="3929040" cy="2560680"/>
              <a:chOff x="2608200" y="303120"/>
              <a:chExt cx="3929040" cy="2560680"/>
            </a:xfrm>
          </p:grpSpPr>
          <p:sp>
            <p:nvSpPr>
              <p:cNvPr id="54" name=""/>
              <p:cNvSpPr/>
              <p:nvPr/>
            </p:nvSpPr>
            <p:spPr>
              <a:xfrm>
                <a:off x="2608200" y="303120"/>
                <a:ext cx="3929040" cy="187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608200" y="303120"/>
                <a:ext cx="3446640" cy="256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pt-BR" sz="144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934320" y="4800600"/>
            <a:ext cx="2209680" cy="20574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47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Jesus asked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nd after, what are you going to do with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14600" y="342900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After ...I am going to finish them all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560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3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Vista previa de image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876920"/>
            <a:ext cx="2209680" cy="1981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672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Ir a imagen de tamaño complet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09680" y="4952880"/>
            <a:ext cx="152424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457200" y="685800"/>
            <a:ext cx="1371600" cy="1676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30560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3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Vista previa de imagen"/>
          <p:cNvPicPr/>
          <p:nvPr/>
        </p:nvPicPr>
        <p:blipFill>
          <a:blip r:embed="rId7"/>
          <a:stretch/>
        </p:blipFill>
        <p:spPr>
          <a:xfrm>
            <a:off x="3733920" y="5715000"/>
            <a:ext cx="1904760" cy="1143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5091120"/>
            <a:ext cx="914400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Jesus ask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How much do you want for th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617220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076480"/>
            <a:ext cx="9144000" cy="424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Satan Repli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Why are you going to love these people? They are treacherous, lying, false, egoistic, and covetou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74644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They will never love you really, they are going to blaspheme and spit in your face, they are going to despise you and they will not  consider you at all</a:t>
            </a:r>
            <a:r>
              <a:rPr b="1" lang="es-ES" sz="44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3216240" cy="1935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67080" y="380880"/>
            <a:ext cx="4343400" cy="24386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9:00:54Z</dcterms:created>
  <dc:creator>Quike_BCN (MOD)</dc:creator>
  <dc:description/>
  <dc:language>en-US</dc:language>
  <cp:lastModifiedBy>Bruce Wright</cp:lastModifiedBy>
  <dcterms:modified xsi:type="dcterms:W3CDTF">2009-02-24T06:03:40Z</dcterms:modified>
  <cp:revision>71</cp:revision>
  <dc:subject/>
  <dc:title>Un dia...</dc:title>
</cp:coreProperties>
</file>