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Alan%20Jackson%20-%20How%20Great%20Thou%20Art.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B19-940A-4361-A55F-EB5C9427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005-0512-4195-8371-1CF6143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532-9123-4EF3-9654-50870636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07B-A420-4EE4-B171-A80ED755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540-0622-4D69-9863-3DE7D52A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FDC-5394-444A-9BBA-2E87FFA3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B02-AC58-44C5-90AD-A1F5B1CA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E99-EB94-4E42-A60A-1D8B428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F30-493F-4615-A9E9-B6E1BD00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249-D419-4666-9FC0-9F31925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C91-392E-4EE0-9EE8-8EB0AF39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E0D-CF3F-417C-95E5-91AB7E3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CAA-18DF-4816-955A-0372634E737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lan%20Jackson%20-%20How%20Great%20Thou%20Art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ar.wrs.yahoo.com/_ylt=A9iby414_eVEpvgAEyu29Qt./SIG=12u6a0amf/EXP=1156009720/**http%3A//www.emol.com/especiales/guerra/foto_noticia/1014.torres_gemelas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ar.wrs.yahoo.com/_ylt=A9ibyjkI_uVEvpoAunqt9Qt./SIG=1gb13p6l5/EXP=1156009864/**http%3A//ar.search.yahoo.com/search/images/view%3Fback=http%253A%252F%252Far.search.yahoo.com%252Fsearch%252Fimages%253Fp%253Dguerra%2526ei%253DUTF-8%2526fr%253Dush1-ar-mail%2526x%253Dwrt%26w=350%26h=500%26imgurl=www.galizacig.com%252Factualidade%252F200312%252Fimaxes%252Firaq_guerra_invasion_basora.jpg%26rurl=http%253A%252F%252Fwww.galizacig.com%252Factualidade%252F200312%252Fimaxes%253FN%253DD%26size=38.0kB%26name=iraq_guerra_invasion_basora.jpg%26p=guerra%26type=jpeg%26no=8%26tt=721.086%26ei=UTF-8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ne Day..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  <p:sndAc>
      <p:stSnd>
        <p:snd r:embed="rId2" name="Alan%20Jackson%20-%20How%20Great%20Thou%20Art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8862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man Old Style"/>
                <a:ea typeface="Times New Roman"/>
              </a:rPr>
              <a:t>How much do you want for them Sat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Bookman Old Style"/>
                <a:ea typeface="Times New Roman"/>
              </a:rPr>
              <a:t>I want all your tears and your bl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7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k done de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nd...Jesus paid the price of our liber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How do we forget Jes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87692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We believe everything they show us, but we question everything that comes from him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9000"/>
            <a:ext cx="9144000" cy="278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People send jokes through e-mail sending them to each other at a fast sp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But when the e-mail is about GOD, the people think about it twice before sending it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586764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75632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Everyone says they want to be with GOD one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7563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A lot of us say: I believe in GOD, but what do we do for HI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To speak of Jesus is not a matter that the people want to hear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They only come to Jesus when they are in big trou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800600"/>
            <a:ext cx="9144000" cy="249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hen you finish reading this mess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ill you send it to somebod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ho will send this mess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76920"/>
            <a:ext cx="9144000" cy="15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Bookman Old Style"/>
                <a:ea typeface="Times New Roman"/>
              </a:rPr>
              <a:t>Who will you send this 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62160" cy="533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144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f9f"/>
                </a:solidFill>
                <a:latin typeface="Book Antiqua"/>
              </a:rPr>
              <a:t>Just the same, don’t be afraid , my child, I will always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6172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f9f"/>
                </a:solidFill>
                <a:latin typeface="Book Antiqua"/>
              </a:rPr>
              <a:t>Even when you feel alon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ookman Old Style"/>
              </a:rPr>
              <a:t>One Day, Jesus and Satan had a  conversation and Jesus ask Satan what was he doing with the people here in the Worl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511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Vista previa de imagen"/>
          <p:cNvPicPr/>
          <p:nvPr/>
        </p:nvPicPr>
        <p:blipFill>
          <a:blip r:embed="rId1"/>
          <a:stretch/>
        </p:blipFill>
        <p:spPr>
          <a:xfrm>
            <a:off x="4419720" y="2590920"/>
            <a:ext cx="1714320" cy="113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27432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28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085760"/>
            <a:ext cx="6172200" cy="5010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38280" y="16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Book Antiqua"/>
              </a:rPr>
              <a:t>Peace be with you</a:t>
            </a:r>
            <a:r>
              <a:rPr b="1" i="1" lang="es-AR" sz="2800" spc="-1" strike="noStrike">
                <a:solidFill>
                  <a:srgbClr val="333399"/>
                </a:solidFill>
                <a:latin typeface="Book Antiqua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38280" y="2514600"/>
            <a:ext cx="41911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i="1" lang="es-AR" sz="8000" spc="-1" strike="noStrike">
                <a:solidFill>
                  <a:srgbClr val="333399"/>
                </a:solidFill>
                <a:latin typeface="Bookman Old Style"/>
              </a:rPr>
              <a:t>Am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4724280" cy="4876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man Old Style"/>
              </a:rPr>
              <a:t>Satan Responded</a:t>
            </a:r>
            <a:r>
              <a:rPr b="0" lang="en-US" sz="4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Bookman Old Style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06520"/>
            <a:ext cx="9144000" cy="44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Bookman Old Style"/>
              </a:rPr>
              <a:t>They are entertaining me : I am teaching them how to drop bombs and to kill; to use weapons; to hate one another; to abuse children; showing the youth how to use drugs; to drink, to lie and to do everything prohibited...</a:t>
            </a: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I am amusing myself very much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2286000"/>
            <a:ext cx="170352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4572000"/>
            <a:ext cx="2286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608200" y="303120"/>
            <a:ext cx="3929040" cy="6251760"/>
            <a:chOff x="2608200" y="303120"/>
            <a:chExt cx="3929040" cy="6251760"/>
          </a:xfrm>
        </p:grpSpPr>
        <p:sp>
          <p:nvSpPr>
            <p:cNvPr id="52" name=""/>
            <p:cNvSpPr/>
            <p:nvPr/>
          </p:nvSpPr>
          <p:spPr>
            <a:xfrm>
              <a:off x="2608200" y="303120"/>
              <a:ext cx="3929040" cy="62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608200" y="303120"/>
              <a:ext cx="3929040" cy="2560680"/>
              <a:chOff x="2608200" y="303120"/>
              <a:chExt cx="3929040" cy="2560680"/>
            </a:xfrm>
          </p:grpSpPr>
          <p:sp>
            <p:nvSpPr>
              <p:cNvPr id="54" name=""/>
              <p:cNvSpPr/>
              <p:nvPr/>
            </p:nvSpPr>
            <p:spPr>
              <a:xfrm>
                <a:off x="2608200" y="303120"/>
                <a:ext cx="3929040" cy="187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08200" y="303120"/>
                <a:ext cx="3446640" cy="256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pt-BR" sz="14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934320" y="4800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Jesus asked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nd after, what are you going to do with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After ...I am going to finish them al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Vista previa de imag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8769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72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r a imagen de tamaño complet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4952880"/>
            <a:ext cx="152424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57200" y="685800"/>
            <a:ext cx="1371600" cy="1676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0560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3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Vista previa de imagen"/>
          <p:cNvPicPr/>
          <p:nvPr/>
        </p:nvPicPr>
        <p:blipFill>
          <a:blip r:embed="rId7"/>
          <a:stretch/>
        </p:blipFill>
        <p:spPr>
          <a:xfrm>
            <a:off x="3733920" y="5715000"/>
            <a:ext cx="190476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091120"/>
            <a:ext cx="914400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Jesus ask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How much do you want for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076480"/>
            <a:ext cx="9144000" cy="424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Satan Repl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Why are you going to love these people? They are treacherous, lying, false, egoistic, and coveto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464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They will never love you really, they are going to blaspheme and spit in your face, they are going to despise you and they will not  consider you at all</a:t>
            </a:r>
            <a:r>
              <a:rPr b="1" lang="es-ES" sz="4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216240" cy="1935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4343400" cy="2438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9:00:54Z</dcterms:created>
  <dc:creator>Quike_BCN (MOD)</dc:creator>
  <dc:description/>
  <dc:language>en-US</dc:language>
  <cp:lastModifiedBy>Bruce Wright</cp:lastModifiedBy>
  <dcterms:modified xsi:type="dcterms:W3CDTF">2009-02-24T06:03:40Z</dcterms:modified>
  <cp:revision>71</cp:revision>
  <dc:subject/>
  <dc:title>Un dia...</dc:title>
</cp:coreProperties>
</file>