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42.png" ContentType="image/png"/>
  <Override PartName="/ppt/media/image26.jpeg" ContentType="image/jpeg"/>
  <Override PartName="/ppt/media/image23.jpeg" ContentType="image/jpeg"/>
  <Override PartName="/ppt/media/image35.jpeg" ContentType="image/jpeg"/>
  <Override PartName="/ppt/media/image2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.jpeg" ContentType="image/jpeg"/>
  <Override PartName="/ppt/media/image62.jpeg" ContentType="image/jpeg"/>
  <Override PartName="/ppt/media/image32.jpeg" ContentType="image/jpeg"/>
  <Override PartName="/ppt/media/image40.jpeg" ContentType="image/jpeg"/>
  <Override PartName="/ppt/media/image13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59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0.jpeg" ContentType="image/jpeg"/>
  <Override PartName="/ppt/media/image16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yesterdayoncemorekarencarpenter.wav" ContentType="audio/x-wav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2A9-93F0-424A-BD7B-CB5C871E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737-C5A2-4F54-B0FC-30461185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7B2-DA5D-4AEC-B13B-150C6DAC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939-E95A-469F-B3CA-2EBDF7C8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0D7-32EE-4E4C-9E3F-0CC9C9A4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828-B302-418E-8EC1-9A0FD629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CF5-FD29-4861-A0F0-1A033D52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129-3F05-49F9-B6C7-B6DBC7DA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0CC-BAC7-4CE2-92E6-5C1076C7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45D-5656-4AC9-A2A2-22554EBF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E08-41FA-4E20-9BA6-8937E593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938-D6D9-4A21-975C-7EBDD793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EB56-163D-4E6E-B2C2-BA07C49B338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yesterdayoncemorekarencarpente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0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9999"/>
                </a:solidFill>
                <a:latin typeface="Burnstown Dam"/>
              </a:rPr>
              <a:t>How many do</a:t>
            </a:r>
            <a:br>
              <a:rPr sz="6000"/>
            </a:br>
            <a:r>
              <a:rPr b="1" lang="it-IT" sz="6000" spc="-1" strike="noStrike">
                <a:solidFill>
                  <a:srgbClr val="009999"/>
                </a:solidFill>
                <a:latin typeface="Burnstown Dam"/>
              </a:rPr>
              <a:t>you recogniz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69120" y="6237360"/>
            <a:ext cx="41828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Please “Click” to Advanc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19480" y="189000"/>
            <a:ext cx="4505040" cy="64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033720" cy="436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21080" y="549360"/>
            <a:ext cx="4822920" cy="518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95600" y="580536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 Nim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Mr. Spoc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Robert Wagner-ESA-002212.jpg"/>
          <p:cNvPicPr/>
          <p:nvPr/>
        </p:nvPicPr>
        <p:blipFill>
          <a:blip r:embed="rId1"/>
          <a:stretch/>
        </p:blipFill>
        <p:spPr>
          <a:xfrm>
            <a:off x="2484360" y="189000"/>
            <a:ext cx="43149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Robert Wagner-ESA-002212.jpg"/>
          <p:cNvPicPr/>
          <p:nvPr/>
        </p:nvPicPr>
        <p:blipFill>
          <a:blip r:embed="rId1"/>
          <a:stretch/>
        </p:blipFill>
        <p:spPr>
          <a:xfrm>
            <a:off x="539640" y="260280"/>
            <a:ext cx="2624400" cy="3940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21040" y="6237360"/>
            <a:ext cx="36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ert Wagner Stephanie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rt to Ha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84720" y="260280"/>
            <a:ext cx="4360680" cy="5905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89000"/>
            <a:ext cx="5240160" cy="640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3828960" cy="492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9960" y="53737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na Riggs ( Emma Pee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05040" y="576360"/>
            <a:ext cx="3733920" cy="570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3672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6732360" cy="5135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8320" y="57340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ly Field (The Flying N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19400" y="189000"/>
            <a:ext cx="48355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24160" cy="311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700360" y="76500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05680" y="566100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ter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ision Im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9440" y="1023840"/>
            <a:ext cx="8385120" cy="481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Paul Michael Glaser-2.jpg"/>
          <p:cNvPicPr/>
          <p:nvPr/>
        </p:nvPicPr>
        <p:blipFill>
          <a:blip r:embed="rId1"/>
          <a:stretch/>
        </p:blipFill>
        <p:spPr>
          <a:xfrm>
            <a:off x="2425680" y="189000"/>
            <a:ext cx="44560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808520" cy="3972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Paul Michael Glaser-2.jpg"/>
          <p:cNvPicPr/>
          <p:nvPr/>
        </p:nvPicPr>
        <p:blipFill>
          <a:blip r:embed="rId2"/>
          <a:stretch/>
        </p:blipFill>
        <p:spPr>
          <a:xfrm>
            <a:off x="826920" y="333360"/>
            <a:ext cx="3016440" cy="4384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48680" y="5734080"/>
            <a:ext cx="40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Soul and Paul Michael Glas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Starsky and Hutch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14680" y="189000"/>
            <a:ext cx="44226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60028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4159080" cy="460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30360" y="6040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dsay Wa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Bionic Wo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41640" y="189000"/>
            <a:ext cx="44067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69244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24360" y="189000"/>
            <a:ext cx="4557600" cy="563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22160" y="602136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da C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Wonder Wo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27240" y="0"/>
            <a:ext cx="4889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465768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22880" y="6237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irle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4320" y="216000"/>
            <a:ext cx="280332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321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1680" y="189000"/>
            <a:ext cx="4148280" cy="511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5516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n Ad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Maxwell Smar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Agent 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4084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932360" cy="2830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95640" y="2916360"/>
            <a:ext cx="4932360" cy="394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60000" y="602136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am West &amp; Burt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atman &amp; Rob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7760" y="189000"/>
            <a:ext cx="4308480" cy="648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781360" cy="4181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56000" y="981000"/>
            <a:ext cx="4000680" cy="476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54880" y="580536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bara Fel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Agent 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Lee Majors-SGG-065000.jpg"/>
          <p:cNvPicPr/>
          <p:nvPr/>
        </p:nvPicPr>
        <p:blipFill>
          <a:blip r:embed="rId1"/>
          <a:stretch/>
        </p:blipFill>
        <p:spPr>
          <a:xfrm>
            <a:off x="2266920" y="189000"/>
            <a:ext cx="48657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Lee Majors-SGG-065000.jpg"/>
          <p:cNvPicPr/>
          <p:nvPr/>
        </p:nvPicPr>
        <p:blipFill>
          <a:blip r:embed="rId1"/>
          <a:stretch/>
        </p:blipFill>
        <p:spPr>
          <a:xfrm>
            <a:off x="468360" y="33336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08360" y="1484280"/>
            <a:ext cx="5143680" cy="3905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24200" y="5465880"/>
            <a:ext cx="20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e Maj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Barbara Eden-SGG-042293.jpg"/>
          <p:cNvPicPr/>
          <p:nvPr/>
        </p:nvPicPr>
        <p:blipFill>
          <a:blip r:embed="rId1"/>
          <a:stretch/>
        </p:blipFill>
        <p:spPr>
          <a:xfrm>
            <a:off x="2386080" y="189000"/>
            <a:ext cx="451332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Barbara Eden-SGG-042293.jpg"/>
          <p:cNvPicPr/>
          <p:nvPr/>
        </p:nvPicPr>
        <p:blipFill>
          <a:blip r:embed="rId1"/>
          <a:stretch/>
        </p:blipFill>
        <p:spPr>
          <a:xfrm>
            <a:off x="611280" y="404640"/>
            <a:ext cx="2819160" cy="404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714560" cy="6429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59080" y="5897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bara 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Larry Hagman-ALO-000424.jpg"/>
          <p:cNvPicPr/>
          <p:nvPr/>
        </p:nvPicPr>
        <p:blipFill>
          <a:blip r:embed="rId1"/>
          <a:stretch/>
        </p:blipFill>
        <p:spPr>
          <a:xfrm>
            <a:off x="2004840" y="189000"/>
            <a:ext cx="5232600" cy="6480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Larry Hagman-ALO-000424.jpg"/>
          <p:cNvPicPr/>
          <p:nvPr/>
        </p:nvPicPr>
        <p:blipFill>
          <a:blip r:embed="rId1"/>
          <a:stretch/>
        </p:blipFill>
        <p:spPr>
          <a:xfrm>
            <a:off x="539640" y="333360"/>
            <a:ext cx="3095640" cy="3835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56000" y="549360"/>
            <a:ext cx="4496040" cy="588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8560" y="56088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ry Hag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90520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80000" y="260280"/>
            <a:ext cx="4452840" cy="6337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18000" y="560880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x 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Al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51991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162000"/>
            <a:ext cx="67694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80000" y="549360"/>
            <a:ext cx="5143320" cy="526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448080" cy="3327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54640" y="58770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ry and M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3 Stoo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94000" y="189000"/>
            <a:ext cx="435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40000" cy="34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4395600" cy="547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914360" y="575316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y Wals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y Favorite Mart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95360" y="189000"/>
            <a:ext cx="4553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208764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4495680" cy="5676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98160" y="595008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hn A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Addams Fami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372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623120" cy="587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1040" y="602136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ert Vaug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Napoleon Solo ) The Man from UN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920" y="73080"/>
            <a:ext cx="3789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235080"/>
            <a:ext cx="712800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038400" cy="280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4492800" cy="5616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37360" y="587700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Mc Ca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Illia Kuryak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1792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457520" cy="549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62520" y="61657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ss Parker ( Daniel Boo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05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525840" cy="2254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2735280" cy="2035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13228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39600" y="5445000"/>
            <a:ext cx="36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y Mumy and Angela Cart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Will and Penny Robin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ost in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06840" y="189000"/>
            <a:ext cx="3687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1908360" cy="3316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2255760" cy="5184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5800" y="551664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He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Lee Cra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353760" y="621648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e Andrews and Christopher Pl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Sound of Mus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3513240" cy="460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259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76400" y="958680"/>
            <a:ext cx="339120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2436840" cy="354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857320" cy="468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934160" y="558972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k Van D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Bert ) (Mary Poppi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226040" cy="6337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386240" y="260280"/>
            <a:ext cx="47577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151960" y="6216480"/>
            <a:ext cx="30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aron Gless  and Tine D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agney and Lac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170240" y="0"/>
            <a:ext cx="4973760" cy="616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2801880" cy="3716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465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290520"/>
            <a:ext cx="8353440" cy="6276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Peter Falk-MAJ-000243.jpg"/>
          <p:cNvPicPr/>
          <p:nvPr/>
        </p:nvPicPr>
        <p:blipFill>
          <a:blip r:embed="rId1"/>
          <a:stretch/>
        </p:blipFill>
        <p:spPr>
          <a:xfrm>
            <a:off x="2124000" y="260280"/>
            <a:ext cx="50990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Peter Falk-MAJ-000243.jpg"/>
          <p:cNvPicPr/>
          <p:nvPr/>
        </p:nvPicPr>
        <p:blipFill>
          <a:blip r:embed="rId1"/>
          <a:stretch/>
        </p:blipFill>
        <p:spPr>
          <a:xfrm>
            <a:off x="250920" y="333360"/>
            <a:ext cx="2825640" cy="351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03640" y="692280"/>
            <a:ext cx="5722920" cy="5140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94520" y="58770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ter F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lu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32000" y="2492280"/>
            <a:ext cx="7127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Hopefully, we will ALL get there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5877000"/>
            <a:ext cx="3240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lease “Click” to en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30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5370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81760" y="5661000"/>
            <a:ext cx="37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rne Greeen and Michael La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en and Joe Cartwright)(Bonan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3146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56040" cy="48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3524400" cy="561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52680" y="580536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ry M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hilippe Gerard) (The Fugi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20:20:58Z</dcterms:created>
  <dc:creator>Utente</dc:creator>
  <dc:description/>
  <dc:language>en-US</dc:language>
  <cp:lastModifiedBy>Owner</cp:lastModifiedBy>
  <dcterms:modified xsi:type="dcterms:W3CDTF">2009-09-18T13:25:42Z</dcterms:modified>
  <cp:revision>27</cp:revision>
  <dc:subject/>
  <dc:title>Vediamo se riesci a riconoscerli……</dc:title>
</cp:coreProperties>
</file>