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AUTOMNE%20ROSE1.wav" ContentType="audio/x-wav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6.jpeg" ContentType="image/jpeg"/>
  <Override PartName="/ppt/media/image1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4FA4-D6D4-432B-8DF9-8C0EC0E01987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EB09-5A21-47A6-82BD-9D8776DF4749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786B-3B9E-458B-A1CB-86FCBB79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AB92-D8C1-45B2-B3C4-D2DDA151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E2A9-7B77-4E79-9DA7-F6B3AE48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8DD1-BD9F-4F8F-B499-A9A2833B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51AC-EC24-4259-B4CF-79EEF797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BF6A-56E0-4C93-BFF7-D7E806C5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CE72-1E8F-493A-B02C-4143170B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487-8D6C-48F9-B1AB-46B86BA6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4AAB-E4D4-4525-8B3F-4C550E54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2FAD-D2E3-4454-B204-768E7492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649F-9F90-4A47-8BFF-470B21A8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F57C-692D-4BDB-A098-64D5D819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616"/>
            </a:gs>
            <a:gs pos="100000">
              <a:srgbClr val="5b532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425B-8CD6-461F-9069-D960D67BAF8C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AUTOMNE%20ROSE1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Great_Smoky_Mountains_Nemzeti_Park-Tennessee-US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2438280" y="1676520"/>
            <a:ext cx="5400720" cy="3469320"/>
            <a:chOff x="2438280" y="1676520"/>
            <a:chExt cx="5400720" cy="3469320"/>
          </a:xfrm>
        </p:grpSpPr>
        <p:sp>
          <p:nvSpPr>
            <p:cNvPr id="50" name="WordArt 5"/>
            <p:cNvSpPr txBox="1"/>
            <p:nvPr/>
          </p:nvSpPr>
          <p:spPr>
            <a:xfrm>
              <a:off x="2438280" y="1676520"/>
              <a:ext cx="5400720" cy="193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2f2e00"/>
                    </a:solidFill>
                    <a:miter/>
                  </a:ln>
                  <a:solidFill>
                    <a:srgbClr val="ffff99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empus Sans ITC"/>
                </a:rPr>
                <a:t>Herfst...</a:t>
              </a:r>
              <a:endParaRPr b="1" lang="en-US" sz="9600" spc="1" strike="noStrike">
                <a:ln w="9360">
                  <a:solidFill>
                    <a:srgbClr val="2f2e00"/>
                  </a:solidFill>
                  <a:miter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  <a:ea typeface="Tempus Sans ITC"/>
              </a:endParaRPr>
            </a:p>
          </p:txBody>
        </p:sp>
        <p:grpSp>
          <p:nvGrpSpPr>
            <p:cNvPr id="51" name="Group 8"/>
            <p:cNvGrpSpPr/>
            <p:nvPr/>
          </p:nvGrpSpPr>
          <p:grpSpPr>
            <a:xfrm>
              <a:off x="2780280" y="4140000"/>
              <a:ext cx="4287240" cy="1005840"/>
              <a:chOff x="2780280" y="4140000"/>
              <a:chExt cx="4287240" cy="1005840"/>
            </a:xfrm>
          </p:grpSpPr>
          <p:sp>
            <p:nvSpPr>
              <p:cNvPr id="52" name="Text Box 4"/>
              <p:cNvSpPr/>
              <p:nvPr/>
            </p:nvSpPr>
            <p:spPr>
              <a:xfrm>
                <a:off x="2780280" y="4777560"/>
                <a:ext cx="428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WordArt 6"/>
              <p:cNvSpPr txBox="1"/>
              <p:nvPr/>
            </p:nvSpPr>
            <p:spPr>
              <a:xfrm>
                <a:off x="3449880" y="4140000"/>
                <a:ext cx="3376440" cy="851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Wave1">
                  <a:avLst>
                    <a:gd name="adj1" fmla="val 0"/>
                    <a:gd name="adj2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1" strike="noStrike">
                    <a:ln w="9360">
                      <a:solidFill>
                        <a:srgbClr val="2f2e00"/>
                      </a:solidFill>
                      <a:miter/>
                    </a:ln>
                    <a:solidFill>
                      <a:srgbClr val="ffff99"/>
                    </a:solidFill>
                    <a:effectLst>
                      <a:outerShdw dist="53966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Tempus Sans ITC"/>
                  </a:rPr>
                  <a:t>Elders…</a:t>
                </a:r>
                <a:endParaRPr b="1" lang="en-US" sz="4000" spc="1" strike="noStrike">
                  <a:ln w="9360">
                    <a:solidFill>
                      <a:srgbClr val="2f2e00"/>
                    </a:solidFill>
                    <a:miter/>
                  </a:ln>
                  <a:solidFill>
                    <a:srgbClr val="ffff99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empus Sans ITC"/>
                  <a:ea typeface="Tempus Sans ITC"/>
                </a:endParaRPr>
              </a:p>
            </p:txBody>
          </p:sp>
        </p:grpSp>
      </p:grpSp>
      <p:sp>
        <p:nvSpPr>
          <p:cNvPr id="54" name="Rectangle 7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Image7c"/>
          <p:cNvPicPr/>
          <p:nvPr/>
        </p:nvPicPr>
        <p:blipFill>
          <a:blip r:embed="rId2"/>
          <a:stretch/>
        </p:blipFill>
        <p:spPr>
          <a:xfrm>
            <a:off x="7812000" y="5983200"/>
            <a:ext cx="777960" cy="3952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split dir="in" orient="vert"/>
    <p:sndAc>
      <p:stSnd>
        <p:snd r:embed="rId3" name="AUTOMNE%20ROSE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Ausztriai_tájkép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8" name="WordArt 6"/>
          <p:cNvSpPr txBox="1"/>
          <p:nvPr/>
        </p:nvSpPr>
        <p:spPr>
          <a:xfrm>
            <a:off x="468360" y="5877000"/>
            <a:ext cx="29512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Oostenrijk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Ramsau-Bajorország Allemag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5"/>
          <p:cNvSpPr txBox="1"/>
          <p:nvPr/>
        </p:nvSpPr>
        <p:spPr>
          <a:xfrm>
            <a:off x="468360" y="5950080"/>
            <a:ext cx="33116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Beieren, Duitsland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neuschwanstein-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468360" y="5950080"/>
            <a:ext cx="42004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Neuschwanstein, Duitsland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</p:spTree>
  </p:cSld>
  <p:transition spd="slow" advTm="7000">
    <p:split dir="in" orient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Szegedi_Füvészkert Hongr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5"/>
          <p:cNvSpPr txBox="1"/>
          <p:nvPr/>
        </p:nvSpPr>
        <p:spPr>
          <a:xfrm>
            <a:off x="6227640" y="5877000"/>
            <a:ext cx="24480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Hongarije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Kilátás_a_Kékestetõrõ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"/>
          <p:cNvSpPr txBox="1"/>
          <p:nvPr/>
        </p:nvSpPr>
        <p:spPr>
          <a:xfrm>
            <a:off x="468360" y="5950080"/>
            <a:ext cx="16556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Hongarije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Pieskowa_Skala_kastély-Ojcow_Nemzeti_Park,Lengyelorszá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WordArt 5"/>
          <p:cNvSpPr txBox="1"/>
          <p:nvPr/>
        </p:nvSpPr>
        <p:spPr>
          <a:xfrm>
            <a:off x="539640" y="5877000"/>
            <a:ext cx="17287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Polen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Huanglong_Történelmi_és_Nemzeti_Park-Kí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5"/>
          <p:cNvSpPr txBox="1"/>
          <p:nvPr/>
        </p:nvSpPr>
        <p:spPr>
          <a:xfrm>
            <a:off x="5580000" y="5950080"/>
            <a:ext cx="27241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Huanglong, China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Kyoto-Japá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WordArt 6"/>
          <p:cNvSpPr txBox="1"/>
          <p:nvPr/>
        </p:nvSpPr>
        <p:spPr>
          <a:xfrm>
            <a:off x="3492360" y="5877000"/>
            <a:ext cx="27352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Kyoto, Japan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Õszi_színek-Kyoto-Japá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5"/>
          <p:cNvSpPr txBox="1"/>
          <p:nvPr/>
        </p:nvSpPr>
        <p:spPr>
          <a:xfrm>
            <a:off x="468360" y="6021360"/>
            <a:ext cx="280836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Kyoto, Japan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Klondike-völgy-Olgilvie-hegység-Yuk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WordArt 7"/>
          <p:cNvSpPr txBox="1"/>
          <p:nvPr/>
        </p:nvSpPr>
        <p:spPr>
          <a:xfrm>
            <a:off x="468360" y="5950080"/>
            <a:ext cx="27352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Yukon, Canada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Eira-vízesés-Brecon_Beacons_Nemzeti_Park-Wal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6"/>
          <p:cNvSpPr txBox="1"/>
          <p:nvPr/>
        </p:nvSpPr>
        <p:spPr>
          <a:xfrm>
            <a:off x="6227640" y="5877000"/>
            <a:ext cx="20383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Schotland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Talbot-tó-Jasper_Nemzeti_Park-Alber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6"/>
          <p:cNvSpPr txBox="1"/>
          <p:nvPr/>
        </p:nvSpPr>
        <p:spPr>
          <a:xfrm>
            <a:off x="900000" y="5877000"/>
            <a:ext cx="45356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 </a:t>
            </a: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Jasper Nat. Park, Alberta - Canada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Arrowhead_Tartoményi_Park-Ontario-Kana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5"/>
          <p:cNvSpPr txBox="1"/>
          <p:nvPr/>
        </p:nvSpPr>
        <p:spPr>
          <a:xfrm>
            <a:off x="395280" y="5877000"/>
            <a:ext cx="4537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Arrowhead Park, Ontario - Canada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Credit-folyó-Ontario-Kana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WordArt 6"/>
          <p:cNvSpPr txBox="1"/>
          <p:nvPr/>
        </p:nvSpPr>
        <p:spPr>
          <a:xfrm>
            <a:off x="6372360" y="5877000"/>
            <a:ext cx="20872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Ontario, Canada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osz-1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7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8"/>
          <p:cNvSpPr txBox="1"/>
          <p:nvPr/>
        </p:nvSpPr>
        <p:spPr>
          <a:xfrm>
            <a:off x="611280" y="5445000"/>
            <a:ext cx="3456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Muziek:</a:t>
            </a:r>
            <a:endParaRPr b="1" lang="en-US" sz="54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Rose d'Automne</a:t>
            </a:r>
            <a:endParaRPr b="1" lang="en-US" sz="54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</p:spTree>
  </p:cSld>
  <p:transition spd="slow" advTm="8000">
    <p:split dir="in" orient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osz-0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grpSp>
        <p:nvGrpSpPr>
          <p:cNvPr id="166" name="Group 8"/>
          <p:cNvGrpSpPr/>
          <p:nvPr/>
        </p:nvGrpSpPr>
        <p:grpSpPr>
          <a:xfrm>
            <a:off x="2050920" y="1052640"/>
            <a:ext cx="5041800" cy="1008000"/>
            <a:chOff x="2050920" y="1052640"/>
            <a:chExt cx="5041800" cy="1008000"/>
          </a:xfrm>
        </p:grpSpPr>
        <p:sp>
          <p:nvSpPr>
            <p:cNvPr id="167" name="Rectangle 7"/>
            <p:cNvSpPr/>
            <p:nvPr/>
          </p:nvSpPr>
          <p:spPr>
            <a:xfrm>
              <a:off x="2050920" y="1052640"/>
              <a:ext cx="5041800" cy="1008000"/>
            </a:xfrm>
            <a:prstGeom prst="rect">
              <a:avLst/>
            </a:prstGeom>
            <a:solidFill>
              <a:srgbClr val="ffffcc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WordArt 6"/>
            <p:cNvSpPr txBox="1"/>
            <p:nvPr/>
          </p:nvSpPr>
          <p:spPr>
            <a:xfrm>
              <a:off x="2495160" y="1197000"/>
              <a:ext cx="4158000" cy="68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1" strike="noStrike">
                  <a:ln w="0">
                    <a:noFill/>
                  </a:ln>
                  <a:solidFill>
                    <a:srgbClr val="00264c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empus Sans ITC"/>
                </a:rPr>
                <a:t>Nog ‘n mooie herfst.</a:t>
              </a:r>
              <a:endParaRPr b="1" lang="en-US" sz="5400" spc="1" strike="noStrike">
                <a:ln w="0">
                  <a:noFill/>
                </a:ln>
                <a:solidFill>
                  <a:srgbClr val="00264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  <a:ea typeface="Tempus Sans ITC"/>
              </a:endParaRPr>
            </a:p>
          </p:txBody>
        </p:sp>
      </p:grpSp>
      <p:sp>
        <p:nvSpPr>
          <p:cNvPr id="169" name="Rectangle 5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16"/>
          <p:cNvGrpSpPr/>
          <p:nvPr/>
        </p:nvGrpSpPr>
        <p:grpSpPr>
          <a:xfrm>
            <a:off x="2411280" y="5877000"/>
            <a:ext cx="4321080" cy="503280"/>
            <a:chOff x="2411280" y="5877000"/>
            <a:chExt cx="4321080" cy="503280"/>
          </a:xfrm>
        </p:grpSpPr>
        <p:sp>
          <p:nvSpPr>
            <p:cNvPr id="171" name="Rectangle 13"/>
            <p:cNvSpPr/>
            <p:nvPr/>
          </p:nvSpPr>
          <p:spPr>
            <a:xfrm>
              <a:off x="2411280" y="5877000"/>
              <a:ext cx="4321080" cy="503280"/>
            </a:xfrm>
            <a:prstGeom prst="rect">
              <a:avLst/>
            </a:prstGeom>
            <a:solidFill>
              <a:srgbClr val="ffffcc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WordArt 14"/>
            <p:cNvSpPr txBox="1"/>
            <p:nvPr/>
          </p:nvSpPr>
          <p:spPr>
            <a:xfrm>
              <a:off x="2709720" y="5949000"/>
              <a:ext cx="3858840" cy="32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00172e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empus Sans ITC"/>
                </a:rPr>
                <a:t>Einde.</a:t>
              </a:r>
              <a:endParaRPr b="1" lang="en-US" sz="2800" spc="1" strike="noStrike">
                <a:ln w="0">
                  <a:noFill/>
                </a:ln>
                <a:solidFill>
                  <a:srgbClr val="00172e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  <a:ea typeface="Tempus Sans ITC"/>
              </a:endParaRPr>
            </a:p>
          </p:txBody>
        </p:sp>
      </p:grpSp>
    </p:spTree>
  </p:cSld>
  <p:transition spd="slow" advTm="16000">
    <p:split dir="in" orient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Hampshire-Angl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WordArt 6"/>
          <p:cNvSpPr txBox="1"/>
          <p:nvPr/>
        </p:nvSpPr>
        <p:spPr>
          <a:xfrm>
            <a:off x="468360" y="5950080"/>
            <a:ext cx="33717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Hampshire, Engeland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norvegia-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6"/>
          <p:cNvSpPr txBox="1"/>
          <p:nvPr/>
        </p:nvSpPr>
        <p:spPr>
          <a:xfrm>
            <a:off x="6084720" y="5805360"/>
            <a:ext cx="223236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Noorwegen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Holland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3" name="WordArt 6"/>
          <p:cNvSpPr txBox="1"/>
          <p:nvPr/>
        </p:nvSpPr>
        <p:spPr>
          <a:xfrm>
            <a:off x="3708360" y="5877000"/>
            <a:ext cx="18003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Nederland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Mauri-folyó-Francia_Pireneusok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8" name="WordArt 6"/>
          <p:cNvSpPr txBox="1"/>
          <p:nvPr/>
        </p:nvSpPr>
        <p:spPr>
          <a:xfrm>
            <a:off x="5292720" y="5805360"/>
            <a:ext cx="30956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Pyreneen, Frankrijk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Selva_Di_Cadore_temploma-Colle_Santa_Lucia-Olaszorszá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6"/>
          <p:cNvSpPr txBox="1"/>
          <p:nvPr/>
        </p:nvSpPr>
        <p:spPr>
          <a:xfrm>
            <a:off x="4500720" y="5877000"/>
            <a:ext cx="40320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Noord Italie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Bietschhorn-Valais-Svájc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6"/>
          <p:cNvSpPr txBox="1"/>
          <p:nvPr/>
        </p:nvSpPr>
        <p:spPr>
          <a:xfrm>
            <a:off x="468360" y="5950080"/>
            <a:ext cx="28796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Valais, Zwitserland</a:t>
            </a:r>
            <a:endParaRPr b="1" lang="en-US" sz="2800" spc="1" strike="noStrike">
              <a:ln w="0">
                <a:noFill/>
              </a:ln>
              <a:solidFill>
                <a:srgbClr val="ffff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</p:spTree>
  </p:cSld>
  <p:transition spd="slow" advTm="7000">
    <p:split dir="in" orient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Ausztriai_tájkép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3" name="WordArt 5"/>
          <p:cNvSpPr txBox="1"/>
          <p:nvPr/>
        </p:nvSpPr>
        <p:spPr>
          <a:xfrm>
            <a:off x="611280" y="5877000"/>
            <a:ext cx="23763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Oostenrijk</a:t>
            </a:r>
            <a:endParaRPr b="1" lang="en-US" sz="2800" spc="1" strike="noStrike">
              <a:ln w="0">
                <a:noFill/>
              </a:ln>
              <a:solidFill>
                <a:srgbClr val="ffff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5:39:13Z</dcterms:created>
  <dc:creator/>
  <dc:description/>
  <dc:language>en-US</dc:language>
  <cp:lastModifiedBy>eigenaar</cp:lastModifiedBy>
  <dcterms:modified xsi:type="dcterms:W3CDTF">2010-09-19T06:47:01Z</dcterms:modified>
  <cp:revision>51</cp:revision>
  <dc:subject/>
  <dc:title/>
</cp:coreProperties>
</file>