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AUTOMNE%20ROSE1.wav" ContentType="audio/x-wav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6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39D0-A581-4930-82C6-9AE9DCD2C4E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3741-9440-41AD-9540-34E56A382BE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388-F069-4A30-853C-E1E50B64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F75-6D67-4ADF-A8CB-1D5028E7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FD5-2182-473A-8860-FC8BE75E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E4C-C005-4370-9ABF-7DB6DC73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69F3-09A7-4411-BE26-127C582B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90C-1BAA-491E-A07C-9D7CD35E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D46-BE74-4C71-B475-C1A335E4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458-91E0-4464-BB51-ACD31A44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1B4-8958-4301-9C90-639148C3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988-F7BA-4517-B802-88C6F95E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AF5-4746-480D-937A-5D039896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EC6-61C0-4A66-ACAB-DD924B96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616"/>
            </a:gs>
            <a:gs pos="100000">
              <a:srgbClr val="5b53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80A7-AD8D-4922-9C33-3D704ECD769B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AUTOMNE%20ROSE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reat_Smoky_Mountains_Nemzeti_Park-Tennessee-US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2438280" y="1676520"/>
            <a:ext cx="5400720" cy="3469320"/>
            <a:chOff x="2438280" y="1676520"/>
            <a:chExt cx="5400720" cy="3469320"/>
          </a:xfrm>
        </p:grpSpPr>
        <p:sp>
          <p:nvSpPr>
            <p:cNvPr id="50" name="WordArt 5"/>
            <p:cNvSpPr txBox="1"/>
            <p:nvPr/>
          </p:nvSpPr>
          <p:spPr>
            <a:xfrm>
              <a:off x="2438280" y="1676520"/>
              <a:ext cx="5400720" cy="193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2f2e00"/>
                    </a:solidFill>
                    <a:miter/>
                  </a:ln>
                  <a:solidFill>
                    <a:srgbClr val="ffff99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empus Sans ITC"/>
                </a:rPr>
                <a:t>Herfst...</a:t>
              </a:r>
              <a:endParaRPr b="1" lang="en-US" sz="9600" spc="1" strike="noStrike">
                <a:ln w="9360">
                  <a:solidFill>
                    <a:srgbClr val="2f2e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  <a:ea typeface="Tempus Sans ITC"/>
              </a:endParaRPr>
            </a:p>
          </p:txBody>
        </p:sp>
        <p:grpSp>
          <p:nvGrpSpPr>
            <p:cNvPr id="51" name="Group 8"/>
            <p:cNvGrpSpPr/>
            <p:nvPr/>
          </p:nvGrpSpPr>
          <p:grpSpPr>
            <a:xfrm>
              <a:off x="2780280" y="4140000"/>
              <a:ext cx="4287240" cy="1005840"/>
              <a:chOff x="2780280" y="4140000"/>
              <a:chExt cx="4287240" cy="1005840"/>
            </a:xfrm>
          </p:grpSpPr>
          <p:sp>
            <p:nvSpPr>
              <p:cNvPr id="52" name="Text Box 4"/>
              <p:cNvSpPr/>
              <p:nvPr/>
            </p:nvSpPr>
            <p:spPr>
              <a:xfrm>
                <a:off x="2780280" y="4777560"/>
                <a:ext cx="428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WordArt 6"/>
              <p:cNvSpPr txBox="1"/>
              <p:nvPr/>
            </p:nvSpPr>
            <p:spPr>
              <a:xfrm>
                <a:off x="3449880" y="4140000"/>
                <a:ext cx="3376440" cy="851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1">
                  <a:avLst>
                    <a:gd name="adj1" fmla="val 0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1" strike="noStrike">
                    <a:ln w="9360">
                      <a:solidFill>
                        <a:srgbClr val="2f2e00"/>
                      </a:solidFill>
                      <a:miter/>
                    </a:ln>
                    <a:solidFill>
                      <a:srgbClr val="ffff99"/>
                    </a:solidFill>
                    <a:effectLst>
                      <a:outerShdw dist="53966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Tempus Sans ITC"/>
                  </a:rPr>
                  <a:t>Elders…</a:t>
                </a:r>
                <a:endParaRPr b="1" lang="en-US" sz="4000" spc="1" strike="noStrike">
                  <a:ln w="9360">
                    <a:solidFill>
                      <a:srgbClr val="2f2e00"/>
                    </a:solidFill>
                    <a:miter/>
                  </a:ln>
                  <a:solidFill>
                    <a:srgbClr val="ffff99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empus Sans ITC"/>
                  <a:ea typeface="Tempus Sans ITC"/>
                </a:endParaRPr>
              </a:p>
            </p:txBody>
          </p:sp>
        </p:grpSp>
      </p:grpSp>
      <p:sp>
        <p:nvSpPr>
          <p:cNvPr id="54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Image7c"/>
          <p:cNvPicPr/>
          <p:nvPr/>
        </p:nvPicPr>
        <p:blipFill>
          <a:blip r:embed="rId2"/>
          <a:stretch/>
        </p:blipFill>
        <p:spPr>
          <a:xfrm>
            <a:off x="7812000" y="5983200"/>
            <a:ext cx="777960" cy="3952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split dir="in" orient="vert"/>
    <p:sndAc>
      <p:stSnd>
        <p:snd r:embed="rId3" name="AUTOMNE%20ROSE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Ausztriai_tájkép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8" name="WordArt 6"/>
          <p:cNvSpPr txBox="1"/>
          <p:nvPr/>
        </p:nvSpPr>
        <p:spPr>
          <a:xfrm>
            <a:off x="468360" y="5877000"/>
            <a:ext cx="2951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Oostenrijk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Ramsau-Bajorország Allemag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>
            <a:off x="468360" y="5950080"/>
            <a:ext cx="3311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Beieren, Duitsland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neuschwanstein-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468360" y="5950080"/>
            <a:ext cx="42004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Neuschwanstein, Duitsland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p:transition spd="slow" advTm="7000">
    <p:split dir="in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Szegedi_Füvészkert Hongr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6227640" y="5877000"/>
            <a:ext cx="24480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Hongarije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Kilátás_a_Kékestetõrõ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468360" y="5950080"/>
            <a:ext cx="1655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Hongarije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Pieskowa_Skala_kastély-Ojcow_Nemzeti_Park,Lengyelorszá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5"/>
          <p:cNvSpPr txBox="1"/>
          <p:nvPr/>
        </p:nvSpPr>
        <p:spPr>
          <a:xfrm>
            <a:off x="539640" y="5877000"/>
            <a:ext cx="1728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Polen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Huanglong_Történelmi_és_Nemzeti_Park-Kí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5"/>
          <p:cNvSpPr txBox="1"/>
          <p:nvPr/>
        </p:nvSpPr>
        <p:spPr>
          <a:xfrm>
            <a:off x="5580000" y="5950080"/>
            <a:ext cx="27241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Huanglong, China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Kyoto-Japá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WordArt 6"/>
          <p:cNvSpPr txBox="1"/>
          <p:nvPr/>
        </p:nvSpPr>
        <p:spPr>
          <a:xfrm>
            <a:off x="3492360" y="5877000"/>
            <a:ext cx="2735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Kyoto, Japan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Õszi_színek-Kyoto-Japá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5"/>
          <p:cNvSpPr txBox="1"/>
          <p:nvPr/>
        </p:nvSpPr>
        <p:spPr>
          <a:xfrm>
            <a:off x="468360" y="6021360"/>
            <a:ext cx="28083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Kyoto, Japan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Klondike-völgy-Olgilvie-hegység-Yuk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7"/>
          <p:cNvSpPr txBox="1"/>
          <p:nvPr/>
        </p:nvSpPr>
        <p:spPr>
          <a:xfrm>
            <a:off x="468360" y="5950080"/>
            <a:ext cx="2735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Yukon, Canada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Eira-vízesés-Brecon_Beacons_Nemzeti_Park-Wal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6227640" y="5877000"/>
            <a:ext cx="20383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Schotland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Talbot-tó-Jasper_Nemzeti_Park-Albe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6"/>
          <p:cNvSpPr txBox="1"/>
          <p:nvPr/>
        </p:nvSpPr>
        <p:spPr>
          <a:xfrm>
            <a:off x="900000" y="5877000"/>
            <a:ext cx="4535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 </a:t>
            </a: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asper Nat. Park, Alberta - Canada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Arrowhead_Tartoményi_Park-Ontario-Kana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>
            <a:off x="395280" y="5877000"/>
            <a:ext cx="4537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Arrowhead Park, Ontario - Canada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Credit-folyó-Ontario-Kana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WordArt 6"/>
          <p:cNvSpPr txBox="1"/>
          <p:nvPr/>
        </p:nvSpPr>
        <p:spPr>
          <a:xfrm>
            <a:off x="6372360" y="5877000"/>
            <a:ext cx="2087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Ontario, Canada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osz-1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611280" y="5445000"/>
            <a:ext cx="3456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Muziek:</a:t>
            </a:r>
            <a:endParaRPr b="1" lang="en-US" sz="54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Rose d'Automne</a:t>
            </a:r>
            <a:endParaRPr b="1" lang="en-US" sz="54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p:transition spd="slow" advTm="8000">
    <p:split dir="in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osz-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8"/>
          <p:cNvGrpSpPr/>
          <p:nvPr/>
        </p:nvGrpSpPr>
        <p:grpSpPr>
          <a:xfrm>
            <a:off x="2050920" y="1052640"/>
            <a:ext cx="5041800" cy="1008000"/>
            <a:chOff x="2050920" y="1052640"/>
            <a:chExt cx="5041800" cy="1008000"/>
          </a:xfrm>
        </p:grpSpPr>
        <p:sp>
          <p:nvSpPr>
            <p:cNvPr id="167" name="Rectangle 7"/>
            <p:cNvSpPr/>
            <p:nvPr/>
          </p:nvSpPr>
          <p:spPr>
            <a:xfrm>
              <a:off x="2050920" y="1052640"/>
              <a:ext cx="5041800" cy="1008000"/>
            </a:xfrm>
            <a:prstGeom prst="rect">
              <a:avLst/>
            </a:prstGeom>
            <a:solidFill>
              <a:srgbClr val="ffffcc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WordArt 6"/>
            <p:cNvSpPr txBox="1"/>
            <p:nvPr/>
          </p:nvSpPr>
          <p:spPr>
            <a:xfrm>
              <a:off x="2495160" y="1197000"/>
              <a:ext cx="4158000" cy="6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0">
                    <a:noFill/>
                  </a:ln>
                  <a:solidFill>
                    <a:srgbClr val="00264c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empus Sans ITC"/>
                </a:rPr>
                <a:t>Nog ‘n mooie herfst.</a:t>
              </a:r>
              <a:endParaRPr b="1" lang="en-US" sz="5400" spc="1" strike="noStrike">
                <a:ln w="0">
                  <a:noFill/>
                </a:ln>
                <a:solidFill>
                  <a:srgbClr val="00264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  <a:ea typeface="Tempus Sans ITC"/>
              </a:endParaRPr>
            </a:p>
          </p:txBody>
        </p:sp>
      </p:grpSp>
      <p:sp>
        <p:nvSpPr>
          <p:cNvPr id="169" name="Rectangle 5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6"/>
          <p:cNvGrpSpPr/>
          <p:nvPr/>
        </p:nvGrpSpPr>
        <p:grpSpPr>
          <a:xfrm>
            <a:off x="2411280" y="5877000"/>
            <a:ext cx="4321080" cy="503280"/>
            <a:chOff x="2411280" y="5877000"/>
            <a:chExt cx="4321080" cy="503280"/>
          </a:xfrm>
        </p:grpSpPr>
        <p:sp>
          <p:nvSpPr>
            <p:cNvPr id="171" name="Rectangle 13"/>
            <p:cNvSpPr/>
            <p:nvPr/>
          </p:nvSpPr>
          <p:spPr>
            <a:xfrm>
              <a:off x="2411280" y="5877000"/>
              <a:ext cx="4321080" cy="503280"/>
            </a:xfrm>
            <a:prstGeom prst="rect">
              <a:avLst/>
            </a:prstGeom>
            <a:solidFill>
              <a:srgbClr val="ffffcc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WordArt 14"/>
            <p:cNvSpPr txBox="1"/>
            <p:nvPr/>
          </p:nvSpPr>
          <p:spPr>
            <a:xfrm>
              <a:off x="2709720" y="5949000"/>
              <a:ext cx="3858840" cy="32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00172e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empus Sans ITC"/>
                </a:rPr>
                <a:t>Einde.</a:t>
              </a:r>
              <a:endParaRPr b="1" lang="en-US" sz="2800" spc="1" strike="noStrike">
                <a:ln w="0">
                  <a:noFill/>
                </a:ln>
                <a:solidFill>
                  <a:srgbClr val="00172e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  <a:ea typeface="Tempus Sans ITC"/>
              </a:endParaRPr>
            </a:p>
          </p:txBody>
        </p:sp>
      </p:grpSp>
    </p:spTree>
  </p:cSld>
  <p:transition spd="slow" advTm="16000">
    <p:split dir="in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ampshire-Angl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468360" y="5950080"/>
            <a:ext cx="33717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Hampshire, Engeland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norvegia-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 txBox="1"/>
          <p:nvPr/>
        </p:nvSpPr>
        <p:spPr>
          <a:xfrm>
            <a:off x="6084720" y="5805360"/>
            <a:ext cx="22323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Noorwegen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Hollan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3708360" y="5877000"/>
            <a:ext cx="18003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Nederland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Mauri-folyó-Francia_Pireneus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8" name="WordArt 6"/>
          <p:cNvSpPr txBox="1"/>
          <p:nvPr/>
        </p:nvSpPr>
        <p:spPr>
          <a:xfrm>
            <a:off x="5292720" y="5805360"/>
            <a:ext cx="30956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Pyreneen, Frankrijk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Selva_Di_Cadore_temploma-Colle_Santa_Lucia-Olaszorszá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4500720" y="5877000"/>
            <a:ext cx="40320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Noord Italie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Bietschhorn-Valais-Svájc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468360" y="5950080"/>
            <a:ext cx="2879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Valais, Zwitserland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p:transition spd="slow" advTm="7000">
    <p:split dir="in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usztriai_tájkép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3" name="WordArt 5"/>
          <p:cNvSpPr txBox="1"/>
          <p:nvPr/>
        </p:nvSpPr>
        <p:spPr>
          <a:xfrm>
            <a:off x="611280" y="5877000"/>
            <a:ext cx="23763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Oostenrijk</a:t>
            </a:r>
            <a:endParaRPr b="1" lang="en-US" sz="2800" spc="1" strike="noStrike">
              <a:ln w="0">
                <a:noFill/>
              </a:ln>
              <a:solidFill>
                <a:srgbClr val="ffff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5:39:13Z</dcterms:created>
  <dc:creator/>
  <dc:description/>
  <dc:language>en-US</dc:language>
  <cp:lastModifiedBy>eigenaar</cp:lastModifiedBy>
  <dcterms:modified xsi:type="dcterms:W3CDTF">2010-09-19T06:47:01Z</dcterms:modified>
  <cp:revision>51</cp:revision>
  <dc:subject/>
  <dc:title/>
</cp:coreProperties>
</file>