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sound%20jejej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C959-EB8E-4C8A-92EA-E09A5A5BC829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E94E-6D8B-4AE2-941F-171A086B7BF3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EDBE-351E-42EB-9381-E3304193922D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D95B-0366-4716-86ED-199021B7790F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F058-70E3-4063-AB49-53A87B20C801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E89-67AA-4390-B803-A9F4FCFC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818-D3AB-4799-BA36-69551122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C83-306F-4FEF-BFE8-4E3CF7C0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637-485B-40A8-9772-164ED416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B67-91D8-4FE6-8D3C-9742D4E9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351-311B-4750-B807-181FE70F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15B-A16D-4D5B-9600-6F5949AC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635-73FD-47A5-971A-8EE6D11D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E4D-8800-475B-9F47-F2B53194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248-2B7B-47BE-B83A-C558BFB9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A06-0794-48CB-A929-95964653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046-FB27-4E4C-AADF-4F1D3A48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F8CA-75D6-4E14-BD55-C9C5D48A24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ound%20jejej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agen1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24720" y="1773360"/>
            <a:ext cx="26175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ne day, a ba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himp as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is momm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ommy, wh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re we 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unny look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majom-004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292720" y="2852640"/>
            <a:ext cx="6867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he mother smiled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d told him; You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ught to thank Go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hat  we are the 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we are, you shou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ee the pers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ading this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63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 rot="21300000">
            <a:off x="1792080" y="1120680"/>
            <a:ext cx="4984560" cy="382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1674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aughter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1674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1674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s good tonic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1674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1674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or our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1674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520402"/>
                    </a:gs>
                  </a:gsLst>
                  <a:lin ang="1674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ental Health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520402"/>
                  </a:gs>
                </a:gsLst>
                <a:lin ang="1674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29:52Z</dcterms:created>
  <dc:creator/>
  <dc:description/>
  <dc:language>en-US</dc:language>
  <cp:lastModifiedBy>Dan Skoda</cp:lastModifiedBy>
  <dcterms:modified xsi:type="dcterms:W3CDTF">2009-12-11T02:12:51Z</dcterms:modified>
  <cp:revision>15</cp:revision>
  <dc:subject/>
  <dc:title>JAJAJAJA</dc:title>
</cp:coreProperties>
</file>