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sound%20jejej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6C83-C296-48B9-9C44-B0B007F86AF0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26BE-0B45-454D-A092-0690E1836ECF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C74B-E5F1-43C5-A375-F46A8D4944FB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6E41-68DA-4636-8136-8F0CDBF1F356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C4D9-C4DA-45D3-9C4A-F4DB4D827375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2471-BEC4-48D8-817E-7C7FCA12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5F1C-C6A8-48CF-8FD6-47429A28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7E6-2F3E-49B2-B8A6-54748C56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E17-0224-4701-BD89-39142728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DB8-0B17-46DC-B136-4075AA73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BDC-34C2-4A48-A833-5CCA3543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9DB-DF4E-482D-991C-325D7CFE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51E6-8C32-4A7F-B762-E4CC680B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3DDB-6E99-4CE6-B752-93CF67C3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0CE-525A-4573-AE11-9E475EA0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D49-AE54-4959-AFD1-0D77FB51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78A-FF63-4CE4-839F-2EED6C3C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C8A6-BB17-453C-9500-A82534BDD13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sound%20jejej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magen1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24720" y="1773360"/>
            <a:ext cx="26175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ne day, a ba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himp as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is momm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ommy, wh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re we 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unny look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majom-004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5292720" y="2852640"/>
            <a:ext cx="68673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he mother smiled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nd told him; You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ught to thank Go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hat  we are the 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we are, you shou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ee the pers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ading this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163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5"/>
          <p:cNvSpPr txBox="1"/>
          <p:nvPr/>
        </p:nvSpPr>
        <p:spPr>
          <a:xfrm rot="21300000">
            <a:off x="1792080" y="1120680"/>
            <a:ext cx="4984560" cy="382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1674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aughter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1674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1674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s good tonic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1674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1674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For our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1674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1674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ental Health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1674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29:52Z</dcterms:created>
  <dc:creator/>
  <dc:description/>
  <dc:language>en-US</dc:language>
  <cp:lastModifiedBy>Dan Skoda</cp:lastModifiedBy>
  <dcterms:modified xsi:type="dcterms:W3CDTF">2009-12-11T02:12:51Z</dcterms:modified>
  <cp:revision>15</cp:revision>
  <dc:subject/>
  <dc:title>JAJAJAJA</dc:title>
</cp:coreProperties>
</file>